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59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0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20C22-4B79-4563-B357-B375EAC1E016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763560"/>
            <a:ext cx="50292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3D6-B160-47CB-BC47-C8D57B67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040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12720" y="5344560"/>
            <a:ext cx="815040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98A-BDB4-4341-B216-ED811372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72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908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C94-8F43-491A-9A07-B3E2A6B3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8520" y="160020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23960" y="160020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12720" y="534456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8520" y="534456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23960" y="534456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2AD-E07A-4779-B677-E732CC10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06A8-8A08-414D-A0FB-1CD44444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0400" cy="71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6765-33D8-42BF-A628-BAD74C5A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040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1882-C92A-426A-A288-4940B949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DF06-0E50-4DAE-A4FB-1A4C8F2F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34B8-5D2A-4461-9621-F8D80BE1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12720" y="-324000"/>
            <a:ext cx="8150400" cy="96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FB67-474A-4AB2-9CB2-CE19E276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272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4641-CE1B-4235-B9A0-EC31D70D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0400" cy="71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C1C-1BAC-459C-9B33-913FADB4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908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C0AC-8240-406C-974F-C80FF98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5344560"/>
            <a:ext cx="815040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66E0-16A9-4D77-BB29-87E2554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040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12720" y="5344560"/>
            <a:ext cx="815040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F778-3E17-41A9-B2FF-4ACEC7F7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72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908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BF7F-7E68-46BB-A8F6-84222E87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8520" y="160020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3960" y="160020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12720" y="534456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8520" y="534456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3960" y="534456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F65A-31C6-4471-BC64-600F6684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FCF08-B86E-4F3F-831F-1D519E0F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0400" cy="71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7D830-9B17-4615-9570-AF59FE0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040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61C05-F2F5-458C-8114-9C0D205D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5E3F6-30F9-492D-BB69-B141E3FC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A05F9-E39E-4E88-A35D-5DA23A62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040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7E7-F239-4795-AEB9-08DB4C9B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12720" y="-324000"/>
            <a:ext cx="8150400" cy="96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D1498-877D-4300-8B0C-75D3FBD5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9D2BE-03AD-4E2F-AEDE-86CD525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8908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AF167-FAA3-4A7A-BB5A-A1560ED4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5344560"/>
            <a:ext cx="815040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ACDBD-F808-47C3-B445-DA710CD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040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12720" y="5344560"/>
            <a:ext cx="815040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E1B2A-8A3B-4404-82D3-223E9410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272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8908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F362C-33C5-45CF-B4D8-781EA74C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68520" y="160020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23960" y="160020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12720" y="534456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68520" y="534456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23960" y="5344560"/>
            <a:ext cx="262404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323B3-D538-4192-86D8-A6122E55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055-5D42-40F2-AFAE-A61A9356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DDA-B7EE-4B81-84DA-33B9E805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12720" y="-324000"/>
            <a:ext cx="8150400" cy="96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061-F4A2-468A-9F9F-E58DE63F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272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778-2EC5-4338-B3E5-B805C759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9080" y="534456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B83-6A49-4C16-A53B-04ED7868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9080" y="1600200"/>
            <a:ext cx="397728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5344560"/>
            <a:ext cx="8150400" cy="3419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4C0-55B3-40C2-931C-A413AB5D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905280"/>
            <a:ext cx="647388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362320" y="6049800"/>
            <a:ext cx="6705360" cy="52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+mn-lt"/>
                <a:ea typeface="+mn-ea"/>
              </a:rPr>
              <a:t>Click to edit Master subtitle sty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76320" y="6068880"/>
            <a:ext cx="2054160" cy="912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r-TR" sz="2600" spc="-1" strike="noStrike">
                <a:solidFill>
                  <a:srgbClr val="ffffff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+mn-lt"/>
                <a:ea typeface="+mn-ea"/>
              </a:rPr>
              <a:t>&lt;date/time&gt;</a:t>
            </a:r>
            <a:r>
              <a:rPr b="0" lang="tr-TR" sz="2600" spc="-1" strike="noStrike">
                <a:solidFill>
                  <a:srgbClr val="ffffff"/>
                </a:solidFill>
                <a:latin typeface="+mn-lt"/>
                <a:ea typeface="+mn-ea"/>
              </a:rPr>
              <a:t>18.10.0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085840" y="236160"/>
            <a:ext cx="5864400" cy="52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r-TR" sz="2600" spc="-1" strike="noStrike">
                <a:solidFill>
                  <a:srgbClr val="775f55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775f55"/>
                </a:solidFill>
                <a:latin typeface="+mn-lt"/>
                <a:ea typeface="+mn-ea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001000" y="228240"/>
            <a:ext cx="835200" cy="46609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r-TR" sz="2600" spc="-1" strike="noStrike">
                <a:solidFill>
                  <a:srgbClr val="775f55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4060D-82F9-475E-B4FF-A3D1BCDC48A3}" type="slidenum">
              <a:rPr b="0" lang="tr-TR" sz="2600" spc="-1" strike="noStrike">
                <a:solidFill>
                  <a:srgbClr val="775f55"/>
                </a:solidFill>
                <a:latin typeface="+mn-lt"/>
                <a:ea typeface="+mn-ea"/>
              </a:rPr>
              <a:t>&lt;number&gt;</a:t>
            </a:fld>
            <a:fld id="{642F1A18-825F-4FB9-ACDD-CAFC705DEE67}" type="slidenum">
              <a:rPr b="0" lang="tr-TR" sz="2600" spc="-1" strike="noStrike">
                <a:solidFill>
                  <a:srgbClr val="775f55"/>
                </a:solidFill>
                <a:latin typeface="+mn-lt"/>
                <a:ea typeface="+mn-ea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2720" y="-324000"/>
            <a:ext cx="815040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095880" y="6248160"/>
            <a:ext cx="2664000" cy="361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r-TR" sz="14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+mn-lt"/>
                <a:ea typeface="+mn-ea"/>
              </a:rPr>
              <a:t>&lt;date/time&gt;</a:t>
            </a:r>
            <a:r>
              <a:rPr b="0" lang="tr-TR" sz="1400" spc="-1" strike="noStrike">
                <a:solidFill>
                  <a:srgbClr val="000000"/>
                </a:solidFill>
                <a:latin typeface="+mn-lt"/>
                <a:ea typeface="+mn-ea"/>
              </a:rPr>
              <a:t>18.1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609120" y="6248160"/>
            <a:ext cx="5418360" cy="361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r-TR" sz="14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+mn-lt"/>
                <a:ea typeface="+mn-e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-360" y="1271160"/>
            <a:ext cx="530280" cy="46609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400" spc="-1" strike="noStrike">
                <a:solidFill>
                  <a:srgbClr val="ffffff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2615E-FB67-494A-8AFE-1E892C876E6E}" type="slidenum">
              <a:rPr b="0" lang="tr-TR" sz="1400" spc="-1" strike="noStrike">
                <a:solidFill>
                  <a:srgbClr val="ffffff"/>
                </a:solidFill>
                <a:latin typeface="+mn-lt"/>
                <a:ea typeface="+mn-ea"/>
              </a:rPr>
              <a:t>&lt;number&gt;</a:t>
            </a:fld>
            <a:fld id="{F5786598-0DAF-4698-BBC3-AB8EFF9EDDBF}" type="slidenum">
              <a:rPr b="0" lang="tr-TR" sz="1400" spc="-1" strike="noStrike">
                <a:solidFill>
                  <a:srgbClr val="ffffff"/>
                </a:solidFill>
                <a:latin typeface="+mn-lt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0400" cy="7169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371600" y="2742840"/>
            <a:ext cx="7120080" cy="5133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71600" y="1047600"/>
            <a:ext cx="7616880" cy="2090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4000" cy="361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r-TR" sz="14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+mn-lt"/>
                <a:ea typeface="+mn-ea"/>
              </a:rPr>
              <a:t>&lt;date/time&gt;</a:t>
            </a:r>
            <a:r>
              <a:rPr b="0" lang="tr-TR" sz="1400" spc="-1" strike="noStrike">
                <a:solidFill>
                  <a:srgbClr val="000000"/>
                </a:solidFill>
                <a:latin typeface="+mn-lt"/>
                <a:ea typeface="+mn-ea"/>
              </a:rPr>
              <a:t>18.1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8"/>
          </p:nvPr>
        </p:nvSpPr>
        <p:spPr>
          <a:xfrm>
            <a:off x="0" y="1752480"/>
            <a:ext cx="1292400" cy="852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tr-TR" sz="2400" spc="-1" strike="noStrike">
                <a:solidFill>
                  <a:srgbClr val="ffffff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6457E43-B7CA-4975-BC56-36A6C5B72217}" type="slidenum">
              <a:rPr b="0" lang="tr-TR" sz="2400" spc="-1" strike="noStrike">
                <a:solidFill>
                  <a:srgbClr val="ffffff"/>
                </a:solidFill>
                <a:latin typeface="+mn-lt"/>
                <a:ea typeface="+mn-ea"/>
              </a:rPr>
              <a:t>&lt;number&gt;</a:t>
            </a:fld>
            <a:fld id="{AF1065F2-72BB-4124-A30A-2D021686C236}" type="slidenum">
              <a:rPr b="0" lang="tr-TR" sz="2400" spc="-1" strike="noStrike">
                <a:solidFill>
                  <a:srgbClr val="ffffff"/>
                </a:solidFill>
                <a:latin typeface="+mn-lt"/>
                <a:ea typeface="+mn-e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9"/>
          </p:nvPr>
        </p:nvSpPr>
        <p:spPr>
          <a:xfrm>
            <a:off x="609120" y="6248160"/>
            <a:ext cx="5418360" cy="493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tr-TR" sz="2400" spc="-1" strike="noStrike">
                <a:solidFill>
                  <a:srgbClr val="ffffff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+mn-lt"/>
                <a:ea typeface="+mn-ea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ebguvenligi.org/sqlibench/web/index.php" TargetMode="External"/><Relationship Id="rId2" Type="http://schemas.openxmlformats.org/officeDocument/2006/relationships/hyperlink" Target="http://code.google.com/p/sqlibench/" TargetMode="External"/><Relationship Id="rId3" Type="http://schemas.openxmlformats.org/officeDocument/2006/relationships/hyperlink" Target="http://www.owasp.org/index.php/Category:OWASP_Sqlibench_Project" TargetMode="External"/><Relationship Id="rId4" Type="http://schemas.openxmlformats.org/officeDocument/2006/relationships/hyperlink" Target="http://www.webguvenligi.org/sqlibench/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İçindeki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600200"/>
            <a:ext cx="877428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293840" indent="-216000">
              <a:lnSpc>
                <a:spcPct val="98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Ama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Kullanılan Araç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Web Uygulaması ve Matris Resiml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İkili A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Arama &amp; Veri Çekme Algoritma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İkili Arama &amp; Bi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Hata Tabanl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Derin Kö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İkli Arama &amp; Bi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Yapılabilecek Optimizasyo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94b6d2"/>
              </a:buClr>
              <a:buSzPct val="45000"/>
              <a:buFont typeface="Symbol" charset="2"/>
              <a:buChar char="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+mn-lt"/>
                <a:ea typeface="+mn-ea"/>
              </a:rPr>
              <a:t>Linkler &amp; Biti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51200" y="331956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+mj-lt"/>
                <a:ea typeface="+mj-ea"/>
              </a:rPr>
              <a:t>İkili Arama &amp; Bisection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200" y="1620720"/>
            <a:ext cx="897732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861840" indent="-285480">
              <a:lnSpc>
                <a:spcPct val="98000"/>
              </a:lnSpc>
              <a:spcBef>
                <a:spcPts val="7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Karakter setimiz belli 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Okunabilir karakter seti ASCII 32-126 arasında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Bu durumda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f(n) = </a:t>
            </a:r>
            <a:r>
              <a:rPr b="0" lang="tr-TR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(log n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f(126-32) = </a:t>
            </a:r>
            <a:r>
              <a:rPr b="0" lang="tr-TR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(log 126-32)</a:t>
            </a: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~</a:t>
            </a:r>
            <a:r>
              <a:rPr b="1" lang="tr-TR" sz="2800" spc="-1" strike="noStrike">
                <a:solidFill>
                  <a:srgbClr val="000000"/>
                </a:solidFill>
                <a:latin typeface="+mn-lt"/>
                <a:ea typeface="+mn-ea"/>
              </a:rPr>
              <a:t>7</a:t>
            </a: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 karşılaştırmada tüm karakterlere erişile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000" spc="-1" strike="noStrike">
                <a:solidFill>
                  <a:srgbClr val="775f55"/>
                </a:solidFill>
                <a:latin typeface="+mj-lt"/>
                <a:ea typeface="+mj-ea"/>
              </a:rPr>
              <a:t>Yapılabilecek Optimizasyon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600200"/>
            <a:ext cx="897732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861840" indent="-285480">
              <a:lnSpc>
                <a:spcPct val="98000"/>
              </a:lnSpc>
              <a:spcBef>
                <a:spcPts val="7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Karakter Kümes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Normal karakter kümesi boyutu ASCII 126 'dan 32'ye kadar : 94 karak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uppercase,lowercase gibi dbms fonksiyonları ile karakter kümesi dörtte birine indirilebil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ASCII 65-90 (A-Z)</a:t>
            </a: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775f55"/>
                </a:solidFill>
                <a:latin typeface="+mj-lt"/>
                <a:ea typeface="+mj-ea"/>
              </a:rPr>
              <a:t>Yapılabilecek Optimizasyonlar -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4040" y="1628640"/>
            <a:ext cx="5549760" cy="248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" y="4227480"/>
            <a:ext cx="4332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725480" indent="-214200">
              <a:lnSpc>
                <a:spcPct val="98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725480"/>
                <a:tab algn="l" pos="2182680"/>
                <a:tab algn="l" pos="2639880"/>
                <a:tab algn="l" pos="3097080"/>
                <a:tab algn="l" pos="3554280"/>
                <a:tab algn="l" pos="4011480"/>
                <a:tab algn="l" pos="4468680"/>
                <a:tab algn="l" pos="4925880"/>
                <a:tab algn="l" pos="5383080"/>
                <a:tab algn="l" pos="5840280"/>
                <a:tab algn="l" pos="6297480"/>
                <a:tab algn="l" pos="6754680"/>
                <a:tab algn="l" pos="7211880"/>
                <a:tab algn="l" pos="7669080"/>
                <a:tab algn="l" pos="8126280"/>
                <a:tab algn="l" pos="8583480"/>
                <a:tab algn="l" pos="9040680"/>
                <a:tab algn="l" pos="9497880"/>
                <a:tab algn="l" pos="9955080"/>
                <a:tab algn="l" pos="10412280"/>
                <a:tab algn="l" pos="1086948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+mn-lt"/>
                <a:ea typeface="+mn-ea"/>
              </a:rPr>
              <a:t>ASCII 32-6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411480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725480" indent="-214200">
              <a:lnSpc>
                <a:spcPct val="98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725480"/>
                <a:tab algn="l" pos="2182680"/>
                <a:tab algn="l" pos="2639880"/>
                <a:tab algn="l" pos="3097080"/>
                <a:tab algn="l" pos="3554280"/>
                <a:tab algn="l" pos="4011480"/>
                <a:tab algn="l" pos="4468680"/>
                <a:tab algn="l" pos="4925880"/>
                <a:tab algn="l" pos="5383080"/>
                <a:tab algn="l" pos="5840280"/>
                <a:tab algn="l" pos="6297480"/>
                <a:tab algn="l" pos="6754680"/>
                <a:tab algn="l" pos="7211880"/>
                <a:tab algn="l" pos="7669080"/>
                <a:tab algn="l" pos="8126280"/>
                <a:tab algn="l" pos="8583480"/>
                <a:tab algn="l" pos="9040680"/>
                <a:tab algn="l" pos="9497880"/>
                <a:tab algn="l" pos="9955080"/>
                <a:tab algn="l" pos="10412280"/>
                <a:tab algn="l" pos="1086948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+mn-lt"/>
                <a:ea typeface="+mn-ea"/>
              </a:rPr>
              <a:t>ASCII  97-122</a:t>
            </a:r>
            <a:br>
              <a:rPr sz="2200"/>
            </a:br>
            <a:r>
              <a:rPr b="0" lang="tr-TR" sz="2200" spc="-1" strike="noStrike">
                <a:solidFill>
                  <a:srgbClr val="000000"/>
                </a:solidFill>
                <a:latin typeface="+mn-lt"/>
                <a:ea typeface="+mn-ea"/>
              </a:rPr>
              <a:t>küçük harf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775f55"/>
                </a:solidFill>
                <a:latin typeface="+mj-lt"/>
                <a:ea typeface="+mj-ea"/>
              </a:rPr>
              <a:t>Yapılabilecek Optimizasyonlar -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685800" y="1828800"/>
            <a:ext cx="89154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 marL="1725480" indent="-214200">
              <a:lnSpc>
                <a:spcPct val="98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725480"/>
                <a:tab algn="l" pos="2182680"/>
                <a:tab algn="l" pos="2639880"/>
                <a:tab algn="l" pos="3097080"/>
                <a:tab algn="l" pos="3554280"/>
                <a:tab algn="l" pos="4011480"/>
                <a:tab algn="l" pos="4468680"/>
                <a:tab algn="l" pos="4925880"/>
                <a:tab algn="l" pos="5383080"/>
                <a:tab algn="l" pos="5840280"/>
                <a:tab algn="l" pos="6297480"/>
                <a:tab algn="l" pos="6754680"/>
                <a:tab algn="l" pos="7211880"/>
                <a:tab algn="l" pos="7669080"/>
                <a:tab algn="l" pos="8126280"/>
                <a:tab algn="l" pos="8583480"/>
                <a:tab algn="l" pos="9040680"/>
                <a:tab algn="l" pos="9497880"/>
                <a:tab algn="l" pos="9955080"/>
                <a:tab algn="l" pos="10412280"/>
                <a:tab algn="l" pos="1086948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+mn-lt"/>
                <a:ea typeface="+mn-ea"/>
              </a:rPr>
              <a:t>Bu şekilde, bir karakteri bulabilmek için yapılacak karşılaştırma sayısı (maximum) 7'den 5 'e düş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725480"/>
                <a:tab algn="l" pos="2182680"/>
                <a:tab algn="l" pos="2639880"/>
                <a:tab algn="l" pos="3097080"/>
                <a:tab algn="l" pos="3554280"/>
                <a:tab algn="l" pos="4011480"/>
                <a:tab algn="l" pos="4468680"/>
                <a:tab algn="l" pos="4925880"/>
                <a:tab algn="l" pos="5383080"/>
                <a:tab algn="l" pos="5840280"/>
                <a:tab algn="l" pos="6297480"/>
                <a:tab algn="l" pos="6754680"/>
                <a:tab algn="l" pos="7211880"/>
                <a:tab algn="l" pos="7669080"/>
                <a:tab algn="l" pos="8126280"/>
                <a:tab algn="l" pos="8583480"/>
                <a:tab algn="l" pos="9040680"/>
                <a:tab algn="l" pos="9497880"/>
                <a:tab algn="l" pos="9955080"/>
                <a:tab algn="l" pos="10412280"/>
                <a:tab algn="l" pos="1086948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f(90-65) = </a:t>
            </a:r>
            <a:r>
              <a:rPr b="0" lang="tr-TR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(log 90-65) = ~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725480"/>
                <a:tab algn="l" pos="2182680"/>
                <a:tab algn="l" pos="2639880"/>
                <a:tab algn="l" pos="3097080"/>
                <a:tab algn="l" pos="3554280"/>
                <a:tab algn="l" pos="4011480"/>
                <a:tab algn="l" pos="4468680"/>
                <a:tab algn="l" pos="4925880"/>
                <a:tab algn="l" pos="5383080"/>
                <a:tab algn="l" pos="5840280"/>
                <a:tab algn="l" pos="6297480"/>
                <a:tab algn="l" pos="6754680"/>
                <a:tab algn="l" pos="7211880"/>
                <a:tab algn="l" pos="7669080"/>
                <a:tab algn="l" pos="8126280"/>
                <a:tab algn="l" pos="8583480"/>
                <a:tab algn="l" pos="9040680"/>
                <a:tab algn="l" pos="9497880"/>
                <a:tab algn="l" pos="9955080"/>
                <a:tab algn="l" pos="10412280"/>
                <a:tab algn="l" pos="1086948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Ama karakter bulunamazsa, diğer alt ağaçlardan birinde aranmaya devam edecek demektir. Bu da aramayı 10 karakter'e kadar çıkarabil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775f55"/>
                </a:solidFill>
                <a:latin typeface="+mj-lt"/>
                <a:ea typeface="+mj-ea"/>
              </a:rPr>
              <a:t>Linkler &amp; Biti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6680" y="1789200"/>
            <a:ext cx="897732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293840" indent="-216000">
              <a:lnSpc>
                <a:spcPct val="98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+mn-lt"/>
                <a:ea typeface="+mn-ea"/>
              </a:rPr>
              <a:t>İnteraktif Web Uygulaması : </a:t>
            </a:r>
            <a:br>
              <a:rPr sz="2000"/>
            </a:br>
            <a:r>
              <a:rPr b="0" lang="tr-TR" sz="2000" spc="-1" strike="noStrike" u="sng">
                <a:solidFill>
                  <a:srgbClr val="ccccff"/>
                </a:solidFill>
                <a:uFillTx/>
                <a:latin typeface="+mn-lt"/>
                <a:ea typeface="+mn-ea"/>
                <a:hlinkClick r:id="rId1"/>
              </a:rPr>
              <a:t>http://www.webguvenligi.org/sqlibench/web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+mn-lt"/>
                <a:ea typeface="+mn-ea"/>
              </a:rPr>
              <a:t>Google Code Proje Sayfası :</a:t>
            </a:r>
            <a:br>
              <a:rPr sz="2000"/>
            </a:br>
            <a:r>
              <a:rPr b="0" lang="tr-TR" sz="2000" spc="-1" strike="noStrike" u="sng">
                <a:solidFill>
                  <a:srgbClr val="ccccff"/>
                </a:solidFill>
                <a:uFillTx/>
                <a:latin typeface="+mn-lt"/>
                <a:ea typeface="+mn-ea"/>
                <a:hlinkClick r:id="rId2"/>
              </a:rPr>
              <a:t>http://code.google.com/p/sqlibench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+mn-lt"/>
                <a:ea typeface="+mn-ea"/>
              </a:rPr>
              <a:t>OWASP Proje Sayfası</a:t>
            </a:r>
            <a:br>
              <a:rPr sz="2000"/>
            </a:br>
            <a:r>
              <a:rPr b="0" lang="tr-TR" sz="2000" spc="-1" strike="noStrike" u="sng">
                <a:solidFill>
                  <a:srgbClr val="ccccff"/>
                </a:solidFill>
                <a:uFillTx/>
                <a:latin typeface="+mn-lt"/>
                <a:ea typeface="+mn-ea"/>
                <a:hlinkClick r:id="rId3"/>
              </a:rPr>
              <a:t>http://www.owasp.org/index.php/Category:OWASP_Sqlibench_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+mn-lt"/>
                <a:ea typeface="+mn-ea"/>
              </a:rPr>
              <a:t>Otomatize SQL Enjektörleri Analizi v1.0</a:t>
            </a:r>
            <a:br>
              <a:rPr sz="2000"/>
            </a:br>
            <a:r>
              <a:rPr b="0" lang="tr-TR" sz="2000" spc="-1" strike="noStrike" u="sng">
                <a:solidFill>
                  <a:srgbClr val="ccccff"/>
                </a:solidFill>
                <a:uFillTx/>
                <a:latin typeface="+mn-lt"/>
                <a:ea typeface="+mn-ea"/>
                <a:hlinkClick r:id="rId4"/>
              </a:rPr>
              <a:t>http://www.webguvenligi.org/sqlibench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82080"/>
            <a:ext cx="815328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+mj-lt"/>
                <a:ea typeface="+mj-ea"/>
              </a:rPr>
              <a:t>SQLi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2720" y="1600200"/>
            <a:ext cx="8153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17520" indent="-317520">
              <a:lnSpc>
                <a:spcPct val="98000"/>
              </a:lnSpc>
              <a:spcBef>
                <a:spcPts val="700"/>
              </a:spcBef>
              <a:spcAft>
                <a:spcPts val="1426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Amaç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SQL Enjeksiyonu zafiyetlerini otomatik olarak exploit eden uygulamaların karşılaştırm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SQL Enjeksiyonu tekniklerini standartlaştırm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Kullanılan algoritmaları incelem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SQL Injection, bitmedi mi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8080" y="2147760"/>
            <a:ext cx="877392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+mj-lt"/>
                <a:ea typeface="+mj-ea"/>
              </a:rPr>
              <a:t>SQL Injection hala, çok görülen ve en kritik web uygulaması zafiye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+mj-lt"/>
                <a:ea typeface="+mj-ea"/>
              </a:rPr>
              <a:t>SQLi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8080" y="2147760"/>
            <a:ext cx="87739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861840" indent="-285480">
              <a:lnSpc>
                <a:spcPct val="98000"/>
              </a:lnSpc>
              <a:spcBef>
                <a:spcPts val="7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Kullanılan Araçl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BSQL Hacker, Ferruh Mavitu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Absinthe, Numm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sqlmap, Bernardo Damele ve Daniele Belluc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sqlix, Cedric COCH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Sqlget, Francisco Am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Pangolin, Z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+mj-lt"/>
                <a:ea typeface="+mj-ea"/>
              </a:rPr>
              <a:t>Interactive Web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5400" y="1600200"/>
            <a:ext cx="8820000" cy="5029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+mj-lt"/>
                <a:ea typeface="+mj-ea"/>
              </a:rPr>
              <a:t>Arama &amp; Veri Çekme Algoritmalar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1120" y="1459080"/>
            <a:ext cx="877428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861840" indent="-285480">
              <a:lnSpc>
                <a:spcPct val="98000"/>
              </a:lnSpc>
              <a:spcBef>
                <a:spcPts val="550"/>
              </a:spcBef>
              <a:spcAft>
                <a:spcPts val="1426"/>
              </a:spcAft>
              <a:buClr>
                <a:srgbClr val="94b6d2"/>
              </a:buClr>
              <a:buSzPct val="70000"/>
              <a:buFont typeface="StarSymbol"/>
              <a:buChar char="⇦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İkili Arama &amp; Bise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94b6d2"/>
              </a:buClr>
              <a:buSzPct val="70000"/>
              <a:buFont typeface="StarSymbol"/>
              <a:buChar char="⇦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Un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sqlmap,sqlg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94b6d2"/>
              </a:buClr>
              <a:buSzPct val="70000"/>
              <a:buFont typeface="StarSymbol"/>
              <a:buChar char="⇦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Hata Tabanl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pangolin,BSQL Hack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1 istekte, istenilen bilgi çekilebili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94b6d2"/>
              </a:buClr>
              <a:buSzPct val="70000"/>
              <a:buFont typeface="StarSymbol"/>
              <a:buChar char="⇦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Derin Kö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BSQL Hack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Karakter başına 2 istek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+mj-lt"/>
                <a:ea typeface="+mj-ea"/>
              </a:rPr>
              <a:t>İkili A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600200"/>
            <a:ext cx="877428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861840" indent="-285480">
              <a:lnSpc>
                <a:spcPct val="98000"/>
              </a:lnSpc>
              <a:spcBef>
                <a:spcPts val="7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Giriş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Bilgisayar bilimleri literatüründeki klasik ikili arama algoritması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Elimizdeki sayıların sıralı olması dışında bilgimiz yoksa, algoritma optimald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spcBef>
                <a:spcPts val="7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+mn-lt"/>
                <a:ea typeface="+mn-ea"/>
              </a:rPr>
              <a:t>Zaman Karmaşıklığ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f(n) = </a:t>
            </a:r>
            <a:r>
              <a:rPr b="0" lang="tr-TR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(log n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  <a:tab algn="l" pos="105156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+mn-lt"/>
                <a:ea typeface="+mn-ea"/>
              </a:rPr>
              <a:t>n : arama yapılacak kümenin eleman sayıs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2720" y="-277920"/>
            <a:ext cx="815328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+mj-lt"/>
                <a:ea typeface="+mj-ea"/>
              </a:rPr>
              <a:t>İkili Arama Pratiğ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04960" y="2048040"/>
            <a:ext cx="4238640" cy="3666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637320" y="44280"/>
            <a:ext cx="227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.Urgun ve M.Timur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