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076C-7C3E-488A-AA33-7CDCDDC55414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http://ha.ckers.org/weird/cjdivtest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F’de 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istenilen şekilde çalışmayan bu uygulamayı, FF ve IE’de açıp mouse’u 1+1= noktasına getirip iki bölümün üst üste geldiği rahatlıkla görülebilir. Aynı şey aynı FF’de farklı tablarda Firebug eklentisinde Flash object element’inin css attribute’leri i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oynanarak görülebil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AC86-9222-4E91-91BC-DA325697226F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04FF-49E1-4A17-9E91-D87B18316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459F-C936-4D19-B134-74BEDAED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5BC9-8754-4C77-85D4-F8B4376F3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A2A7-A52B-42A0-B5E0-CC5294AEC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B795-8CA0-4C53-91F7-8C25C4EFE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F71D-30D8-4CF5-8ECA-F489F8F2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137C-5243-464F-8805-1C58014B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2019-9629-45FF-8E45-DBD9A0D1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8199-8614-4F1C-B535-87C77802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3C56-4707-4D45-BB2A-E416438E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FF55-581B-4040-8D5D-6ED79EA6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8141-D2B3-4D23-8008-CE0FF614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2F59-79D5-4026-BE9D-F98B3151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2EFE-728A-4243-AE03-3B610BB2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4ACD-73A4-4F3B-BFA4-15AF801E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B7FD-300E-41BC-BCEF-752BB87C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C1A4-0BA7-4A1D-8ED0-F308B263F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3ED042-D7B4-4E28-85EE-30D70401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2053F2-B1BE-4EA0-B0DD-6C7D6F92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4D3F80-CD48-49FD-BB02-E011C92F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448E27-A185-41CE-9121-9DD36F37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0CE0AF-A862-4C00-BF4A-14AACAC3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E087-985A-4370-881C-FE64D7C8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C76FA4-93E3-4004-9E13-F0651FDE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B58D4C-7783-48F7-8F57-06EA64A7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323AFA-E0D0-4AE6-8A61-854AE582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8B50F9-9B7A-4DD3-BBBC-CC1C6E66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2373F5-F3E7-46F5-AC13-07EC777C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DCAA3A-FDAD-43EF-8411-552732B8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90A5E6-3CDA-47F0-B0FD-742B3E20C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0BA3A9-6220-4797-98F8-ED48EDD20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17A7CD-3306-4202-9952-2BA8C4D1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76F703-B159-4C3C-8709-E0FBBF8C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0C12-E8A9-461F-A771-743924BC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09B93E-3B08-4FEA-8A92-309A784E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9512B2-24F1-4B60-BCE1-D71C9EB8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A3C39B-BE7D-40CB-957F-9A9E5BB9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B8FD55-0379-44F4-8663-3DCC2524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C49A41-773B-4B35-AAFF-E7FE771F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45154D-5F21-4A2D-BE43-2DDCFB86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344159-0C5E-4CF3-8CF7-90B5A02A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1F7764-9A23-4242-AA7C-1D9D5A18A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95481A-EF2D-40AD-9B54-CF2D19A8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6AF98A-A78C-4CFE-A7FC-1C6957F0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413B-C64B-4322-941E-4EE56EA6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7F572D-85EB-4A2C-B3A0-4C5E0AFE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5D2398-8C10-4EBE-9F15-66A36BBF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EC6E77-1331-4FE5-8914-4056471B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3E4F5C-4809-4038-BBCD-DC5D476E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810530-A207-45FD-9BFC-AB7657EE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B6D46A-F80F-4E1F-BC4F-D8AF7A7A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9AA105-4B70-4903-ACCB-9770686A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2A4888-E8E5-417C-BEAC-42C49005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124DC8-EDBA-4191-A22A-7CE4D09B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56F639-0A12-4632-9FD1-756911913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3595-2179-49D9-9039-24C7647B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0968FA-DF22-419C-A1FE-8B45DA509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E575E-AAF5-427F-8592-B3670EBD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B64D5-2902-4018-9B22-8F28A11C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DE0EC-9942-458B-93A2-49EEA95D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13B2B-9B8D-4A60-8C79-45273710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D8038-1AAB-4E21-AA4A-1BAE30EE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34F26-44BC-4069-B0CB-A2631E26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DA4AD-175A-48AE-B6EC-F367BF2B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5465B-3A29-49F8-976B-904AE2B7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BB89B-4073-4443-B6B4-F3F0A87D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ED87-43A3-4220-B31D-943025B8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1FD9F-1E24-4A11-A2EC-65457243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593D2-AB9B-4F28-93A9-FBBDE727C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8050D-6DF1-44B4-956A-FA9720C48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B5009B-EB92-4FA5-AD09-A3B2E9BA8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727095-CB75-4FD1-ADB8-57ABE7EE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88A338-C20C-45B1-843A-A0BF097F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B6DB4E-B556-473C-96F4-7FA2CFF9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76FDC0-70F0-48B0-A979-F460627F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4D968D-8CCA-4A81-AE72-AA7E217A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8DB5EE-6687-47DC-82D7-64A63633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4A11-6B93-4D2C-A847-CC88F060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DEDBC7-93CE-404A-B7C8-DE7DDDB6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DF508D-2DA7-4032-9350-FC7B88CF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D01F72-6384-472D-BA43-2819C51D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A0070E-593F-4CA4-B8BA-5B97224A9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7BA08D-2B1C-46F7-A905-23AEEC9F8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B0D02-4F66-4524-AFF3-2FA16828A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D46C1-F3EF-428F-98DF-94EFC103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77F86-C6E4-4D94-AD70-985EE3A5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9AECA-3EEE-49A7-B758-388FE56C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B6809-A719-4207-879C-652E6E6C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F51D-F4FC-453A-A726-5CDBE019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D1B08-0D50-4708-9F3E-0BC272CD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E1679-F685-4FE2-8E0B-D77F47C3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E7AA2-A8C0-4F28-BF06-2E66B1AA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3C1F5-5F7D-47DD-89EB-DD33B0E6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A0882-2E12-422E-A7DB-0C4AB9AE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52617-1C54-4C4F-B22F-430FB7B3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8606E-8B46-4A34-BE1A-F3695339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3286-A984-431A-B389-CE076CC9AE85}" type="slidenum">
              <a:rPr b="1" lang="tr-T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F5EB-5E46-4C14-873C-E50F5F5E20B4}" type="slidenum">
              <a:rPr b="1" lang="tr-TR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C099-6436-41C9-98EC-1CF03E26EF7F}" type="slidenum">
              <a:rPr b="1" lang="tr-T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08ED-4B33-4038-9A83-035B1EEC0C76}" type="slidenum">
              <a:rPr b="1" lang="tr-T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761A-3F5A-430A-8109-0806A545A9AE}" type="slidenum">
              <a:rPr b="1" lang="tr-T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06DD-9EB5-4518-939C-28821C88B0F8}" type="slidenum">
              <a:rPr b="1" lang="tr-TR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B16B-B220-4C59-9023-9AD231297B1D}" type="slidenum">
              <a:rPr b="1" lang="tr-TR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C933-2DF9-447E-BB2A-2B0D09D029D4}" type="slidenum">
              <a:rPr b="1" lang="tr-T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00120" y="4038480"/>
            <a:ext cx="7338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ebddc3"/>
                </a:solidFill>
                <a:latin typeface="Tw Cen MT"/>
              </a:rPr>
              <a:t>OWASP-TR &amp; WGT </a:t>
            </a:r>
            <a:br>
              <a:rPr sz="4400"/>
            </a:br>
            <a:r>
              <a:rPr b="1" lang="tr-TR" sz="5400" spc="-1" strike="noStrike">
                <a:solidFill>
                  <a:srgbClr val="ebddc3"/>
                </a:solidFill>
                <a:latin typeface="Tw Cen MT"/>
              </a:rPr>
              <a:t>AJANDA</a:t>
            </a:r>
            <a:endParaRPr b="0" lang="en-US" sz="5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Tw Cen MT"/>
              </a:rPr>
              <a:t>18 EKİM 2008 Buluşması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775f55"/>
                </a:solidFill>
                <a:latin typeface="Tw Cen MT"/>
              </a:rPr>
              <a:t>Buluşmanın teknik konuların konuşulaca</a:t>
            </a:r>
            <a:r>
              <a:rPr b="0" lang="tr-TR" sz="2400" spc="-1" strike="noStrike">
                <a:solidFill>
                  <a:srgbClr val="775f55"/>
                </a:solidFill>
                <a:latin typeface="Tw Cen MT"/>
              </a:rPr>
              <a:t>ğ</a:t>
            </a:r>
            <a:r>
              <a:rPr b="0" lang="tr-TR" sz="2800" spc="-1" strike="noStrike">
                <a:solidFill>
                  <a:srgbClr val="775f55"/>
                </a:solidFill>
                <a:latin typeface="Tw Cen MT"/>
              </a:rPr>
              <a:t>ı ve ihtimal bir bölümü İstiklal Caddesinde bir kafede geçecek </a:t>
            </a:r>
            <a:r>
              <a:rPr b="0" lang="tr-TR" sz="2800" spc="-1" strike="noStrike">
                <a:solidFill>
                  <a:srgbClr val="775f55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Tw Cen MT"/>
              </a:rPr>
              <a:t>Teknik Bölü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775f55"/>
                </a:solidFill>
                <a:latin typeface="Tw Cen MT"/>
              </a:rPr>
              <a:t>Clickjacking &amp; SqliBenc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Tw Cen MT"/>
              </a:rPr>
              <a:t>Clickjacking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ed</a:t>
            </a:r>
            <a:r>
              <a:rPr b="0" lang="tr-TR" sz="2900" spc="-1" strike="noStrike">
                <a:solidFill>
                  <a:srgbClr val="000000"/>
                </a:solidFill>
                <a:latin typeface="Tw Cen MT"/>
              </a:rPr>
              <a:t>ir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Tw Cen MT"/>
              </a:rPr>
              <a:t>DEM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Tw Cen MT"/>
              </a:rPr>
              <a:t>SqliBench Sunum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ebddc3"/>
                </a:solidFill>
                <a:latin typeface="Tw Cen MT"/>
              </a:rPr>
              <a:t>TEŞEKKÜRLER…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Tw Cen MT"/>
              </a:rPr>
              <a:t>18 EKİM 2008 Buluşması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775f55"/>
                </a:solidFill>
                <a:latin typeface="Tw Cen MT"/>
              </a:rPr>
              <a:t>İçeri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Tw Cen MT"/>
              </a:rPr>
              <a:t>Nerdeyiz?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w Cen MT"/>
              </a:rPr>
              <a:t>Varolan ve yeni Projel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w Cen MT"/>
              </a:rPr>
              <a:t>Katılım, E-posta Listesi ve Web Sites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Tw Cen MT"/>
              </a:rPr>
              <a:t>Uygulama Güvenli</a:t>
            </a:r>
            <a:r>
              <a:rPr b="0" lang="tr-TR" sz="2200" spc="-1" strike="noStrike">
                <a:solidFill>
                  <a:srgbClr val="000000"/>
                </a:solidFill>
                <a:latin typeface="Tw Cen MT"/>
              </a:rPr>
              <a:t>ğ</a:t>
            </a:r>
            <a:r>
              <a:rPr b="0" lang="tr-TR" sz="2700" spc="-1" strike="noStrike">
                <a:solidFill>
                  <a:srgbClr val="000000"/>
                </a:solidFill>
                <a:latin typeface="Tw Cen MT"/>
              </a:rPr>
              <a:t>i E</a:t>
            </a:r>
            <a:r>
              <a:rPr b="0" lang="tr-TR" sz="2200" spc="-1" strike="noStrike">
                <a:solidFill>
                  <a:srgbClr val="000000"/>
                </a:solidFill>
                <a:latin typeface="Tw Cen MT"/>
              </a:rPr>
              <a:t>ğ</a:t>
            </a:r>
            <a:r>
              <a:rPr b="0" lang="tr-TR" sz="2700" spc="-1" strike="noStrike">
                <a:solidFill>
                  <a:srgbClr val="000000"/>
                </a:solidFill>
                <a:latin typeface="Tw Cen MT"/>
              </a:rPr>
              <a:t>itimleri – Üniversitele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w Cen MT"/>
              </a:rPr>
              <a:t>Pilot üniversiteler, muhtemel takvim, sorumlula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Tw Cen MT"/>
              </a:rPr>
              <a:t>Genel OWASP ajandası ve durumu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Tw Cen MT"/>
              </a:rPr>
              <a:t>Teknik Bölüm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w Cen MT"/>
              </a:rPr>
              <a:t>Clickjacking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qliBench </a:t>
            </a:r>
            <a:r>
              <a:rPr b="0" lang="tr-TR" sz="2400" spc="-1" strike="noStrike">
                <a:solidFill>
                  <a:srgbClr val="000000"/>
                </a:solidFill>
                <a:latin typeface="Tw Cen MT"/>
              </a:rPr>
              <a:t>OWASP SoC 2008 Proje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onu</a:t>
            </a:r>
            <a:r>
              <a:rPr b="0" lang="tr-TR" sz="2400" spc="-1" strike="noStrike">
                <a:solidFill>
                  <a:srgbClr val="000000"/>
                </a:solidFill>
                <a:latin typeface="Tw Cen MT"/>
              </a:rPr>
              <a:t>çları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w Cen MT"/>
              </a:rPr>
              <a:t>Genel Soru/Cevapla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775f55"/>
                </a:solidFill>
                <a:latin typeface="Tw Cen MT"/>
              </a:rPr>
              <a:t>OWASP Türkiye ve Web Güvenlik Toplulu</a:t>
            </a:r>
            <a:r>
              <a:rPr b="0" lang="tr-TR" sz="2400" spc="-1" strike="noStrike">
                <a:solidFill>
                  <a:srgbClr val="775f55"/>
                </a:solidFill>
                <a:latin typeface="Tw Cen MT"/>
              </a:rPr>
              <a:t>ğ</a:t>
            </a:r>
            <a:r>
              <a:rPr b="0" lang="tr-TR" sz="2800" spc="-1" strike="noStrike">
                <a:solidFill>
                  <a:srgbClr val="775f55"/>
                </a:solidFill>
                <a:latin typeface="Tw Cen MT"/>
              </a:rPr>
              <a:t>u (WGT)’nun şu anki durumu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Tw Cen MT"/>
              </a:rPr>
              <a:t>Nerdeyiz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775f55"/>
                </a:solidFill>
                <a:latin typeface="Tw Cen MT"/>
              </a:rPr>
              <a:t>Varolan Projel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Tw Cen MT"/>
              </a:rPr>
              <a:t>WeBekc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Tw Cen MT"/>
              </a:rPr>
              <a:t>Jarvine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Tw Cen MT"/>
              </a:rPr>
              <a:t>Çeviri Projes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Tw Cen MT"/>
              </a:rPr>
              <a:t>Sözlük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Tw Cen MT"/>
              </a:rPr>
              <a:t>Web Saldırı Olayları Veritabanı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Tw Cen MT"/>
              </a:rPr>
              <a:t>SqliBench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Tw Cen MT"/>
              </a:rPr>
              <a:t>DB StEv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Tw Cen MT"/>
              </a:rPr>
              <a:t>CAMMP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Tw Cen MT"/>
              </a:rPr>
              <a:t>SecureImage/JSecureImage/NSecureImag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Tw Cen MT"/>
              </a:rPr>
              <a:t>WIVE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775f55"/>
                </a:solidFill>
                <a:latin typeface="Tw Cen MT"/>
              </a:rPr>
              <a:t>Yeni Projel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Tw Cen MT"/>
              </a:rPr>
              <a:t>WeBekci 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Tw Cen MT"/>
              </a:rPr>
              <a:t>MSALPars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Tw Cen MT"/>
              </a:rPr>
              <a:t>Apache Tomcat Denetim Kılavuzu ve Beti</a:t>
            </a:r>
            <a:r>
              <a:rPr b="0" lang="tr-TR" sz="2400" spc="-1" strike="noStrike">
                <a:solidFill>
                  <a:srgbClr val="000000"/>
                </a:solidFill>
                <a:latin typeface="Tw Cen MT"/>
              </a:rPr>
              <a:t>ğ</a:t>
            </a:r>
            <a:r>
              <a:rPr b="0" lang="tr-TR" sz="2900" spc="-1" strike="noStrike">
                <a:solidFill>
                  <a:srgbClr val="000000"/>
                </a:solidFill>
                <a:latin typeface="Tw Cen MT"/>
              </a:rPr>
              <a:t>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Tw Cen MT"/>
              </a:rPr>
              <a:t>Uygulama Güvenliği E</a:t>
            </a:r>
            <a:r>
              <a:rPr b="0" lang="tr-TR" sz="2400" spc="-1" strike="noStrike">
                <a:solidFill>
                  <a:srgbClr val="000000"/>
                </a:solidFill>
                <a:latin typeface="Tw Cen MT"/>
              </a:rPr>
              <a:t>ğ</a:t>
            </a:r>
            <a:r>
              <a:rPr b="0" lang="tr-TR" sz="2900" spc="-1" strike="noStrike">
                <a:solidFill>
                  <a:srgbClr val="000000"/>
                </a:solidFill>
                <a:latin typeface="Tw Cen MT"/>
              </a:rPr>
              <a:t>itimleri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– </a:t>
            </a:r>
            <a:r>
              <a:rPr b="0" lang="tr-TR" sz="2900" spc="-1" strike="noStrike">
                <a:solidFill>
                  <a:srgbClr val="000000"/>
                </a:solidFill>
                <a:latin typeface="Tw Cen MT"/>
              </a:rPr>
              <a:t>Üniversitel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Tw Cen MT"/>
              </a:rPr>
              <a:t>??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775f55"/>
                </a:solidFill>
                <a:latin typeface="Tw Cen MT"/>
              </a:rPr>
              <a:t>Üniversitelerdeki ilerde yazılım geliştirecek ö</a:t>
            </a:r>
            <a:r>
              <a:rPr b="0" lang="tr-TR" sz="2400" spc="-1" strike="noStrike">
                <a:solidFill>
                  <a:srgbClr val="775f55"/>
                </a:solidFill>
                <a:latin typeface="Tw Cen MT"/>
              </a:rPr>
              <a:t>ğ</a:t>
            </a:r>
            <a:r>
              <a:rPr b="0" lang="tr-TR" sz="2800" spc="-1" strike="noStrike">
                <a:solidFill>
                  <a:srgbClr val="775f55"/>
                </a:solidFill>
                <a:latin typeface="Tw Cen MT"/>
              </a:rPr>
              <a:t>rencilerin farkındalı</a:t>
            </a:r>
            <a:r>
              <a:rPr b="0" lang="tr-TR" sz="2000" spc="-1" strike="noStrike">
                <a:solidFill>
                  <a:srgbClr val="775f55"/>
                </a:solidFill>
                <a:latin typeface="Tw Cen MT"/>
              </a:rPr>
              <a:t>ğ</a:t>
            </a:r>
            <a:r>
              <a:rPr b="0" lang="tr-TR" sz="2800" spc="-1" strike="noStrike">
                <a:solidFill>
                  <a:srgbClr val="775f55"/>
                </a:solidFill>
                <a:latin typeface="Tw Cen MT"/>
              </a:rPr>
              <a:t>ının arttırılması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Tw Cen MT"/>
              </a:rPr>
              <a:t>Uygulama Güvenli</a:t>
            </a:r>
            <a:r>
              <a:rPr b="0" lang="tr-TR" sz="3600" spc="-1" strike="noStrike">
                <a:solidFill>
                  <a:srgbClr val="ffffff"/>
                </a:solidFill>
                <a:latin typeface="Tw Cen MT"/>
              </a:rPr>
              <a:t>ğ</a:t>
            </a:r>
            <a:r>
              <a:rPr b="0" lang="tr-TR" sz="4400" spc="-1" strike="noStrike">
                <a:solidFill>
                  <a:srgbClr val="ffffff"/>
                </a:solidFill>
                <a:latin typeface="Tw Cen MT"/>
              </a:rPr>
              <a:t>i E</a:t>
            </a:r>
            <a:r>
              <a:rPr b="0" lang="tr-TR" sz="3600" spc="-1" strike="noStrike">
                <a:solidFill>
                  <a:srgbClr val="ffffff"/>
                </a:solidFill>
                <a:latin typeface="Tw Cen MT"/>
              </a:rPr>
              <a:t>ğ</a:t>
            </a:r>
            <a:r>
              <a:rPr b="0" lang="tr-TR" sz="4400" spc="-1" strike="noStrike">
                <a:solidFill>
                  <a:srgbClr val="ffffff"/>
                </a:solidFill>
                <a:latin typeface="Tw Cen MT"/>
              </a:rPr>
              <a:t>itimler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775f55"/>
                </a:solidFill>
                <a:latin typeface="Tw Cen MT"/>
              </a:rPr>
              <a:t>E</a:t>
            </a:r>
            <a:r>
              <a:rPr b="0" lang="tr-TR" sz="3600" spc="-1" strike="noStrike">
                <a:solidFill>
                  <a:srgbClr val="775f55"/>
                </a:solidFill>
                <a:latin typeface="Tw Cen MT"/>
              </a:rPr>
              <a:t>ğ</a:t>
            </a:r>
            <a:r>
              <a:rPr b="0" lang="tr-TR" sz="4400" spc="-1" strike="noStrike">
                <a:solidFill>
                  <a:srgbClr val="775f55"/>
                </a:solidFill>
                <a:latin typeface="Tw Cen MT"/>
              </a:rPr>
              <a:t>itim İçeri</a:t>
            </a:r>
            <a:r>
              <a:rPr b="0" lang="tr-TR" sz="3600" spc="-1" strike="noStrike">
                <a:solidFill>
                  <a:srgbClr val="775f55"/>
                </a:solidFill>
                <a:latin typeface="Tw Cen MT"/>
              </a:rPr>
              <a:t>ğ</a:t>
            </a:r>
            <a:r>
              <a:rPr b="0" lang="tr-TR" sz="4400" spc="-1" strike="noStrike">
                <a:solidFill>
                  <a:srgbClr val="775f55"/>
                </a:solidFill>
                <a:latin typeface="Tw Cen MT"/>
              </a:rPr>
              <a:t>i ve Hedef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Tw Cen MT"/>
              </a:rPr>
              <a:t>İçeri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Tw Cen MT"/>
              </a:rPr>
              <a:t>OWASP TOP 10 2007 tabanlı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Tw Cen MT"/>
              </a:rPr>
              <a:t>Güvenli Kod Geliştirme Teknikleri odaklı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Tw Cen MT"/>
              </a:rPr>
              <a:t>WebGoat ve di</a:t>
            </a:r>
            <a:r>
              <a:rPr b="0" lang="tr-TR" sz="2000" spc="-1" strike="noStrike">
                <a:solidFill>
                  <a:srgbClr val="000000"/>
                </a:solidFill>
                <a:latin typeface="Tw Cen MT"/>
              </a:rPr>
              <a:t>ğ</a:t>
            </a:r>
            <a:r>
              <a:rPr b="0" lang="tr-TR" sz="2600" spc="-1" strike="noStrike">
                <a:solidFill>
                  <a:srgbClr val="000000"/>
                </a:solidFill>
                <a:latin typeface="Tw Cen MT"/>
              </a:rPr>
              <a:t>er geliştirilmiş yazılımlar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Tw Cen MT"/>
              </a:rPr>
              <a:t>Bir veya bir buçuk sa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Tw Cen MT"/>
              </a:rPr>
              <a:t>Hedef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Tw Cen MT"/>
              </a:rPr>
              <a:t>Pilot üniversitelerde Bilgisayar Müh., Son Sınıfla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Tw Cen MT"/>
              </a:rPr>
              <a:t>İnteraktif sınıflar / Lab ?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Tw Cen MT"/>
              </a:rPr>
              <a:t>İletişim noktaları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775f55"/>
                </a:solidFill>
                <a:latin typeface="Tw Cen MT"/>
              </a:rPr>
              <a:t>Dünya’da OWASP durumu ve ajandası: standardlaşm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Tw Cen MT"/>
              </a:rPr>
              <a:t>Genel OWASP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775f55"/>
                </a:solidFill>
                <a:latin typeface="Tw Cen MT"/>
              </a:rPr>
              <a:t>OWASP Ajandası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a6a6a6"/>
                </a:solidFill>
                <a:latin typeface="Tw Cen MT"/>
              </a:rPr>
              <a:t>OWASP AppSec 2008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www.owasp.org/index.php/OWASP_NYC_AppSec_2008_Conferenc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Tw Cen MT"/>
              </a:rPr>
              <a:t>OWASP SoC 2008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www.owasp.org/index.php/OWASP_Summer_of_Code_2008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Tw Cen MT"/>
              </a:rPr>
              <a:t>OWASP Zirvesi 08 Portekiz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www.owasp.org/index.php/OWASP_EU_Summit_2008_TR_Turkis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urkcell İletişim Hizmetleri A.Ş.</cp:lastModifiedBy>
  <dcterms:modified xsi:type="dcterms:W3CDTF">2008-10-16T12:11:33Z</dcterms:modified>
  <cp:revision>69</cp:revision>
  <dc:subject/>
  <dc:title>OWASP-TR &amp; wgt AJANDA</dc:title>
</cp:coreProperties>
</file>