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3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B814E-7800-4741-BA97-E36A8C0B65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86B37-0C10-4818-B180-F5D3BC47DA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9C079-90B1-4D67-9B5A-48CF1BC97C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0E0DA-BCEB-4AB9-8F46-0EDE117E12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9397B-5702-4821-87C4-2937916985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7C844-8050-484F-8B6F-D7A6E5EA7B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4A118-F247-4140-8E47-C7063C93A9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2D421-69A8-4875-BCE8-9BCAF328A1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3E876-3E80-4693-90F1-57391DB428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920C7-46C1-4E63-A3D2-3EA0133FF1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BD3E7-8A38-47EC-BEEE-5C7049C921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05427-8021-4F91-B605-B180AC5284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99EE7-8B02-4840-B555-C7B0F11EB4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2D7DA-575A-4CA2-B315-EB37516577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30205-8A10-4695-899B-A54379F946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8C07-7AFB-4152-9BFE-7453C8D4B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58FC-C77C-4680-934A-28816AA20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811D-63AA-42B8-B3F3-9A2B81B54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A023-ED4C-44FF-9D00-E2309D024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E606-990A-4B0E-91CF-DF2364F33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04E0-9CD1-4CFD-85AA-E5BF1BF11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D3C5-C297-4E2A-A9D8-C91604578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027F-34D9-4CA1-A5B5-B73D2009D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6511-76B6-49CD-8660-FEEEFB982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9ECA-CE8C-4B79-B242-F58CBAC28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CD8C-74A1-40EB-8182-0ECD68E12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0D80-4E22-449B-BD1C-9659E1D01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479E0-BD84-49AB-A552-BF9005B958DF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5689440" y="6270480"/>
            <a:ext cx="23878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5840" cy="19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038480" y="5165640"/>
            <a:ext cx="419112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038480" y="5937120"/>
            <a:ext cx="480060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reeform 17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Freeform 18"/>
          <p:cNvSpPr/>
          <p:nvPr/>
        </p:nvSpPr>
        <p:spPr>
          <a:xfrm rot="10800000">
            <a:off x="7385040" y="2668680"/>
            <a:ext cx="1028880" cy="121896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1523880" y="4229280"/>
            <a:ext cx="26672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038480" y="6326280"/>
            <a:ext cx="48006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GB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777777"/>
                </a:solidFill>
                <a:latin typeface="Tahoma"/>
              </a:rPr>
              <a:t>Web Güvenlik Topluluğ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038480" y="3124080"/>
            <a:ext cx="37339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Mesut Timur, </a:t>
            </a: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OWASP-Türkiy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4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Özgür Yazılım Konferansı - Ankar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4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www.owasp.org/index.php/Turke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4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www.webguvenligi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540440" y="4648320"/>
            <a:ext cx="1805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777777"/>
                </a:solidFill>
                <a:latin typeface="Arial"/>
              </a:rPr>
              <a:t>21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600" spc="-1" strike="noStrike">
                <a:solidFill>
                  <a:srgbClr val="777777"/>
                </a:solidFill>
                <a:latin typeface="Tahoma"/>
              </a:rPr>
              <a:t>Haziran</a:t>
            </a:r>
            <a:r>
              <a:rPr b="0" lang="en-GB" sz="1600" spc="-1" strike="noStrike">
                <a:solidFill>
                  <a:srgbClr val="777777"/>
                </a:solidFill>
                <a:latin typeface="Tahoma"/>
              </a:rPr>
              <a:t>,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DF51A7-003E-45AC-A30A-36537B757013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iye Burdayız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önem dönem web uygulaması güvenliği konulu etkinlikler yapmak istediğimiz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g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üvenl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ği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konulu sohbetleri sevdiğimiz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arklı güvenlik modellerini canlı olarak duymak istediğimiz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üvenliğin de açık kaynak koddan ciddi şekilde beslendiğine inandığımız iç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6FCB01-0996-45CF-9E00-4ACA621990A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macımız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9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b uygulaması güvenliğine ülkemizde gerekli duyarlılığın gösterilmesini sağla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b uygulaması güvenliği konusunda çalışan ve ilgi duyan arkadaşları bir platformda topla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üvenlik konulu makaleler, dökümanlar ve projelere yer ve destek sağlam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b uygulamalarının ortaya çıkardığı zararları en aza indirme yolunda çalışmalar yap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ünyada yapılan web uygulaması güvenliği konulu çalışmaların takibini sağla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WASP Vakfının Türkiye çalışmalarını sürdürm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4F6AB1-7122-4549-B97E-668F3E2192E3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jelerimiz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b Güvenliği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rimler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özlüğ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wasp-W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kci (SoC 2008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b Saldırıları Olayları Veritaban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Çeviri Proj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(~300 sayfa doküm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tomatize Sql Entektörleri Analizi (SoC 2008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Jarvinen (Web tabanlı ModSecurity log anali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0BBABF-3E7A-4A16-B03B-450C2AF1BEA1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Hedeflerimiz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b uygulaması güvenliği projeleri geliştirme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b uygulaması güvenliği alanında yardımcı dökümanlar temin etme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Özel ve kamu kuruluşları arası güvenlik konulu çalışmalar yapm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luslararası konferanslar düzenlem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çık kaynak kodlu güvelik çalışmalarına destek verm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Üniversitelerimizde uygulamalı web güvenliği farkındalığı dersleri verm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A47286-44C3-49EF-BAE0-1281CCC36383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2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Teşekkürl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57200" y="2743200"/>
            <a:ext cx="8458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ww.owasp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www.webguvenligi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www.h-lab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Listeye kayıt olmak iç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000" spc="-1" strike="noStrike">
                <a:solidFill>
                  <a:srgbClr val="ff3300"/>
                </a:solidFill>
                <a:latin typeface="Tahoma"/>
              </a:rPr>
              <a:t>google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wasp turkey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il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038480" cy="11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4BF9A0-B2AB-4886-BA84-2670978738B4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İçer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WA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ed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je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WASP - Summer Of Code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iz Kimiz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iye Burayız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jelerimi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deflerimi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057868-6A98-4081-A793-57724E5DDD45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WASP – Nedi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pen Web Application Security Projest (OWASP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üm OWASP ürünleri ücretsiz ve açık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üvensiz yazılımların sebep oldukları açıkları bulup, bunlarla mücadele eden bir topluluk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ar amacı gütm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pluluga ait rak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80+ (Chapter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0+ Spon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50+ Pro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+ E-posta list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ylık bir milyon üzerinde ziyar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3E4C9C-B617-4A0D-9000-0E20665F0A4F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WASP Neler Yapa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2133720" y="1371600"/>
            <a:ext cx="4952880" cy="4952880"/>
          </a:xfrm>
          <a:prstGeom prst="pie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4572000" y="1219320"/>
            <a:ext cx="44280" cy="22096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 flipH="1">
            <a:off x="2208240" y="3733920"/>
            <a:ext cx="2441520" cy="1218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648320" y="3733920"/>
            <a:ext cx="2514600" cy="1218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345840" y="3198960"/>
            <a:ext cx="1011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raç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83320" y="4419720"/>
            <a:ext cx="1183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oplul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16960" y="3200400"/>
            <a:ext cx="1610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öküman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5638680" y="12952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ing Gui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flipH="1">
            <a:off x="835920" y="502920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6" y="-21375"/>
                </a:moveTo>
                <a:lnTo>
                  <a:pt x="-772" y="8100"/>
                </a:lnTo>
              </a:path>
              <a:path w="21600" h="21600">
                <a:moveTo>
                  <a:pt x="-772" y="0"/>
                </a:moveTo>
                <a:lnTo>
                  <a:pt x="-772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i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flipH="1">
            <a:off x="1219320" y="13716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ebGo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 flipH="1">
            <a:off x="990720" y="18288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ebScar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 flipH="1">
            <a:off x="990720" y="54864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09" y="-24300"/>
                </a:moveTo>
                <a:lnTo>
                  <a:pt x="-772" y="8100"/>
                </a:lnTo>
              </a:path>
              <a:path w="21600" h="21600">
                <a:moveTo>
                  <a:pt x="-772" y="0"/>
                </a:moveTo>
                <a:lnTo>
                  <a:pt x="-772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ölgeler (chapters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 flipH="1">
            <a:off x="6248520" y="495288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30" y="-22050"/>
                </a:moveTo>
                <a:lnTo>
                  <a:pt x="22371" y="81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Günlükler (blogs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 flipH="1">
            <a:off x="6093720" y="54100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30" y="-22050"/>
                </a:moveTo>
                <a:lnTo>
                  <a:pt x="22371" y="81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Çeviri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 flipH="1">
            <a:off x="5942160" y="586728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30" y="-22050"/>
                </a:moveTo>
                <a:lnTo>
                  <a:pt x="22371" y="81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Konferans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7"/>
          <p:cNvSpPr/>
          <p:nvPr/>
        </p:nvSpPr>
        <p:spPr>
          <a:xfrm flipH="1">
            <a:off x="1293120" y="58672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09" y="-24300"/>
                </a:moveTo>
                <a:lnTo>
                  <a:pt x="-772" y="8100"/>
                </a:lnTo>
              </a:path>
              <a:path w="21600" h="21600">
                <a:moveTo>
                  <a:pt x="-772" y="0"/>
                </a:moveTo>
                <a:lnTo>
                  <a:pt x="-772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um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5867280" y="17524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p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6324480" y="22096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20"/>
          <p:cNvSpPr/>
          <p:nvPr/>
        </p:nvSpPr>
        <p:spPr>
          <a:xfrm>
            <a:off x="6705720" y="266688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ppSec FA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1"/>
          <p:cNvSpPr/>
          <p:nvPr/>
        </p:nvSpPr>
        <p:spPr>
          <a:xfrm>
            <a:off x="6858000" y="3276720"/>
            <a:ext cx="213372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r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22"/>
          <p:cNvSpPr/>
          <p:nvPr/>
        </p:nvSpPr>
        <p:spPr>
          <a:xfrm>
            <a:off x="6858000" y="3733920"/>
            <a:ext cx="213372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23"/>
          <p:cNvSpPr/>
          <p:nvPr/>
        </p:nvSpPr>
        <p:spPr>
          <a:xfrm flipH="1">
            <a:off x="762120" y="22860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ve C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24"/>
          <p:cNvSpPr/>
          <p:nvPr/>
        </p:nvSpPr>
        <p:spPr>
          <a:xfrm flipH="1">
            <a:off x="455760" y="27432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NET Resear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25"/>
          <p:cNvSpPr/>
          <p:nvPr/>
        </p:nvSpPr>
        <p:spPr>
          <a:xfrm flipH="1">
            <a:off x="227160" y="32004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P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26"/>
          <p:cNvSpPr/>
          <p:nvPr/>
        </p:nvSpPr>
        <p:spPr>
          <a:xfrm flipH="1">
            <a:off x="76320" y="36576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B7122D-21F5-4A33-804B-7ED2DBD7EC65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WASP Testing Gu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Çalışma ortamının oluşturulması (Testing Framework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üvenlik testlerinin yapı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üvenlik testlerinin nasıl yapılması gerektiği, metodoloji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por hazırlan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038480" cy="47228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B95CF-95B7-44F9-834B-38ED1B9FFCCD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WASP Top 1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ık rastlanan on web uygulaması güvenliği zayıflıklarını içer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çıklar hakkında özet bilgi ve ilgili linkler vardı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lli aralıklarla güncelleştir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yıflıklarla ilgili istatistiksel bilgiler mevcut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Şu an itibariyle sadece İngilizce,Fransızca,Japonca, Türkçe ve Kore dillerinde mevcut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00"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8C52E7-B5E2-423A-AED9-7F6A6EC01834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WASP - Projel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12000"/>
              </a:lnSpc>
              <a:spcBef>
                <a:spcPts val="499"/>
              </a:spcBef>
              <a:buClr>
                <a:srgbClr val="ff33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ahoma"/>
              </a:rPr>
              <a:t>Projelere maddi destek sağ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12000"/>
              </a:lnSpc>
              <a:spcBef>
                <a:spcPts val="499"/>
              </a:spcBef>
              <a:buClr>
                <a:srgbClr val="ff33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bGoat Proj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ğitim projesidir. Kullanıcıların web güvenliği hakkında bilgiler edinmesi için hazırlanmıştır. İçinde güvenlik açıkları içeren dersler bulunmaktadır ve sizlerden bu açıkları bulmanızı i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12000"/>
              </a:lnSpc>
              <a:spcBef>
                <a:spcPts val="499"/>
              </a:spcBef>
              <a:buClr>
                <a:srgbClr val="ff33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bScarab Proj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ygulamaların güvenlik a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ıklarını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ulmakta kullanılır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ve CD Proj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WASP projelerini ve dökümanlarını barındıran CD d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NET Proj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tNet ortamını daha güvenli hale getirecek araçlar bulundurmaktadı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gal Proj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azılım alış verişindeki yasal düzenlemeleri yapmanıza yarayan bir projesid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0">
              <a:lnSpc>
                <a:spcPct val="112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91C71F-E7D5-4A62-A7B2-70B5E8DA57F5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WASP - Summer of Code 2008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WASP da bulunan ve ya ilave edilebilecek projeler geliştir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 geliştiricilerine maddi destekler sağ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ler, geliştiricilerinin adlarıyla OWASP sitesinden yayınlanı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ler açık kaynak kodlu olarak yayın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EF55CF-DBB2-42E6-9A78-6E2FF2FFE731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iz kimiz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b Güvenl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opluluğ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önetim ve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ye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ünyamin Demir –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Yazılım Mühend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esut 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ur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lgisayar Mühendisliği Lisans Öğrenc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usuf Çeri –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b Güvenliği Uzman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dirhan Urgun –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b Güvenliği Uzman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rruh Mavituna –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b Güvenliği Uzman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lere, etkinliklere katılan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l listesine üyeleri ve web g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üvenliği ilgili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Williams</dc:creator>
  <dc:description>http://www.owasp.org</dc:description>
  <cp:keywords>Application Security</cp:keywords>
  <dc:language>en-US</dc:language>
  <cp:lastModifiedBy>Administrator</cp:lastModifiedBy>
  <dcterms:modified xsi:type="dcterms:W3CDTF">2008-06-21T08:12:40Z</dcterms:modified>
  <cp:revision>29</cp:revision>
  <dc:subject/>
  <dc:title>OWASP Plan - Strawman</dc:title>
</cp:coreProperties>
</file>