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D0A-C6AA-4E3D-9F33-F765F2C7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2C7-B72E-4BC1-9B9B-56FC0B0D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6B2-53EE-4580-A211-80EBB800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829-423E-4E1C-8A43-4F5C3DB3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B58-84A7-4546-AC2B-17867F18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C1A-A100-4684-B8F8-918A8C03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EDA-CADE-4FE7-9E3C-11AEB185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2A5-8156-4790-BB38-D40AF75A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61B-0323-494B-AA3F-4E90050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F59-6035-4FE0-97B2-C078A877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EB1-6300-4362-BA0F-EF43AD2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E7B-5AB2-4139-9810-CBED29A2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50ED-2DAE-4153-827C-A19506168E5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MAP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ENJEKTÖR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İçer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ma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lind SQL injeksiyonu n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Neden SQL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QLMap Programı özellik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QLMap programı ile test ortamında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ma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QLMap programı kullanılarak veritabanından bilgi çekilme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Blind  SQL Enjeksiyonu Ned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şlem sonuçlarının bilinmediği SQL enjeksiyon tipine blind SQL Enjeksiyon denir. Bu davranış, programcının özel bir hata sayfası hazırlamasıyla sorgu veya veritabanı yapısı hakkında hiçbir bilgi gösterilmemesi ile oluş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Neden SQLM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Web uygulamaları güvenlik testlerinde kullanılarak, daha hızlı sonuç alınmasını sağl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SQLMap Programı özellik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Python dilinde yazılmış açık kaynak kodlu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SSQL, MYSQL, ORACLE veritabanında etki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aşlat, durdur, devam et özellikleri mev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BMS başlığı, kullanıcı, veritabanı çekme özellikle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emo göster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0:57:18Z</dcterms:created>
  <dc:creator>yusufc</dc:creator>
  <dc:description/>
  <dc:language>en-US</dc:language>
  <cp:lastModifiedBy>test</cp:lastModifiedBy>
  <dcterms:modified xsi:type="dcterms:W3CDTF">2008-04-21T05:10:42Z</dcterms:modified>
  <cp:revision>12</cp:revision>
  <dc:subject/>
  <dc:title>SQLMAP SQL ENJEKTÖRÜ </dc:title>
</cp:coreProperties>
</file>