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2F32-D71D-4744-83BA-38E5EFD51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3E39-F8EF-43E9-A233-F00C7A20B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299E-7B1F-45CB-B77B-434359922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FE54-1CF4-4FB4-9E5A-950D63C73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6A5E-5408-4034-BE1A-219A6916C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73A5-A43D-4039-82FC-F30EFF2D5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E04C-C03B-4C6B-913F-89381DD18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C640-264F-4034-B782-87E59122A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205C-44CF-498B-A8C4-B038494CA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C345-80CC-4BBF-93F4-6C8E5A65C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DE89-1342-440F-B1D3-BE92D88D3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B28D-681C-4F49-A45B-760776461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389D-3BD6-460E-BEC1-02BB54EC2D28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5040" y="266688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385040" y="266652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4229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ebguvenligi.org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Web Güvenliği Topluluğu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038480" y="3124080"/>
            <a:ext cx="37339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OWASP-Türkiye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Açık Kaynak Kodu Günü - İstanbul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www.webguvenligi.org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553760" y="464832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777777"/>
                </a:solidFill>
                <a:latin typeface="Tahoma"/>
              </a:rPr>
              <a:t>Apr</a:t>
            </a:r>
            <a:r>
              <a:rPr b="0" lang="en-US" sz="1600" spc="-1" strike="noStrike">
                <a:solidFill>
                  <a:srgbClr val="777777"/>
                </a:solidFill>
                <a:latin typeface="Tahoma"/>
                <a:ea typeface="新細明體"/>
              </a:rPr>
              <a:t> </a:t>
            </a:r>
            <a:r>
              <a:rPr b="0" lang="tr-TR" sz="1600" spc="-1" strike="noStrike">
                <a:solidFill>
                  <a:srgbClr val="777777"/>
                </a:solidFill>
                <a:latin typeface="Tahoma"/>
              </a:rPr>
              <a:t>19</a:t>
            </a:r>
            <a:r>
              <a:rPr b="0" lang="en-US" sz="1600" spc="-1" strike="noStrike" baseline="30000">
                <a:solidFill>
                  <a:srgbClr val="777777"/>
                </a:solidFill>
                <a:latin typeface="Tahoma"/>
                <a:ea typeface="新細明體"/>
              </a:rPr>
              <a:t>th</a:t>
            </a:r>
            <a:r>
              <a:rPr b="0" lang="en-US" sz="1600" spc="-1" strike="noStrike">
                <a:solidFill>
                  <a:srgbClr val="777777"/>
                </a:solidFill>
                <a:latin typeface="Tahoma"/>
                <a:ea typeface="新細明體"/>
              </a:rPr>
              <a:t>, 200</a:t>
            </a:r>
            <a:r>
              <a:rPr b="0" lang="tr-TR" sz="1600" spc="-1" strike="noStrike">
                <a:solidFill>
                  <a:srgbClr val="777777"/>
                </a:solidFill>
                <a:latin typeface="Tahom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Niye Burdayız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önem dönem web güvenliği konulu etkinlikler yapmak istediğimiz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üvenlik konulu sohbetleri sevdiğimiz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rklı güvenlik modellerini canlı olarak duymak istediğimiz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üvenliğin de açık kaynak koddan ciddi şekilde beslendiğine inandığımız iç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CED3-79B6-4776-A4FF-8819DB6D89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Amacımız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eb güvenliğine ülkemizde gerekli duyarlılığın verilmesini sağlam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eb güvenliği konusunda çalışan ve ilgi duyan arkadaşları bir platformda toplamayı istem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üvenlik konulu makaleler, haberler, dökümanlar ve projelere yer ve destek sağlama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eb uygulamalarının ortaya çıkardığı zararları en aza indirme yolunda çalışmalar yapm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ünyada yapılan web güvenliği konulu çalışmaların takibini sağlam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WASP Vakfının Türkiye çalışmalarını sürdürm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C899-82FC-4E8B-8975-D0A14AD468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Projelerimiz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Web Güvenliği Sözlüğ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Owasp-Webekci (SOC 200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Web Saldırıları Olayları Veritabanı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Çeviri Proj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Otomatize Sql Entektörleri Analizi (SOC 200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B StE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7C69-1276-492B-8BCC-31517DFF9B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Hedeflerimiz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Web güvenliği projeleri geliştirme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Web güvenliği alanında yardımcı dökümanlar temin etme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zel ve kamu kuruluşları arası güvenlik konulu çalışmalar yapm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Uluslararası konferanslar düzenlem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çık kaynak kodlu güvelik çalışmalarına destek verm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6FFA-C434-4D36-A75E-67341DE0A3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eşekkürl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3352680"/>
            <a:ext cx="8458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www.owasp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webguvenlig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Listeye kayıt olmak iç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3300"/>
                </a:solidFill>
                <a:latin typeface="Tahoma"/>
              </a:rPr>
              <a:t>google: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wasp turke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90920" y="1981080"/>
            <a:ext cx="4038480" cy="11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659B-2262-4FC3-B19A-F896869258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İçer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OWA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Nedi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Proje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WASP - Summer Of Code 200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WG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Biz Kimiz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Niye Burayız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Projelerimi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edeflerimi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60E2-C765-4817-AFF9-B43647B881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OWASP – Nedir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pen Web Application Security Projest (OWAS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WASP products are free and open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(!!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üvensiz yazılımların sebep oldukları açıkları bulup, bunlarla mücadele eden bir toplulukt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r amacı gütm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opluluga ait rakam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00+ (Chap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30+ Spon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50+ Pro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00+ E-posta list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6300+ Bölge e-posta üy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4200+ Proje e-posta üy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ylık bir milyon üzerinde ziyar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BC45-DBCE-4121-9DDE-4A7B83794D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OWASP Neler Yapar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1371600"/>
            <a:ext cx="4952880" cy="4952880"/>
          </a:xfrm>
          <a:prstGeom prst="donut">
            <a:avLst>
              <a:gd name="adj" fmla="val 41462"/>
            </a:avLst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219320"/>
            <a:ext cx="44280" cy="22096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09680" y="3733920"/>
            <a:ext cx="2438640" cy="12189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3733920"/>
            <a:ext cx="2514600" cy="12189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5840" y="319896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Araç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2600" y="441972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Toplul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16960" y="320040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Döküman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129528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Testing Gu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37360" y="502920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6" y="-21375"/>
                </a:moveTo>
                <a:lnTo>
                  <a:pt x="-772" y="8100"/>
                </a:lnTo>
              </a:path>
              <a:path w="21600" h="21600">
                <a:moveTo>
                  <a:pt x="-772" y="0"/>
                </a:moveTo>
                <a:lnTo>
                  <a:pt x="-772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219320" y="137160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WebGo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82880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WebScar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990720" y="548640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09" y="-24300"/>
                </a:moveTo>
                <a:lnTo>
                  <a:pt x="-772" y="8100"/>
                </a:lnTo>
              </a:path>
              <a:path w="21600" h="21600">
                <a:moveTo>
                  <a:pt x="-772" y="0"/>
                </a:moveTo>
                <a:lnTo>
                  <a:pt x="-772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ölgeler (chapt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248520" y="495288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430" y="-22050"/>
                </a:moveTo>
                <a:lnTo>
                  <a:pt x="22371" y="8100"/>
                </a:lnTo>
              </a:path>
              <a:path w="21600" h="21600">
                <a:moveTo>
                  <a:pt x="22371" y="0"/>
                </a:moveTo>
                <a:lnTo>
                  <a:pt x="223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Günlükler (blo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095160" y="541008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430" y="-22050"/>
                </a:moveTo>
                <a:lnTo>
                  <a:pt x="22371" y="8100"/>
                </a:lnTo>
              </a:path>
              <a:path w="21600" h="21600">
                <a:moveTo>
                  <a:pt x="22371" y="0"/>
                </a:moveTo>
                <a:lnTo>
                  <a:pt x="223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Çeviri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942880" y="586728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430" y="-22050"/>
                </a:moveTo>
                <a:lnTo>
                  <a:pt x="22371" y="8100"/>
                </a:lnTo>
              </a:path>
              <a:path w="21600" h="21600">
                <a:moveTo>
                  <a:pt x="22371" y="0"/>
                </a:moveTo>
                <a:lnTo>
                  <a:pt x="223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Konferans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294560" y="586728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09" y="-24300"/>
                </a:moveTo>
                <a:lnTo>
                  <a:pt x="-772" y="8100"/>
                </a:lnTo>
              </a:path>
              <a:path w="21600" h="21600">
                <a:moveTo>
                  <a:pt x="-772" y="0"/>
                </a:moveTo>
                <a:lnTo>
                  <a:pt x="-772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Forum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75248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Top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L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266688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AppSec F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3276720"/>
            <a:ext cx="213372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etr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3733920"/>
            <a:ext cx="213372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62120" y="228600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Live 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56480" y="274320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.NET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7880" y="320040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LAP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6320" y="365760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DE12-5B4C-4E05-AB08-1AAB41D4C5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OWASP Testing Gu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alışma ortamının oluşturulması (Testing Frame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üvenlik testlerinin yapıl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apor hazırlan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4038480" cy="47228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064E-A83A-40F0-85AB-FECADE6357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OWASP Top 1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k rastlanan on web güvenlik açığını içer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çıklar hakkında özet bilgi ve linkler vardı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er yıl yenilen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opluluktan herkes katkı ve yorum sunabil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6064A-4C82-4433-81D4-3E83D86328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OWASP - Projel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Projelere maddi destek sağ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WebGoat Proj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ğitim projesidir. Kullanıcıların web güvenliği hakkında bilgiler edinmesi için hazırlanmıştır. İçinde güvenlik açıkları içeren dersler bulunmaktadır ve sizlerden bu açıkları bulmanızı is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WebScarab Proj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ygulamaların güvenlik açıklarınızı test etmeye yara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Live CD Proj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WASP projelerini ve dökümanlarını barındıran CD di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.NET Proj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DotNet ortamını daha güvenli hale getirecek araçlar bulundurmaktadır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Legal Proj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Yazılım alış verişindeki yasal düzenlemeleri yapmanıza yarayan bir projesid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2909-37D5-4530-A6C8-655F715291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OWASP - Summer Of Code 2008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OWASP da bulunan ve ya ilave edilebilecek projeler geliştir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roje geliştiricilerine maddi destekler sağlan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2CF2-F756-4160-964A-28C6B63AD8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Biz kimiz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Web Güvenliği Topluluğ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önet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edirhan Urgun – Web Güvenliği Uzman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Ferruh Mavituna – Web Güvenliği Uzman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ünyamin Demir – Yazılım Mühendi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Üye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rojeye katılan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Etkinliklere katılan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ail listesine üye olan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üvenlik konusunda sohbeti seven her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0AC3-50EE-44EF-A2AD-BA2E8FDE58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7:51:41Z</dcterms:created>
  <dc:creator>Jeff Williams</dc:creator>
  <dc:description>http://www.owasp.org</dc:description>
  <cp:keywords>Application Security</cp:keywords>
  <dc:language>en-US</dc:language>
  <cp:lastModifiedBy>bd</cp:lastModifiedBy>
  <dcterms:modified xsi:type="dcterms:W3CDTF">2008-04-18T19:50:53Z</dcterms:modified>
  <cp:revision>46</cp:revision>
  <dc:subject>Application Security</dc:subject>
  <dc:title>OWASP Plan - Strawman</dc:title>
</cp:coreProperties>
</file>