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E0FEB-81DC-4BC5-8BDA-145DBD5FDA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2CF22-1A52-4BA4-867A-17704F4C7F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40F4C-485B-4012-8BEE-3A542683EB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1EA9B-F88E-4078-A47F-2C419A8037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D730F-ED15-4BAC-8454-9DAFBBA1FA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D189A-99C6-4461-A87E-2244138DA3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04770-AD3E-4D8A-802D-435D9E2C20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6A4E6-D09E-40E3-B5AE-430FCF12E6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4F8EF-384B-44AD-921E-8173531EBB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ED8C6-9330-4C01-9DA4-D394287E7F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FE5E6-A807-483F-B75D-764D095773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3AD9C-109F-4127-A954-85C6E8476D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6A631-462E-464E-8BFE-616619D321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37CBD-FCC5-4A2F-A349-2204D4D63E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9B16E-D90B-48E9-8F0B-B5ED96C9F5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C6D9B-12B1-4C0D-A1AA-95675D9C52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69D2C-E7A3-40AC-BE76-9EBBDC9F89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CE35C-FE4A-4C64-9746-6DB3C2E87F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4864E-1DD9-489E-BC26-EE8C6D3C04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FBAAA-328E-43FD-8D2D-4D97EB611C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B836A-06F4-42C5-B977-3A19E25D21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C7B2F-61DD-47B9-86D2-7C10CDA124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886CF-D486-4BFA-9FD8-12CE6D9F8F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Windows için bunlar geçerlid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8008, WebScarab için ön tanımlı olarak dinlediği portt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Tüm testler için “intercept request” seçilmek zorunda değildir. Zira bu sefer her request için karşınıza bir sayfa gelecekt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91A14-17B6-47C1-86AF-7EADEBE997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A807-18E5-4355-A657-0B38F8E08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55C9-3AD4-418A-BABF-36AE2928E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E87B-5695-44C1-A31A-9D483CC22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5199-64CF-492B-A8BA-508DA3BEE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5228-BCD0-4F68-A642-410DE2C9E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28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136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28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136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8D02-6BDF-4A41-BF64-E5DE5A7176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28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1360" y="129492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28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1360" y="3817440"/>
            <a:ext cx="264924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73A1-3472-453B-8897-F4987AEEE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7104-7E90-42A2-8A37-BEE73EC86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B964-556F-4106-9FA8-4134FE7DF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4B3C-3887-4CAE-BA76-0F79B4289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81744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A908-BE2D-4A55-B8C8-9EF9B20C1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294920"/>
            <a:ext cx="40150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7440"/>
            <a:ext cx="822816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D4A5-918C-45E2-974F-7A0CF07BF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816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000" spc="-1" strike="noStrike">
                <a:solidFill>
                  <a:srgbClr val="969696"/>
                </a:solidFill>
                <a:latin typeface="Tahoma"/>
                <a:ea typeface="DejaVuSans"/>
              </a:defRPr>
            </a:lvl1pPr>
          </a:lstStyle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0E55F-29C8-45F8-91F2-6FA258E262AB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6" descr="owasptr.gif"/>
          <p:cNvPicPr/>
          <p:nvPr/>
        </p:nvPicPr>
        <p:blipFill>
          <a:blip r:embed="rId2"/>
          <a:stretch/>
        </p:blipFill>
        <p:spPr>
          <a:xfrm>
            <a:off x="7162920" y="6172200"/>
            <a:ext cx="129528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5840" cy="19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4038480" y="5165640"/>
            <a:ext cx="419112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038480" y="5937120"/>
            <a:ext cx="480060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 rot="10800000">
            <a:off x="7385040" y="2668680"/>
            <a:ext cx="1028880" cy="121896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523880" y="4229280"/>
            <a:ext cx="26672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038480" y="6326280"/>
            <a:ext cx="48006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GB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4038480" y="5165640"/>
            <a:ext cx="419112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038480" y="5937120"/>
            <a:ext cx="480060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2705040" y="2666880"/>
            <a:ext cx="1028880" cy="121932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8"/>
          <p:cNvSpPr/>
          <p:nvPr/>
        </p:nvSpPr>
        <p:spPr>
          <a:xfrm rot="10800000">
            <a:off x="7385040" y="2668680"/>
            <a:ext cx="1028880" cy="1218960"/>
          </a:xfrm>
          <a:prstGeom prst="pie">
            <a:avLst/>
          </a:pr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523880" y="4229280"/>
            <a:ext cx="26672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4038480" y="6326280"/>
            <a:ext cx="48006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GB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6" descr="owasptr.gif"/>
          <p:cNvPicPr/>
          <p:nvPr/>
        </p:nvPicPr>
        <p:blipFill>
          <a:blip r:embed="rId3"/>
          <a:stretch/>
        </p:blipFill>
        <p:spPr>
          <a:xfrm>
            <a:off x="1523880" y="4038480"/>
            <a:ext cx="2214720" cy="838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5840" cy="19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Web Uygulamalarında</a:t>
            </a:r>
            <a:br>
              <a:rPr sz="2800"/>
            </a:br>
            <a:r>
              <a:rPr b="1" lang="tr-TR" sz="2800" spc="-1" strike="noStrike">
                <a:solidFill>
                  <a:srgbClr val="777777"/>
                </a:solidFill>
                <a:latin typeface="Tahoma"/>
              </a:rPr>
              <a:t>Güvenlik Problemler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038480" y="3124080"/>
            <a:ext cx="37339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969696"/>
                </a:solidFill>
                <a:latin typeface="Tahoma"/>
              </a:rPr>
              <a:t>B</a:t>
            </a:r>
            <a:r>
              <a:rPr b="1" lang="tr-TR" sz="1600" spc="-1" strike="noStrike">
                <a:solidFill>
                  <a:srgbClr val="969696"/>
                </a:solidFill>
                <a:latin typeface="Tahoma"/>
              </a:rPr>
              <a:t>ünyamin DEMİ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www.owasp.org/index.php/Turke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69696"/>
                </a:solidFill>
                <a:latin typeface="Tahoma"/>
              </a:rPr>
              <a:t>www.webguvenligi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4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969696"/>
                </a:solidFill>
                <a:latin typeface="Tahoma"/>
              </a:rPr>
              <a:t>bunyamin@owasp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532880" y="4876920"/>
            <a:ext cx="1677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777777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Ma</a:t>
            </a:r>
            <a:r>
              <a:rPr b="0" lang="tr-TR" sz="1800" spc="-1" strike="noStrike">
                <a:solidFill>
                  <a:srgbClr val="777777"/>
                </a:solidFill>
                <a:latin typeface="Arial"/>
              </a:rPr>
              <a:t>yıs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783BA8-82DB-4BCD-8330-17B54EA45A83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tored XSS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aldırgan tarafından girilen zararlı kod parçasının kurban tarafından çalıştırılmasından kaynaklanmakta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7010280" y="4495680"/>
            <a:ext cx="790560" cy="1200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1219320" y="4648320"/>
            <a:ext cx="628560" cy="104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3"/>
          <a:stretch/>
        </p:blipFill>
        <p:spPr>
          <a:xfrm>
            <a:off x="3809880" y="2590920"/>
            <a:ext cx="981360" cy="1095120"/>
          </a:xfrm>
          <a:prstGeom prst="rect">
            <a:avLst/>
          </a:prstGeom>
          <a:ln w="0">
            <a:noFill/>
          </a:ln>
        </p:spPr>
      </p:pic>
      <p:sp>
        <p:nvSpPr>
          <p:cNvPr id="224" name="Line 10"/>
          <p:cNvSpPr/>
          <p:nvPr/>
        </p:nvSpPr>
        <p:spPr>
          <a:xfrm flipH="1" flipV="1">
            <a:off x="4876920" y="3429000"/>
            <a:ext cx="220968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5314680" y="3276720"/>
            <a:ext cx="39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ir mesaj formı yardımıy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r-TR" sz="1800" spc="-1" strike="noStrike">
                <a:solidFill>
                  <a:srgbClr val="3333cc"/>
                </a:solidFill>
                <a:latin typeface="Arial"/>
              </a:rPr>
              <a:t>&lt;script&gt;zararlı kod&lt;/scrip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jekte edil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 flipV="1">
            <a:off x="1905120" y="35809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404800" y="4419720"/>
            <a:ext cx="34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2. Kullanıcı kendine g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esajı açmayı i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-35640" y="2666880"/>
            <a:ext cx="40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3. Mesaj açıldıktan sonr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esaj içindeki </a:t>
            </a:r>
            <a:r>
              <a:rPr b="0" lang="tr-TR" sz="1800" spc="-1" strike="noStrike">
                <a:solidFill>
                  <a:srgbClr val="3333cc"/>
                </a:solidFill>
                <a:latin typeface="Arial"/>
              </a:rPr>
              <a:t>&lt;script&gt;zararl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3333cc"/>
                </a:solidFill>
                <a:latin typeface="Arial"/>
              </a:rPr>
              <a:t>kod&lt;/script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&gt; client tarafı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çalış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6"/>
          <p:cNvSpPr/>
          <p:nvPr/>
        </p:nvSpPr>
        <p:spPr>
          <a:xfrm flipH="1">
            <a:off x="1752480" y="3429000"/>
            <a:ext cx="198144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B9916-B29F-41BC-BA43-9BB56B459F3F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tored XSS (Demo)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14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247920" cy="1323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2781360" cy="221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114720" cy="1257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"/>
          <p:cNvPicPr/>
          <p:nvPr/>
        </p:nvPicPr>
        <p:blipFill>
          <a:blip r:embed="rId4"/>
          <a:stretch/>
        </p:blipFill>
        <p:spPr>
          <a:xfrm>
            <a:off x="4505400" y="2743200"/>
            <a:ext cx="4638600" cy="22003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0"/>
          <p:cNvSpPr/>
          <p:nvPr/>
        </p:nvSpPr>
        <p:spPr>
          <a:xfrm>
            <a:off x="304920" y="121932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96840" y="304812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4648320" y="137160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4114800" y="3429000"/>
            <a:ext cx="3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5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18120" y="4648320"/>
            <a:ext cx="805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.Bruce olarak sisteme giril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2.Bilgileri güncellerken “street” alanında xss açığı olduğu tespit edilir ve zararl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kod parçaçığı yazıl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3. Yönetici olan Moe sisteme gir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4. Moe sisteme girdikten sonra kullanıcı profillerine bakarken Bruce`un girmi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lduğu zararlı kod parçacığı browser tarafından çalıştırıl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A8B893-FF9B-409D-9E17-5E9FCED4CE44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ql Injection (Demo)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313200" y="99072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ql Injection açığı bulunan bir formdan arka arkaya sql cümleciklerin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çalışma demos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67240" cy="923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4676760" cy="1533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/>
          <p:cNvPicPr/>
          <p:nvPr/>
        </p:nvPicPr>
        <p:blipFill>
          <a:blip r:embed="rId3"/>
          <a:stretch/>
        </p:blipFill>
        <p:spPr>
          <a:xfrm>
            <a:off x="1523880" y="3962520"/>
            <a:ext cx="5200920" cy="1628640"/>
          </a:xfrm>
          <a:prstGeom prst="rect">
            <a:avLst/>
          </a:prstGeom>
          <a:ln w="0">
            <a:noFill/>
          </a:ln>
        </p:spPr>
      </p:pic>
      <p:sp>
        <p:nvSpPr>
          <p:cNvPr id="247" name="Rounded Rectangle 23"/>
          <p:cNvSpPr/>
          <p:nvPr/>
        </p:nvSpPr>
        <p:spPr>
          <a:xfrm>
            <a:off x="3352680" y="5181480"/>
            <a:ext cx="762120" cy="2286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ounded Rectangle 23"/>
          <p:cNvSpPr/>
          <p:nvPr/>
        </p:nvSpPr>
        <p:spPr>
          <a:xfrm>
            <a:off x="5334120" y="3352680"/>
            <a:ext cx="761760" cy="2286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B6B128-A7E8-423B-81D7-163B1ECD3B70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lind Sql Inj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78840" y="990720"/>
            <a:ext cx="882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Web uygulamaları bazen gerçekleştirdikleri SQL sorgu sonuçlarını direk olar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cevapta barındırmazlar, ama sorguların sonuçları cevabın içeriğini değiştir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rnek olarak kimlik doğrulama ekranları, durum kontrol ekranları v.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u tür durumlarda SQL enjeksiyonu zafiyeti varsa yani ilgili SQL sorgusu dinam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larak oluşturuluyorsa, saldırganın önünde bu durumu exploit edebilmesi iç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yazacağı saldırı sorguları ile cevap farklılığı oluşturması gerekmekted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u farklılık sayesinde, oluşturduğu sql sorgularının doğru çalışıp çalışmadığın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nlayacak ve buna göre bilgiler çıkarmaya başlayacaktı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2" descr="C:\Users\cengiz\Desktop\mail.google.com.gif"/>
          <p:cNvPicPr/>
          <p:nvPr/>
        </p:nvPicPr>
        <p:blipFill>
          <a:blip r:embed="rId1"/>
          <a:stretch/>
        </p:blipFill>
        <p:spPr>
          <a:xfrm>
            <a:off x="1143000" y="4038480"/>
            <a:ext cx="5823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A3FAF-D05B-4DE8-9FE8-86D616029D65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lind Sql Injection (Demo)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31560" y="990720"/>
            <a:ext cx="89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orgu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SELECT field1, field2, field3 FROM Users WHERE Id='$id'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erekli Fonksiyonl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UBSTRING (text, start, length)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: klasik string manipulasyon fonksiyon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SCII (char)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: verilen char değerinin ascii int karşılığ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LENGTH (text)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: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klasik string uzunluk fonksiyon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$id -&gt; </a:t>
            </a: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1' AND ASCII(SUBSTRING(username,1,1))=97 AND '1'='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eğişen Sorgu: SELECT field1, field2, field3 FROM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WHERE Id='1'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SCII(SUBSTRING(username,1,1))=97 AND '1'='1'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Koyu kısım doğru dönerse içerik değişmeyecektir. Yanlış dönerse cevap değişecekt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ğal olarak bu işlem çok fazla istek gerektir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’; waitfor delay ‘0:0:5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ile sunucu 5 saniye geç cevap verir (MSSQ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F751E-A820-4E0D-B268-49C31B3C5025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Dökümanlar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 u="sng">
                <a:solidFill>
                  <a:srgbClr val="2d2db9"/>
                </a:solidFill>
                <a:uFillTx/>
                <a:latin typeface="Tahoma"/>
              </a:rPr>
              <a:t>http</a:t>
            </a:r>
            <a:r>
              <a:rPr b="0" lang="en-US" sz="1800" spc="-1" strike="noStrike" u="sng">
                <a:solidFill>
                  <a:srgbClr val="2d2db9"/>
                </a:solidFill>
                <a:uFillTx/>
                <a:latin typeface="Tahoma"/>
              </a:rPr>
              <a:t>://www.owasp.org/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ltınd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Web Uygulamalarında XSS’i Önlemek İçi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 u="sng">
                <a:solidFill>
                  <a:srgbClr val="2d2db9"/>
                </a:solidFill>
                <a:uFillTx/>
                <a:latin typeface="Tahoma"/>
                <a:ea typeface="AR PL ShanHeiSun Uni"/>
              </a:rPr>
              <a:t>index.php/XSS_%28Cross_Site_Scripting%29_Prevention_Cheat_She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Web Uygulamalarında SQL Enjeksiyonu’nu Önlemek İçi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 u="sng">
                <a:solidFill>
                  <a:srgbClr val="2d2db9"/>
                </a:solidFill>
                <a:uFillTx/>
                <a:latin typeface="Tahoma"/>
                <a:ea typeface="AR PL ShanHeiSun Uni"/>
              </a:rPr>
              <a:t>index.php/SQL_Injection_Prevention_Cheat_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Web Uygulamalarını Güvenlik Açıklarına Karşı Denetlemek İçin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2d2db9"/>
                </a:solidFill>
                <a:uFillTx/>
                <a:latin typeface="Tahoma"/>
                <a:ea typeface="AR PL ShanHeiSun Uni"/>
              </a:rPr>
              <a:t>index.php/Category:OWASP_Testing_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17DBD9-CF3E-434B-ABC9-EA19A602F7AF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Algoritma Analizi ve Karmaşıklı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28600" y="11430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78000" indent="-378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Neden algoritmayı analiz ederiz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3560" indent="-38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lgorit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manı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perfo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rmansını ölçmek iç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3560" indent="-38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Farklı algoritmalarla karşılaştırmak iç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3560" indent="-38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Daha iyisi mümkün mü? Olabileceklerin en iyisi m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zelliklerinin anali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3560" indent="-38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  <a:ea typeface="AR PL ShanHeiSun Uni"/>
              </a:rPr>
              <a:t>Algoritmanın çalışma zaman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3560" indent="-38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Hafızada kapladığı a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228600" y="32767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Algoritmalarda Kamaşıklık: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ir algoritmanın hesaplama karmaşıklığının değerlendirilmesi algoritmanın çalışma hızı ve bellekte kapladığı alan ile ilgili bilgiler verir. Hesaplama karmaşıklığı iki açıdan incelebilir: </a:t>
            </a: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zaman karmaşıklığı(time complexity)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ve alan karmaşıklığı(space complexity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Zaman karmaşıklığı (Büyüme Hızı) </a:t>
            </a:r>
            <a:r>
              <a:rPr b="0" i="1" lang="tr-TR" sz="1800" spc="-1" strike="noStrike">
                <a:solidFill>
                  <a:srgbClr val="000000"/>
                </a:solidFill>
                <a:latin typeface="Tahoma"/>
              </a:rPr>
              <a:t>Büyük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-O notasyonu ile gösteril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üyüme hız bir algoritmanın performansını yansıtan en iyi gösterged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tr-TR" sz="1800" spc="-1" strike="noStrike">
                <a:solidFill>
                  <a:srgbClr val="000000"/>
                </a:solidFill>
                <a:latin typeface="Arial"/>
              </a:rPr>
              <a:t>Büyük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girdi verisinin büyüklüğünü gösteren bir N parametresine   dayanan bir fonksiyond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Örneğin n değerine bağlı olarak performansı (sabit a, b, c değerleri için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 PL ShanHeiSun Un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+ 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+ c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lan bir algoritmanın performans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(</a:t>
            </a:r>
            <a:r>
              <a:rPr b="0" i="1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 PL ShanHeiSun Un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)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’d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3FDFF4-29D4-46BC-8BA0-6C39A4BBD903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ık Kullanılan Büyüme Hızlar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80880" y="1371600"/>
          <a:ext cx="8091720" cy="3475080"/>
        </p:xfrm>
        <a:graphic>
          <a:graphicData uri="http://schemas.openxmlformats.org/drawingml/2006/table">
            <a:tbl>
              <a:tblPr/>
              <a:tblGrid>
                <a:gridCol w="294804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man karmaşıklığ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Örn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b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ğlı listeye ilk eleman olarak ekleme yap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O(log </a:t>
                      </a:r>
                      <a:r>
                        <a:rPr b="0" i="1" lang="en-GB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)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</a:t>
                      </a:r>
                      <a:r>
                        <a:rPr b="0" i="1" lang="en-GB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lo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ıralı bir dizide bir eleman a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ralı olmayan bir dizide bir eleman a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log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-log-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 elemanı böl-parçala-yut yöntemiyle sıral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i="1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kinci derecede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r grafikte iki düğüm arasındaki en kısa yolu bul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i="1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tr-TR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üçüncü derece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darda  gerçekleştirilen lineer denklem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i="1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üs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oi’nin Kuleleri problem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25373B-6586-4371-B3D6-EB4D1C841797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İkili Arama (Binary Search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92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78000" indent="-378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Problem çözümlerinde böl ve yönet prensibine dayan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Problemin büyüklüğünü belli oranda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geneld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½)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azaltmak için sabit bir zaman harcanıyorsa bu algoritma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’dir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u algoritmada verilen veriler artan şekilde sıralanmış olmalıd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ler tamsayı ise en küçükten en büyüğe doğru sıralanmış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kelime iseler alfabetik olarak sıralı şekilded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öyle bir veri kümesinde bir eleman aranması için algoritma ikili aramad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•    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kili arama algoritmasının mantığı; sıralı veri kümesi ortadan iki </a:t>
            </a: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kümeye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ayrılarak bulunması istenen veri bu alt kümelerden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hangisinin içerisinde 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labileceğinin kontrolü prensibine bağlıd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•     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rama işlemi alt kümelerde tekrarlanarak bulunması gerekli o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 bulunmaya çalışıl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4AA71-2E3B-4CFC-A486-6106FF57A1BE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İkili Arama Örneğ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3809880" y="762120"/>
            <a:ext cx="502920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5562720" cy="27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E9525-B39A-4CC4-8B9F-22F9369D0042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İçer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387440"/>
            <a:ext cx="3962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WAS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Nedir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Neler Yapar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OWASP-TR &amp;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G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maç ve Hedefl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Projel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ebGo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Nedir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Kurul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Path Based Access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X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QL Inj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lind SQL Inj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572000" y="1295280"/>
            <a:ext cx="419112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Güvenlik Zaafiyeti ve İkili Ar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Algoritma Analizi ve Karmaşıklı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İkili Arama (Binary Searc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Blind SQL Injection ve Binary Sear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Blind SQL Injection için Binary Search Optimizasyo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3D45E-710E-416C-8A83-F0AA625F4F33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lind SQL Injection &amp; Binary Sear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04920" y="1219320"/>
            <a:ext cx="8381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orgu: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eğişen Sorgu: SELECT field1, field2, field3 FROM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WHERE Id='1'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SCII(SUBSTRING(username,1,1))=97 AND '1'='1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SCII karakter kümesinde 97, ‘a’ harfine denk gelmektedir.  Her bir karakterin kontrolü yapıl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lk karakterin doğruluğunun ölçülebilmesi için (ASCII okunabilir karakter kümesi aralığı 32-126 dı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f(n) = Θ(log 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f(126-32) = Θ(log (126-32))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~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7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 karşılaştırmada karakterin doğruluğuna erişil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ilyon tane karakter için ne yapılabili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24272B-5303-4796-87B3-6E1F74A7B78C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lind SQL Injection için Binary Search Optimizasyon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920" y="1219320"/>
            <a:ext cx="8381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  <a:ea typeface="AR PL ShanHeiSun Uni"/>
              </a:rPr>
              <a:t>Normal karakter kümesi boyutu ASCII 126 'dan 32'ye kadar : 94 karak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Uppercase,Lowercase gibi dbms fonksiyonları ile karakter kümesi dörtte birine indirilebil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SCII 65-90 (A-Z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(90-65) = </a:t>
            </a:r>
            <a:r>
              <a:rPr b="0" lang="tr-TR" sz="1800" spc="-1" strike="noStrike">
                <a:solidFill>
                  <a:srgbClr val="000000"/>
                </a:solidFill>
                <a:latin typeface="DejaVu Sans"/>
                <a:ea typeface="AR PL ShanHeiSun Uni"/>
              </a:rPr>
              <a:t>Θ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log (90-65)) = ~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arklı ikili arama ağaçları tanımlanarak istekte bulunulur. Örneğin; öyle bir      binary tree oluşturulurki, sol tarafta harfler, sağ tarafta sayılar olur. Sayısal Dolayısıyla sayısal ifadelerin çok geçtiği isterler için daha hızlı sonuçlar verecekt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59FD8-C9D4-4F32-B5A4-D3DD53EF3387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Kaynakla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04920" y="1219320"/>
            <a:ext cx="8381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29384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QLiBench</a:t>
            </a:r>
            <a:br>
              <a:rPr sz="2000"/>
            </a:br>
            <a:r>
              <a:rPr b="0" lang="tr-TR" sz="2000" spc="-1" strike="noStrike">
                <a:solidFill>
                  <a:srgbClr val="ccccff"/>
                </a:solidFill>
                <a:latin typeface="Arial"/>
                <a:ea typeface="AR PL ShanHeiSun Uni"/>
              </a:rPr>
              <a:t>http://code.google.com/p/sqlibench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384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WASP Project</a:t>
            </a:r>
            <a:br>
              <a:rPr sz="2000"/>
            </a:br>
            <a:r>
              <a:rPr b="0" lang="tr-TR" sz="2000" spc="-1" strike="noStrike">
                <a:solidFill>
                  <a:srgbClr val="ccccff"/>
                </a:solidFill>
                <a:latin typeface="Arial"/>
                <a:ea typeface="AR PL ShanHeiSun Uni"/>
              </a:rPr>
              <a:t>http://www.owasp.org/index.php/Category:OWASP_Sqlibench_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384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inary Tree Applet http://webpages.ull.es/users/jriera/Docencia/AVL/AVL%20tree%20applet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3840">
              <a:lnSpc>
                <a:spcPct val="97000"/>
              </a:lnSpc>
              <a:spcBef>
                <a:spcPts val="550"/>
              </a:spcBef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edirhan Urgun – General Binary Search Algorithm http://www.webguvenligi.org/sqlibench/on_general_binary_search_sqli_algorithm_theo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3840">
              <a:lnSpc>
                <a:spcPct val="100000"/>
              </a:lnSpc>
              <a:tabLst>
                <a:tab algn="l" pos="0"/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93840"/>
                <a:tab algn="l" pos="1751040"/>
                <a:tab algn="l" pos="2208240"/>
                <a:tab algn="l" pos="2665440"/>
                <a:tab algn="l" pos="3122640"/>
                <a:tab algn="l" pos="3579840"/>
                <a:tab algn="l" pos="4037040"/>
                <a:tab algn="l" pos="4494240"/>
                <a:tab algn="l" pos="4951440"/>
                <a:tab algn="l" pos="5408640"/>
                <a:tab algn="l" pos="5865840"/>
                <a:tab algn="l" pos="6323040"/>
                <a:tab algn="l" pos="6780240"/>
                <a:tab algn="l" pos="7237440"/>
                <a:tab algn="l" pos="7694640"/>
                <a:tab algn="l" pos="8151840"/>
                <a:tab algn="l" pos="8609040"/>
                <a:tab algn="l" pos="9066240"/>
                <a:tab algn="l" pos="9523440"/>
                <a:tab algn="l" pos="9980640"/>
                <a:tab algn="l" pos="1043784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2B175-8FF4-4931-8FDE-33D0A4E1F602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2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Teşekkürl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57200" y="2743200"/>
            <a:ext cx="8458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ahoma"/>
              </a:rPr>
              <a:t>www.webguvenligi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ww.owasp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-posta l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ste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ine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kayıt olmak iç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000" spc="-1" strike="noStrike">
                <a:solidFill>
                  <a:srgbClr val="ff3300"/>
                </a:solidFill>
                <a:latin typeface="Tahoma"/>
              </a:rPr>
              <a:t>google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wasp turkey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il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11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6" descr="owasptr.gif"/>
          <p:cNvPicPr/>
          <p:nvPr/>
        </p:nvPicPr>
        <p:blipFill>
          <a:blip r:embed="rId2"/>
          <a:stretch/>
        </p:blipFill>
        <p:spPr>
          <a:xfrm>
            <a:off x="5715000" y="1600200"/>
            <a:ext cx="2666880" cy="10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FC9170-2B2E-4846-9027-684C4E8F984E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WASP – Nedi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pen Web Application Security Projest (OWASP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üvensiz yazılımların sebep oldukları açıkları bulup, bunlarla mücadele eden bir topluluk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üm OWASP ürünleri ücretsiz ve açı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ar amacı gütm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pluluga ait rak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0+ (Chapter)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0+ Spon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0+ Pro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0+ E-posta list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ylık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eş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milyon üzerinde ziyar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00AFB-4C5C-400D-9872-818BE92A81BA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WASP Neler Yapa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2133720" y="1371600"/>
            <a:ext cx="4952880" cy="4952880"/>
          </a:xfrm>
          <a:prstGeom prst="pie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4572000" y="1219320"/>
            <a:ext cx="44280" cy="22096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2208240" y="3733920"/>
            <a:ext cx="2441520" cy="1218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4648320" y="3733920"/>
            <a:ext cx="2514600" cy="1218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345840" y="3198960"/>
            <a:ext cx="1011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raç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3320" y="4419720"/>
            <a:ext cx="1183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oplul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016960" y="3200400"/>
            <a:ext cx="1610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öküman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5638680" y="12952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esting Gui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 flipH="1">
            <a:off x="835920" y="502920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6" y="-21375"/>
                </a:moveTo>
                <a:lnTo>
                  <a:pt x="-772" y="8100"/>
                </a:lnTo>
              </a:path>
              <a:path w="21600" h="21600">
                <a:moveTo>
                  <a:pt x="-772" y="0"/>
                </a:moveTo>
                <a:lnTo>
                  <a:pt x="-772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i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 flipH="1">
            <a:off x="1219320" y="13716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Go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flipH="1">
            <a:off x="990720" y="18288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Scar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 flipH="1">
            <a:off x="990720" y="54864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09" y="-24300"/>
                </a:moveTo>
                <a:lnTo>
                  <a:pt x="-772" y="8100"/>
                </a:lnTo>
              </a:path>
              <a:path w="21600" h="21600">
                <a:moveTo>
                  <a:pt x="-772" y="0"/>
                </a:moveTo>
                <a:lnTo>
                  <a:pt x="-772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ölgeler (chapters)</a:t>
            </a: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 flipH="1">
            <a:off x="6248520" y="495288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30" y="-22050"/>
                </a:moveTo>
                <a:lnTo>
                  <a:pt x="22371" y="81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Günlükler (blogs)</a:t>
            </a: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 flipH="1">
            <a:off x="6093720" y="54100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30" y="-22050"/>
                </a:moveTo>
                <a:lnTo>
                  <a:pt x="22371" y="81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Çeviri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 flipH="1">
            <a:off x="5942160" y="586728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30" y="-22050"/>
                </a:moveTo>
                <a:lnTo>
                  <a:pt x="22371" y="81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Konferans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 flipH="1">
            <a:off x="1293120" y="58672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09" y="-24300"/>
                </a:moveTo>
                <a:lnTo>
                  <a:pt x="-772" y="8100"/>
                </a:lnTo>
              </a:path>
              <a:path w="21600" h="21600">
                <a:moveTo>
                  <a:pt x="-772" y="0"/>
                </a:moveTo>
                <a:lnTo>
                  <a:pt x="-772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um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5867280" y="17524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op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6324480" y="2209680"/>
            <a:ext cx="21337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6705720" y="266688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ppSec FA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6858000" y="3276720"/>
            <a:ext cx="213372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etr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6858000" y="3733920"/>
            <a:ext cx="213372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3"/>
          <p:cNvSpPr/>
          <p:nvPr/>
        </p:nvSpPr>
        <p:spPr>
          <a:xfrm flipH="1">
            <a:off x="762120" y="22860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ive C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4"/>
          <p:cNvSpPr/>
          <p:nvPr/>
        </p:nvSpPr>
        <p:spPr>
          <a:xfrm flipH="1">
            <a:off x="455760" y="27432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NET Resear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5"/>
          <p:cNvSpPr/>
          <p:nvPr/>
        </p:nvSpPr>
        <p:spPr>
          <a:xfrm flipH="1">
            <a:off x="227160" y="32004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AP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6"/>
          <p:cNvSpPr/>
          <p:nvPr/>
        </p:nvSpPr>
        <p:spPr>
          <a:xfrm flipH="1">
            <a:off x="76320" y="3657600"/>
            <a:ext cx="21333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30" y="41963"/>
                </a:moveTo>
                <a:lnTo>
                  <a:pt x="-771" y="81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34190-C9EA-4C1E-B3B9-A1AE385A381A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WASP-T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 WGT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ma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ç ve Hedefl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 uygulaması güvenliğine ülkemizde gerekli duyarlılığın gösterilmesini sağlama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 uygulaması güvenliği konusunda çalışan ve ilgi duyan arkadaşları bir platformda toplama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Güvenlik konulu makaleler, dökümanlar ve projelere yer ve destek sağlamak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 uygulamalarının ortaya çıkardığı zararları en aza indirme yolunda çalışmalar yapma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ünyada yapılan web uygulaması güvenliği konulu çalışmaların takibini sağlama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WASP Vakfının Türkiye çalışmalarını sürdürm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 uygulaması güvenliği projeleri geliştirmek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 uygulaması güvenliği alanında yardımcı dökümanlar temin etmek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Özel ve kamu kuruluşları arası güvenlik konulu çalışmalar yapmak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luslararası konferanslar düzenlemek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çık kaynak kodlu güvelik çalışmalarına destek vermek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Üniversitelerimizde uygulamalı web güvenliği farkındalığı eğitimleri vermek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6E2C8E-5CE4-4FF1-9347-CA42F27D0C0F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WASP-T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/ WGT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jelerimiz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Jarvinen (Web tabanlı ModSecurity log analiz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wasp-We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kci (SoC 2008)</a:t>
            </a: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‏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ve MSALPar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CAMMP (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hroot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pache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ysql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odSecurity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H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ecureImage (.NET, Java ve PHP AP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ecureTomcat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(Tomcat J2EE sunucu güvenlik denetim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Çeviri Projesi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(~500 sayfa doküm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tomatize Sql Entektörleri Analizi (SoC 2008)</a:t>
            </a: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ntiCsurf (Cross Side Request Forgery için PHP API`s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pacheLive (Apache sunucusunun Keep-alive parametresi için güvenlik kontrolü yapan bir araçtı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eb Güvenliği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Terimler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özlüğ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IVET (Web Crawler’ın Teknik Yeteneklerinin Ölçülmesi ve Karşılaştırılması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1DDCC2-94A7-4999-B506-6298FA234B1B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WebGo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Güvenlik açıklıkları barındıran bir OWASP projesidir (J2EE ile yazılmıştır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Web uygulama güveliği bilincini arttırmak için hazırlanmış bir eğitim aracıdır. Bu araç sayesinde açıklıkları anlayabilme ve bunları exploit edebilme yeteneği kazandırılmak istenmekted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Yüzlerce açıklık içermekte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çıklıkların detaylı çözümleri ve bu açıklıkları çözmek için yardımcı ipuçları barındır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çıklıklar belli kategorilerde sunulmakta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Kolayca yeni açıklıklar ilave edilebil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Güvenlik testleri için ideal bir çalışma ortamı sunul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Kolay kuruluma sahipt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5766BB-9C91-46EB-93B3-AE05DB78C166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WebGoat Kurulum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ebGoat Proje Sayfas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tr-TR" sz="1400" spc="-1" strike="noStrike" u="sng">
                <a:solidFill>
                  <a:srgbClr val="2d2db9"/>
                </a:solidFill>
                <a:uFillTx/>
                <a:latin typeface="Tahoma"/>
              </a:rPr>
              <a:t>http://www.owasp.org/index.php/Category:OWASP_WebGoat_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ebGoat-OWASP_Standard-5.2 indirilir. Webgoat.bat çalıştırılı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2d2db9"/>
                </a:solidFill>
                <a:uFillTx/>
                <a:latin typeface="Tahoma"/>
              </a:rPr>
              <a:t>http://localhost/WebGoat/att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Kullanıcı adı: </a:t>
            </a:r>
            <a:r>
              <a:rPr b="0" i="1" lang="tr-TR" sz="1400" spc="-1" strike="noStrike">
                <a:solidFill>
                  <a:srgbClr val="000000"/>
                </a:solidFill>
                <a:latin typeface="Tahoma"/>
              </a:rPr>
              <a:t>guest</a:t>
            </a: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      Şifre: </a:t>
            </a:r>
            <a:r>
              <a:rPr b="0" i="1" lang="tr-TR" sz="1400" spc="-1" strike="noStrike">
                <a:solidFill>
                  <a:srgbClr val="000000"/>
                </a:solidFill>
                <a:latin typeface="Tahoma"/>
              </a:rPr>
              <a:t>gu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ebScarab Proje Sayfas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2d2db9"/>
                </a:solidFill>
                <a:uFillTx/>
                <a:latin typeface="Tahoma"/>
              </a:rPr>
              <a:t>http://www.owasp.org/index.php/Category:OWASP_WebScarab_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scarab-installer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indirilir ve kolay şekilde kurul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ebScarab ile HTPP ve HTTPS trafiği izlenir ve araya girme imkanı sağl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WebScarab aracını proxy (vekil sunucu) olarak kullanmak iç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refo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Araçla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Seçenekle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Gelişmiş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Ağ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Ayarl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Vekil Sunucu Ayarları kısmı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host, port 8008</a:t>
            </a:r>
            <a:r>
              <a:rPr b="0" lang="tr-TR" sz="1200" spc="-1" strike="noStrike">
                <a:solidFill>
                  <a:srgbClr val="000000"/>
                </a:solidFill>
                <a:latin typeface="Tahoma"/>
              </a:rPr>
              <a:t>” yazılmalıdı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Scar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xy &gt; Intercept Reques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8585280" y="6308640"/>
            <a:ext cx="40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E426AE-12B6-4E13-BC78-DC77C41419E2}" type="slidenum">
              <a:rPr b="1" lang="en-GB" sz="1000" spc="-1" strike="noStrike">
                <a:solidFill>
                  <a:srgbClr val="969696"/>
                </a:solidFill>
                <a:latin typeface="Tahoma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Path Based Access Control  (Demo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eb uygulamalarında özellikle dizinlerden dosya okuturken karşımıza çıkan bir güvenlik açığı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Erişim sağlanan dizinin dışına çıkma imkanı varsa, bu imkan sayesinde stahmin edilen bazı dosyalara izinsiz erişim sağlan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../main.jsp ye erişim sağlan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657600" cy="337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Williams</dc:creator>
  <dc:description>http://www.owasp.org</dc:description>
  <cp:keywords>Application Security</cp:keywords>
  <dc:language>en-US</dc:language>
  <cp:lastModifiedBy>cengiz</cp:lastModifiedBy>
  <dcterms:modified xsi:type="dcterms:W3CDTF">2009-05-13T08:36:48Z</dcterms:modified>
  <cp:revision>330</cp:revision>
  <dc:subject/>
  <dc:title>OWASP Plan - Strawman</dc:title>
</cp:coreProperties>
</file>