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56DB-660A-4EB8-A8D6-AEA1CC50F78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DA6-3316-49B8-B47F-5E424CB38A63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146B-6D75-4F8A-AC71-575AEA4BDB0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46BE-B9E6-41A6-B63D-2BED41D5EF2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2A02-569A-4243-A712-9D7115879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F7F7-70D7-475A-9143-1F6A1BF33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D674-B93D-4794-8B49-67E8A0DA2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1343-1FF3-49ED-A2BF-1F3CA306C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1700-EC95-43AA-9ACE-DBADE2E88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E654-C6F1-4CA4-B781-CB6C678D1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71D7-7CA9-4AE0-B5B9-C3654BD62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D9CE-CD77-4FD6-8CF4-5A93092A6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DBCF-C98F-4984-8047-EFD2D788A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8F8F-9FFC-4BBC-8EF0-8819C71C5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2E0D-5685-465C-9C95-D6AA5BD14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3F68-E241-47CD-A53E-BCC3C2B7A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C898-7DD7-4256-B483-74C7D217371F}" type="slidenum">
              <a:rPr b="1" lang="tr-TR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wasptr.gif"/>
          <p:cNvPicPr/>
          <p:nvPr/>
        </p:nvPicPr>
        <p:blipFill>
          <a:blip r:embed="rId2"/>
          <a:stretch/>
        </p:blipFill>
        <p:spPr>
          <a:xfrm>
            <a:off x="7238880" y="6172200"/>
            <a:ext cx="129564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 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İLK 10 ZAFİY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071960" y="33577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Web Güvenlik Topluluğ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OWASP-</a:t>
            </a: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T</a:t>
            </a: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ürki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topten_turkce.gif"/>
          <p:cNvPicPr/>
          <p:nvPr/>
        </p:nvPicPr>
        <p:blipFill>
          <a:blip r:embed="rId1"/>
          <a:stretch/>
        </p:blipFill>
        <p:spPr>
          <a:xfrm>
            <a:off x="1428840" y="714240"/>
            <a:ext cx="3000240" cy="3467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4566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SİTELER ÖTESİ İSTEK SAHTECİLİĞİ CSRF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571400"/>
            <a:ext cx="712296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SRF saldırıları; sisteme giriş yapmış kurbana ait tarayıcının, aynı web uygulamasına sonradan saldırganın yararına olacak, özel olarak hazırlanmış ve önceden d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ulanmış bir istek göndermesine sebep ol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SRF, saldırdı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ı web uygulaması kadar güçlü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4BB-33A6-4BD4-B76E-8904F5B0A4DF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CSRF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720" y="1647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Uygulamalarda XSS açıklıklarının yok edil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7080" indent="-307080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Her form ve URL’ye özel tokenlar konulması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7080" indent="-307080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Hassas veri transferlerinde veya işlemlerinde yeniden kimlik doğrulaması isten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7080" indent="-307080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Hassas veri transferlerinde veya işlemlerinde GET metodunun </a:t>
            </a:r>
            <a:r>
              <a:rPr b="1" lang="tr-TR" sz="30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7080" indent="-307080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Sadece POST metoduna </a:t>
            </a:r>
            <a:r>
              <a:rPr b="1" lang="tr-TR" sz="3000" spc="-1" strike="noStrike">
                <a:solidFill>
                  <a:srgbClr val="000000"/>
                </a:solidFill>
                <a:latin typeface="Tahoma"/>
              </a:rPr>
              <a:t>güvenilme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7080" indent="-307080" algn="just"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EC6E-AF56-49CB-961A-7A8042DC76C6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BİLGİ İFŞASI 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YETERSİZ HATA YÖNETİMİ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357200"/>
            <a:ext cx="712296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ygulamalar istemeden de olsa yapılandırmaları, iç işleyişleri hakkında bilgi sızdırabilir veya uygulama sorunlarından dolayı güvenlik ihlallerine yol açabili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ldırganlar, bu zayıflıkları sonradan daha ciddi saldırılar gerçekleştirmek veya önemli bilgileri çalmak için kullan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A80-394C-4523-9BA0-224F278FAD72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ilgi İfşası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2720" y="1647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ütün geliştirici takımının hata yönetiminde aynı yolu izlediğine emin olu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ütün katmanlardan gelen detaylı hata mesajlarına izin verilmemesi / kısıtlandır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Varsayılı hata mesajlarında HTTP 200 dönmesinin s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12F-454B-40E5-B583-5C5B53536A96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100" spc="-1" strike="noStrike">
                <a:solidFill>
                  <a:srgbClr val="000000"/>
                </a:solidFill>
                <a:latin typeface="Tahoma"/>
              </a:rPr>
              <a:t>YETERSİZ KİMLİK DO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1" lang="tr-TR" sz="3100" spc="-1" strike="noStrike">
                <a:solidFill>
                  <a:srgbClr val="000000"/>
                </a:solidFill>
                <a:latin typeface="Tahoma"/>
              </a:rPr>
              <a:t>RULAMA</a:t>
            </a:r>
            <a:br>
              <a:rPr sz="3100"/>
            </a:br>
            <a:r>
              <a:rPr b="1" lang="tr-TR" sz="3100" spc="-1" strike="noStrike">
                <a:solidFill>
                  <a:srgbClr val="000000"/>
                </a:solidFill>
                <a:latin typeface="Tahoma"/>
              </a:rPr>
              <a:t>OTURUM YÖNETİMİ</a:t>
            </a:r>
            <a:endParaRPr b="1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sap bilgileri ve oturum anahtarları ç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 zaman düzgün olarak korunmamakta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ldırganlar şifreleri ve kimlik denetimi anahtarlarını kullanıcının di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r bilgilerini elde etmek için kullanabili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DD07-8FA1-4530-87BD-12B184AAE071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Kimlik Do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ulama / Oturum Yönetimi Korunm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2720" y="1647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unucunun sağladığı oturum yönetimi mekanizmalarını kullanı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Önceden verilmiş, yeni veya hatalı oturum bilgilerinin kabul edilmem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Özel cookielerin kimlik doğrulama ve oturum yönetimi işlemleri için 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imlik doğrulama sonrası yeni bir cookie oluştu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D48-98D6-4D92-AB23-57C66660F905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Kimlik Doğrulama / Oturum Yönetimi Korunm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2720" y="1647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Zaman aşımı kontrollerinin uygu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ifre değişiminde eski şifrenin soru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ahtesi üretilebilecek bilgileri kimlik doğrulamada güvenmeyin (Referer, IP, DNS isimler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693-0BFE-4C5B-82B4-111F3F41AF06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900" spc="-1" strike="noStrike">
                <a:solidFill>
                  <a:srgbClr val="000000"/>
                </a:solidFill>
                <a:latin typeface="Tahoma"/>
              </a:rPr>
              <a:t>GÜVENSİZ KRİPTOĞRAFİK DEPOLAMA</a:t>
            </a: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6840" y="1643040"/>
            <a:ext cx="7123320" cy="24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uygulamaları verilerin ve bilgilerin güvenli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i sağlamak için nadiren kriptografik fonksiyonları kullan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ldırganlar zayıf korunan veriyi, kimlik hırsızlı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ı ve kredi kartı dolandırıcılığı gibi di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r suçları işlemek için kullan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A74-ABE7-48B3-8E10-EC52C3D72B2E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siz Kriptoğrafi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400" y="1647360"/>
            <a:ext cx="871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işisel kripto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afik algoritmalar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Zayıf kripto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afik algoritmaların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rivate key’lerin dikkatlice sak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rka uç hassas bilgilerinin dikkatlice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k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rekmeyen bilginin kesinlikle 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aklanma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A68B-80FC-4B9B-80B2-A67B2891271D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GÜVENSİZ İLETİŞİM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6840" y="1714680"/>
            <a:ext cx="7123320" cy="26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ygulamalar sıklıkla hassas bağlantıların korunması gerektiğinde a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rafiğini şifrelemede başarısız olu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Şifreleme (genellikle SSL) bütün bağlantıların kimlik doğrulaması için özellikle hem internet erişimi olan web sayfaları için hem de sunucu uygulamaları için kullanılmak zorunda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662-6CC7-4D60-934D-51C9B649413B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4572000"/>
            <a:ext cx="83581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OSS SITE SCRIPTING</a:t>
            </a: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 - XS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6840" y="1785600"/>
            <a:ext cx="7123320" cy="24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ygulamanın kullanıcıdan veri alması ve bunları herhangi bir kodlama ya da d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ulama işlemine tabi tutmadan sayfaya göndermesi ile oluş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urbanın tarayıcısında oturum bilgilerinin çalınmasına, web sayfasının tahrif edilmesine, solucan yüklenmesine, v.b. sebep ol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899-BD2B-4AD1-9F3D-D1079356F529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siz İletişim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2360" y="1647360"/>
            <a:ext cx="831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imlik doğrulama ve diğer hassas bilgilerin işlendiği trafiklerde SSL kullan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rka uç sistemlerdeki bağlantılarda SSL kullan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CAC2-8EA5-485B-8A73-56915C64B3F7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4566960"/>
            <a:ext cx="82868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Tahoma"/>
              </a:rPr>
              <a:t>YETERSİZ URL ERİŞİMİ KISITLAMA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6840" y="1785600"/>
            <a:ext cx="7123320" cy="26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ygulamalar hassas fonksiyonelliklerini korumak için ç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nlukla linkleri veya URL’leri yetkilendirilmemiş kullanıcılara göstermemeyi seçe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ldırganlar bu URL’lere d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udan erişerek, yetkisi olmayan işlemleri gerçekleştirmek için bu zayıflı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ı kullanabilir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6712-51F1-447E-AAC6-8F7707FC17A7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Yetkisizi URL Erişimi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2360" y="1647360"/>
            <a:ext cx="831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Yetkilendirme matrisinin güçlü bir şekilde kullanılması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Uygulamaya penetrasyon testi gerçekleştiril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izli URL’lere ve HTML parametrelere </a:t>
            </a:r>
            <a:r>
              <a:rPr b="1" lang="tr-TR" sz="3000" spc="-1" strike="noStrike">
                <a:solidFill>
                  <a:srgbClr val="000000"/>
                </a:solidFill>
                <a:latin typeface="Tahoma"/>
              </a:rPr>
              <a:t>güvenilme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Sunucunun anlamadığı bütün dosya uzantılarına önle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Yamaların ve virüs korumasının yenilenme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66A-B7AB-4836-B6B0-EF8614BABB74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0" spc="-1" strike="noStrike">
                <a:solidFill>
                  <a:srgbClr val="262626"/>
                </a:solidFill>
                <a:latin typeface="Tahoma"/>
              </a:rPr>
              <a:t>webguvenligi.org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0" spc="-1" strike="noStrike">
                <a:solidFill>
                  <a:srgbClr val="262626"/>
                </a:solidFill>
                <a:latin typeface="Tahoma"/>
              </a:rPr>
              <a:t>owasp.org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262626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609-04F7-4692-827F-8509BEBA7790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XSS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en verilerin do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u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ıkan verilerin kodlanması (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TML/URL Kodlama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ayfa kodlamalarının belirtilmesi (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TF8/ISO-8859-9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ra liste yöntemlerinin 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Varsayılan hata çıktılarının izlenm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odlama standartlarının yanlış 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6C4-097F-4ACD-936D-B80B508D1B2F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ENJEKSİYON HATALARI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njeksiyon, kullanıcı tarafından alınan verinin yorumlayıcıya (interpreter) komut ya da sorgunun bir parçası olarak gönderilmesi durumda oluş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zellikle SQL enjeksiyonuna web sitelerinde sıkça rastlanmaktadı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5499-C3E9-4F79-8273-6DE34ACB212B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Enjeksiyon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571760"/>
            <a:ext cx="85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en verilerin do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u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rametrelenmiş sorgu API’larının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ullan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inamik sorgu tiplerinin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inimum hak prensibinin uygu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etaylı hata mesajlarının önlenm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odlama standartlarının yanlış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kullanılm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B82-4E80-4E3D-BEF5-1333A2492C3F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ZARARLI DOSYA ÇALIŞTIRM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885680"/>
            <a:ext cx="712296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Zararlı dosya çalıştırılması, kullanıcıdan dosya adı veya dosya kabul eden PHP, XML veya diğer uygulama çatılarını etkiley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zellikle PHP uygulamalarında RFI saldırılarına sıkça rastlanmakt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3443-24DD-46B2-A6D2-673056D4E64B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Zararlı Dosya Çalıştırma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1571760"/>
            <a:ext cx="8715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olaylı nesne referans haritası kullan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en verilerin do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u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nucular için güvenlik duvarı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ralları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ygulan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unucularda 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chroot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kullan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HP yapılandırma sıkılaştırmalarının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501-391C-46ED-8903-601E5DD09FAF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4692240"/>
            <a:ext cx="8358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SİZ DOĞRUDAN KAYNAK REFERANS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928520"/>
            <a:ext cx="7122960" cy="24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udan Kaynak Referansı; geliştirici dosya, dizin, veritabanı kaydı gibi bir bilgiyi URL veya form parametresi olarak alıp bunu uygulamaya referans olarak tanımladığı zaman oluş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öylece saldırgan referansı manipüle ederek yetkisi olmayan nesnelere eri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286-6B68-4D36-AC29-8BBB2C904665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Kaynak Referansı – Korunm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2720" y="1647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assas nesne referanslarının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gösterilme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assas nesne referanslarının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ğrulan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ferans verilmiş bütün nesnelerin yetkilendirme kontrollerinin yapıl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585280" y="6308640"/>
            <a:ext cx="40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6FC-9CD4-439C-9B1B-04B8ABF32816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2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urkcell İletişim Hizmetleri A.Ş.</cp:lastModifiedBy>
  <dcterms:modified xsi:type="dcterms:W3CDTF">2008-12-16T08:00:25Z</dcterms:modified>
  <cp:revision>491</cp:revision>
  <dc:subject/>
  <dc:title>OWASP Top 10  2007</dc:title>
</cp:coreProperties>
</file>