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5723-78B3-470A-B323-6910FDECA876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3229-099F-466A-A1DF-2A9A8CF6114E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http://www.mha-nc.org/english/images/stories/paranoia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096A-1EE8-4438-9138-B87F7BA85317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Web güvenliği ile ilgili olma zorunluluğunun bir nedeni… Peki diğer nedenl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667C-A1B8-4A67-87B8-6AFA20C31313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Yeteri kadar uzun süre zarfında, yaşama oranı sıfıra düş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2CF2-5AC3-49E0-9BFD-B4A11C877E51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http://www.flickr.com/photos/neversaydie/267361672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7875-4BD0-4173-92A1-7EE2A19479AE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http://www.flickr.com/photos/35913902@N00/495149147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68EC-076D-4D45-8AE4-E493DEE88BC2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http://www.flickr.com/photos/31808934@N04/297511009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EC33-C592-4716-8789-B35996A46656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http://www.flickr.com/photos/35913902@N00/495149147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4302-18CE-4B69-A049-49033158D5BD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CD19-7971-40AE-ADD7-940C17AB6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4FE1-79B4-4391-A50D-3F2D6DE8F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A23A-4351-4F72-A35C-F8CEE1520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45EF-68C5-4D87-A2FF-A1C7B3461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6A1B-A4D3-44E8-91C1-E47F18CA2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301E-399B-4557-A5CA-4285705B4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8BD5-5426-4B6D-BEF5-33AC42CF9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173B-0325-4277-B74A-0775785B7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6D48-D3C5-4B98-BF95-87875C2DB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57B4-ABA7-4EC8-A66D-C28C749FE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E22C-7ED7-46F0-8CCB-A98BBA610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2E91-5D1D-4790-9746-C18D2A70B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6042-C563-4F00-96D6-3A222A568556}" type="slidenum">
              <a:rPr b="1" lang="tr-TR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owasptr.gif"/>
          <p:cNvPicPr/>
          <p:nvPr/>
        </p:nvPicPr>
        <p:blipFill>
          <a:blip r:embed="rId2"/>
          <a:stretch/>
        </p:blipFill>
        <p:spPr>
          <a:xfrm>
            <a:off x="7238880" y="6172200"/>
            <a:ext cx="1295640" cy="4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5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owasp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9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0"/>
          <p:cNvSpPr/>
          <p:nvPr/>
        </p:nvSpPr>
        <p:spPr>
          <a:xfrm rot="10800000">
            <a:off x="7385040" y="266652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owasptr.gif"/>
          <p:cNvPicPr/>
          <p:nvPr/>
        </p:nvPicPr>
        <p:blipFill>
          <a:blip r:embed="rId3"/>
          <a:stretch/>
        </p:blipFill>
        <p:spPr>
          <a:xfrm>
            <a:off x="1523880" y="4038480"/>
            <a:ext cx="2214720" cy="838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Tahoma"/>
              </a:rPr>
              <a:t>W</a:t>
            </a: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eb </a:t>
            </a:r>
            <a:r>
              <a:rPr b="1" lang="tr-TR" sz="4000" spc="-1" strike="noStrike">
                <a:solidFill>
                  <a:srgbClr val="262673"/>
                </a:solidFill>
                <a:latin typeface="Tahoma"/>
              </a:rPr>
              <a:t>G</a:t>
            </a: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üvenlik </a:t>
            </a:r>
            <a:r>
              <a:rPr b="1" lang="tr-TR" sz="4000" spc="-1" strike="noStrike">
                <a:solidFill>
                  <a:srgbClr val="262673"/>
                </a:solidFill>
                <a:latin typeface="Tahoma"/>
              </a:rPr>
              <a:t>G</a:t>
            </a: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ünleri IV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Bedirhan URGU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OWASP-T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Turkce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b</a:t>
            </a: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edirhanurgun</a:t>
            </a: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@gmail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785960" y="5000760"/>
            <a:ext cx="1482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23 Aral</a:t>
            </a: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ık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Nedenler</a:t>
            </a: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 </a:t>
            </a:r>
            <a:r>
              <a:rPr b="1" i="1" lang="tr-TR" sz="2800" spc="-1" strike="noStrike">
                <a:solidFill>
                  <a:srgbClr val="777777"/>
                </a:solidFill>
                <a:latin typeface="Tahoma"/>
              </a:rPr>
              <a:t>deva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aranoyaklık sınırlarını zorla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rbel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paranoid2.gif"/>
          <p:cNvPicPr/>
          <p:nvPr/>
        </p:nvPicPr>
        <p:blipFill>
          <a:blip r:embed="rId1"/>
          <a:stretch/>
        </p:blipFill>
        <p:spPr>
          <a:xfrm>
            <a:off x="2214720" y="2071800"/>
            <a:ext cx="49431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Nedenler </a:t>
            </a:r>
            <a:r>
              <a:rPr b="1" i="1" lang="tr-TR" sz="2800" spc="-1" strike="noStrike">
                <a:solidFill>
                  <a:srgbClr val="777777"/>
                </a:solidFill>
                <a:latin typeface="Tahoma"/>
              </a:rPr>
              <a:t>deva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ş görüşmelerinde fark yaratm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8" descr="cv.gif"/>
          <p:cNvPicPr/>
          <p:nvPr/>
        </p:nvPicPr>
        <p:blipFill>
          <a:blip r:embed="rId1"/>
          <a:stretch/>
        </p:blipFill>
        <p:spPr>
          <a:xfrm>
            <a:off x="1785960" y="2214720"/>
            <a:ext cx="57816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Etk</a:t>
            </a: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inlik İçeriğ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3" descr="programme.gif"/>
          <p:cNvPicPr/>
          <p:nvPr/>
        </p:nvPicPr>
        <p:blipFill>
          <a:blip r:embed="rId1"/>
          <a:stretch/>
        </p:blipFill>
        <p:spPr>
          <a:xfrm>
            <a:off x="714240" y="1143000"/>
            <a:ext cx="78613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WGG Amaç ve Tarih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ma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güvenliği farkındalığının yaygınlaştırılm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kinlik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GG #1: İstanbul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GG #2: Ankara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GG #3: İzmi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GG #4: Kocaeli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Önce Zarar Ver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ğer bir deyişle, Ne Yaptığının Farkında 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Web güvenliği ile ilgili olma zorunluluğ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Örnek: Myspace Wor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TML/CSS kabul eden harika bir uygula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vunma amaçlı stratej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kelimelerini engel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eki </a:t>
            </a: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\n</a:t>
            </a: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</a:t>
            </a: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ipt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onu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üvenli HTML kabul etmek kolay değil (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nput Kludge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b tehditlerinin ve çözümlerinin bilinmesi gerekliliğ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Web G</a:t>
            </a: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üvenliğine İlgi - Nedenl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yatta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Kalma Oran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1600920" y="242892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rbel"/>
              </a:rPr>
              <a:t>ZA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own Arrow 10"/>
          <p:cNvSpPr/>
          <p:nvPr/>
        </p:nvSpPr>
        <p:spPr>
          <a:xfrm flipV="1">
            <a:off x="3214800" y="2071080"/>
            <a:ext cx="428400" cy="11430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4022640" y="2428920"/>
            <a:ext cx="32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rbel"/>
              </a:rPr>
              <a:t>YAŞAMA ŞAN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own Arrow 12"/>
          <p:cNvSpPr/>
          <p:nvPr/>
        </p:nvSpPr>
        <p:spPr>
          <a:xfrm>
            <a:off x="7143840" y="2143080"/>
            <a:ext cx="428400" cy="1071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 rot="19738200">
            <a:off x="1490040" y="4135680"/>
            <a:ext cx="34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ASP.NET</a:t>
            </a:r>
            <a:r>
              <a:rPr b="1" lang="tr-TR" sz="3200" spc="-1" strike="noStrike">
                <a:solidFill>
                  <a:srgbClr val="bfbfbf"/>
                </a:solidFill>
                <a:latin typeface="Tahoma"/>
              </a:rPr>
              <a:t> </a:t>
            </a: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"/>
          <p:cNvSpPr/>
          <p:nvPr/>
        </p:nvSpPr>
        <p:spPr>
          <a:xfrm rot="21438600">
            <a:off x="3128040" y="4630680"/>
            <a:ext cx="28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Flash</a:t>
            </a: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9"/>
          <p:cNvSpPr/>
          <p:nvPr/>
        </p:nvSpPr>
        <p:spPr>
          <a:xfrm rot="2364000">
            <a:off x="4281840" y="3841920"/>
            <a:ext cx="29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Gmail</a:t>
            </a: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 rot="21438600">
            <a:off x="6673320" y="554688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IE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 rot="20974200">
            <a:off x="659160" y="3750840"/>
            <a:ext cx="32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Firefox</a:t>
            </a:r>
            <a:r>
              <a:rPr b="1" lang="tr-TR" sz="3200" spc="-1" strike="noStrike">
                <a:solidFill>
                  <a:srgbClr val="bfbfbf"/>
                </a:solidFill>
                <a:latin typeface="Tahoma"/>
              </a:rPr>
              <a:t> </a:t>
            </a: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2"/>
          <p:cNvSpPr/>
          <p:nvPr/>
        </p:nvSpPr>
        <p:spPr>
          <a:xfrm rot="21438600">
            <a:off x="5513040" y="3359160"/>
            <a:ext cx="35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Myspace</a:t>
            </a: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3"/>
          <p:cNvSpPr/>
          <p:nvPr/>
        </p:nvSpPr>
        <p:spPr>
          <a:xfrm rot="21034200">
            <a:off x="1809720" y="5481360"/>
            <a:ext cx="373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Facebook</a:t>
            </a:r>
            <a:r>
              <a:rPr b="1" lang="tr-TR" sz="3200" spc="-1" strike="noStrike">
                <a:solidFill>
                  <a:srgbClr val="bfbfbf"/>
                </a:solidFill>
                <a:latin typeface="Tahoma"/>
              </a:rPr>
              <a:t> </a:t>
            </a: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4"/>
          <p:cNvSpPr/>
          <p:nvPr/>
        </p:nvSpPr>
        <p:spPr>
          <a:xfrm rot="910800">
            <a:off x="6368400" y="4243320"/>
            <a:ext cx="26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Java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5"/>
          <p:cNvSpPr/>
          <p:nvPr/>
        </p:nvSpPr>
        <p:spPr>
          <a:xfrm rot="1519200">
            <a:off x="25560" y="4974840"/>
            <a:ext cx="262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PHP</a:t>
            </a:r>
            <a:r>
              <a:rPr b="1" lang="tr-TR" sz="3200" spc="-1" strike="noStrike">
                <a:solidFill>
                  <a:srgbClr val="bfbfbf"/>
                </a:solidFill>
                <a:latin typeface="Tahoma"/>
              </a:rPr>
              <a:t> </a:t>
            </a: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6"/>
          <p:cNvSpPr/>
          <p:nvPr/>
        </p:nvSpPr>
        <p:spPr>
          <a:xfrm rot="20442600">
            <a:off x="4156920" y="537840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OracleiAS</a:t>
            </a: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8"/>
          <p:cNvSpPr/>
          <p:nvPr/>
        </p:nvSpPr>
        <p:spPr>
          <a:xfrm rot="20265600">
            <a:off x="211320" y="3200400"/>
            <a:ext cx="25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00000"/>
                </a:solidFill>
                <a:latin typeface="Tahoma"/>
              </a:rPr>
              <a:t>RoR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Nedenler</a:t>
            </a: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 </a:t>
            </a:r>
            <a:r>
              <a:rPr b="1" i="1" lang="tr-TR" sz="2800" spc="-1" strike="noStrike">
                <a:solidFill>
                  <a:srgbClr val="777777"/>
                </a:solidFill>
                <a:latin typeface="Tahoma"/>
              </a:rPr>
              <a:t>deva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eraltı çalışıp paraya para demem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8" descr="jailbars.gif"/>
          <p:cNvPicPr/>
          <p:nvPr/>
        </p:nvPicPr>
        <p:blipFill>
          <a:blip r:embed="rId1"/>
          <a:stretch/>
        </p:blipFill>
        <p:spPr>
          <a:xfrm>
            <a:off x="2143080" y="2500200"/>
            <a:ext cx="47721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Nedenler</a:t>
            </a: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 </a:t>
            </a:r>
            <a:r>
              <a:rPr b="1" i="1" lang="tr-TR" sz="2800" spc="-1" strike="noStrike">
                <a:solidFill>
                  <a:srgbClr val="777777"/>
                </a:solidFill>
                <a:latin typeface="Tahoma"/>
              </a:rPr>
              <a:t>deva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ldırılardan korunarak beladan uzak durma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rbel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csrf.gif"/>
          <p:cNvPicPr/>
          <p:nvPr/>
        </p:nvPicPr>
        <p:blipFill>
          <a:blip r:embed="rId1"/>
          <a:stretch/>
        </p:blipFill>
        <p:spPr>
          <a:xfrm>
            <a:off x="2143080" y="2300400"/>
            <a:ext cx="4762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Nedenler</a:t>
            </a: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 </a:t>
            </a:r>
            <a:r>
              <a:rPr b="1" i="1" lang="tr-TR" sz="2800" spc="-1" strike="noStrike">
                <a:solidFill>
                  <a:srgbClr val="777777"/>
                </a:solidFill>
                <a:latin typeface="Tahoma"/>
              </a:rPr>
              <a:t>deva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zde web güvenliğinden taviz vermem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rbel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recession.gif"/>
          <p:cNvPicPr/>
          <p:nvPr/>
        </p:nvPicPr>
        <p:blipFill>
          <a:blip r:embed="rId1"/>
          <a:stretch/>
        </p:blipFill>
        <p:spPr>
          <a:xfrm>
            <a:off x="2000160" y="2300400"/>
            <a:ext cx="51436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Nedenler</a:t>
            </a: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 </a:t>
            </a:r>
            <a:r>
              <a:rPr b="1" i="1" lang="tr-TR" sz="2800" spc="-1" strike="noStrike">
                <a:solidFill>
                  <a:srgbClr val="777777"/>
                </a:solidFill>
                <a:latin typeface="Tahoma"/>
              </a:rPr>
              <a:t>deva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üper cool olup ortam yapmak (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rbel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5" descr="ortam.gif"/>
          <p:cNvPicPr/>
          <p:nvPr/>
        </p:nvPicPr>
        <p:blipFill>
          <a:blip r:embed="rId1"/>
          <a:stretch/>
        </p:blipFill>
        <p:spPr>
          <a:xfrm>
            <a:off x="2286000" y="2286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urkcell İletişim Hizmetleri A.Ş.</cp:lastModifiedBy>
  <dcterms:modified xsi:type="dcterms:W3CDTF">2008-12-22T18:26:49Z</dcterms:modified>
  <cp:revision>103</cp:revision>
  <dc:subject/>
  <dc:title>Web Güvenlik Günleri IV</dc:title>
</cp:coreProperties>
</file>