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8E2C8-3AF4-4770-A479-8A9035D75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64F8-7416-481F-97D6-FB1035DE0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224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6360"/>
            <a:ext cx="8224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42CB-E558-4A07-889F-4B6988EA3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636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381636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71262-C5AE-436F-9216-A66F993A7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840" y="129528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840" y="129528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636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840" y="381636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840" y="381636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AC62-3004-4F21-8120-28ADE84E6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22492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2249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22492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636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22492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3E46-D760-4208-A030-8E78C0E6C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1720" y="381636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816360"/>
            <a:ext cx="8224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224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3816360"/>
            <a:ext cx="8224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81636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1720" y="381636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7840" y="129528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18840" y="129528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381636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7840" y="381636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18840" y="3816360"/>
            <a:ext cx="26481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2249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719B-54AE-4E04-BED4-DD5ED90A0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9ECB-4B26-49DC-ADE0-6EBF06096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11BA-7059-41E5-9F52-569BB5AB1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22492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D278-7B4E-4B2D-ADBA-566B32DC7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636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4226-8F35-451F-BD85-A3F9636E5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381636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ECEB-FF53-49C7-9ECF-7195EFF6D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295280"/>
            <a:ext cx="4013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6360"/>
            <a:ext cx="8224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7B54-8334-4B4E-AD3F-B6AD1B28E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5280"/>
            <a:ext cx="82249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1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C2BBB-0EED-44D7-9E39-D23C13A612AD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6172200"/>
            <a:ext cx="1295640" cy="49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05040" y="266688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7385040" y="2671920"/>
            <a:ext cx="1028880" cy="121896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23880" y="4038480"/>
            <a:ext cx="2214720" cy="838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6840" y="1295280"/>
            <a:ext cx="82249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xample.org/index.php?page=images/BadImage.jpe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code.google.com/p/secureimage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odeplex.com/owaspturkey/Release/ProjectReleases.aspx?ReleaseId=18008" TargetMode="External"/><Relationship Id="rId2" Type="http://schemas.openxmlformats.org/officeDocument/2006/relationships/hyperlink" Target="http://code.google.com/p/jsecureimage/downloads/lis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webguvenligi.org/" TargetMode="External"/><Relationship Id="rId2" Type="http://schemas.openxmlformats.org/officeDocument/2006/relationships/hyperlink" Target="http://www.h-labs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76720" y="762120"/>
            <a:ext cx="5867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Resmin Diğer Yüzü: Saldırılar ve Önlem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743200"/>
            <a:ext cx="41911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ahoma"/>
              </a:rPr>
              <a:t>Mesut TİM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ahoma"/>
              </a:rPr>
              <a:t>Web Güvenliği Topluluğ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ahoma"/>
              </a:rPr>
              <a:t>Pro-G Bilişim Güvenliği</a:t>
            </a:r>
            <a:br>
              <a:rPr sz="1800"/>
            </a:br>
            <a:r>
              <a:rPr b="1" lang="en-US" sz="1800" spc="-1" strike="noStrike">
                <a:solidFill>
                  <a:srgbClr val="969696"/>
                </a:solidFill>
                <a:latin typeface="Tahoma"/>
              </a:rPr>
              <a:t>mesut@h-labs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58800" y="502920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23 ARALIK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iteler Arası Betik Çalıştırması (XSS)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06560" y="996840"/>
            <a:ext cx="725328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iteler Arası Betik Çalıştırması (XSS)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28680" y="1646280"/>
            <a:ext cx="6808680" cy="36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iteler Arası Betik Çalıştırması (XSS)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4840" y="1184400"/>
            <a:ext cx="6516720" cy="47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iteler Arası Betik Çalıştırması (XSS)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226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Web uygulaması, ilgili grafik dosyasını erişilebilir bir yere yükl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rafik dosyasının URL'ine kurban kullanıcının IE ile bir şekilde tıklaması sağlan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urban kullanıcının linke tıklamasıyla, grafik dosyası içindeki JavaScript kodları çalışır ve saldırı gerçekleş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iteler Arası Betik Çalıştırması (XSS)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8040" indent="0" algn="ctr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Tahoma"/>
              </a:rPr>
              <a:t>Artık ilgili alan adının haklarıyla rastgele betik çalıştırılabilir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amy is My Her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226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amy çok yalnız ve arkadaşsızdı, fakat JavaScript bilgisi iyiydi. Bir XSS solucanı kodlad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ySpace.com 'da bir adet XSS zafiyeti ile, 24 saatte 1.000.000'un uzerinde arkadaş edind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ortal solucanı temizlemek için, web sunucularını bir süre kapatmak zorunda kald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8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Web Tarayıcının Yargılanması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öz konusu atak sadece IE üzerinde çalış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Zafiyetin sadece IE üzerinde geçerli olma sebebi, IE'nin MIME İçerik Tipi belirleme algoritmasındaki bir tasarım probleminden kaynaklan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ozilla Firefox bu zafiyetten etkilenmemekte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8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MIME İçerik Tipi (Content-Type) Nedir ?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TTP Protokolünde, sunucu tarafından gönderilen verinin istemci yazılım tarafından değerlendirilmesi için veriye eklenen başlık bilgis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Verinin içerik tipini belirl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xt/plain --&gt; Düz Yaz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mage/jpg --&gt; Jpeg Res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8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Web Tarayıcının Yargılanması - I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E web sunucudan gelen MIME içerik tipine güvenmeyip, kendisi farklı bir algoritma ile gelen dosyanın tipine karar vermekte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lgoritma kabaca gelen dosyanın ilk 200 byte'ını okuyup, bilinen MIME içerik tipleri ile eşleşip, eşleşmediğini kontrol etmek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ğer MIME içerik tipi belirlenirse, IE gelen dosyayı tespit ettiği biçimde yorum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8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Ve XSS Gerçekleşi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slında GIF,JPEG,PNG ya da başka bir uzantı ile gelen ve resim dosyası olması gereken dosyanın içeriği kötü niyetli JavaScript kodları olunca IE saldırganın işini kolaylaştırır ve ilgili JavaScript kodlarını çalıştır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noktada saldırgan, kurban kullanıcının internet tarayıcısında rastgele betik çalıştırma hakkı(bazı kısıtlamalarla) kazanmışt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9FDBB-9A51-4C5D-8EDD-26C06F79E994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İçer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fik Manipülasyo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 - MIME Belirleme Algoritmas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F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vun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8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Dosya Eklem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HP dilindeki, dosya ekleme zafiyetleri bulunamaktadır. Bundan faydalınarak kod enjeksiyonu atakları yapılabilmekte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ttp://www.example.org/index.php?page=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Paramatresi </a:t>
            </a:r>
            <a:r>
              <a:rPr b="0" i="1" lang="tr-TR" sz="2800" spc="-1" strike="noStrike">
                <a:solidFill>
                  <a:srgbClr val="ff0000"/>
                </a:solidFill>
                <a:latin typeface="Tahoma"/>
              </a:rPr>
              <a:t>include, require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ibi gösterilen dosyayı koda ekleyen PHP fonksiyonlara gönder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ğer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parametresi hiçbir kontrolden geçirilmiyorsa, saldırgan istediği dosyayı index.php dosyasının kodlarına ekler ve çalıştırabili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8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Dosya Ekleme - I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ile Inclusion olarak bilin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unucu üzerinde, web sunucu yazılımının haklarıyla 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rastgele komut çalıştırılabilir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eliştirilen güvenlik önlemleri sebebiyle bir çok durumda, farklı web sitelerinden dosya eklenememekte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ndan dolayı, aynı sistem üzerinden dosya eklemeye izin veren zafiyetlere, Lokal Dosya Ekleme zafiyetleri den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8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Dosya Ekleme - II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ma kötü durum şudur ki; genellikle web sunucu üzerinde , sisteme hakimiyet sağlayacağınız kodların bulunduğu bir sayfa yokt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ma sisteme resim yükleme hakkınız varsa, istediğiniz kodlarla doldurulmuş bir dosyayı yükleme ihtimaliniz doğ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ötü niyetli hazırlanmış PHP kabuk kodları bir resim dosyasına doldurulur ve sunucuya yüklen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8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Dosya Ekleme - IV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www.example.org/index.php?page=images/BadImage.jpeg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şekilde index.php dosyasına, kötü niyetli PHP kabuk kodları eklenebilir. Sonrasında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00200" y="2685960"/>
            <a:ext cx="548640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8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Peki Savunma !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pılması gereken, her zaman olduğu gibi dışarıdan girdi olarak alınan 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hiçbir şeye güvenmemek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esim dosyası da pekala bir girdidir ve dışarıdan alınmadan, çeşitli kontrollerden geçirilmesi 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zorunlud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oğru şekilde kontrol edilmemiş her girdi, problem yaratma potansiyelini barındır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8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Genel Kontroll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unumun başında bahsettiğimiz kontroller, 3 ana başlıkta toplanabili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Uzantı kontrol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oyut kontrol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İçerik kontrol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Uzantı ve boyut kontrolü, basit bir karşılaştırma işlemi ile gerçekleştirilebilir, asıl sorun içerik kontrolünün ne şekilde gerçekleştirileceğ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8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Gerçekten Resim Mi 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esimin, gerçekten resim olduğundan emin olun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noktada çeşitli fikirler olabilir, lakin benim önereceğim bilinen herhangi bir API ile grafik dosyasının açılmaya çalışılmasıdı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XIF gibi veri saklanacak alanlar temizlen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em EXIF'te saklanacak PHP kabuk kodları için, hem de kullanılacak API'nin yazılım marka ve model bilgilerinin sızmasını engellemek için gerekl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8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Kontrol Metodolojisi – PHP İmp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osya openImage fonksiyonu ile açılmaya çalış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30200" indent="-2160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Eğer açılamazsa dosya geçerli değildi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0200" indent="-2160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Bu aşamada , dosyanın salt istemci taraflı dil kodlarından oluşmadığına emin olabiliriz. 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osya başka bir tipe çevrilir  ( X --&gt; Y)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ersine çevrim işlemi yapılır ( Y--&gt; X)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30200" indent="-2160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Bu aşamada dosyanın içindeki tüm zararlı kodların temizlendiğine emin olabiliriz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0200" indent="-2160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Çevirme işlemlerinden sonra EXIF alanında kullanılan GD kütüphanesinin banner'ı kalır, potansiyel GD zafiyetlerinde hedef olmamak için temizlemek gerekir.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8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ecureImage ve Kod Örneğ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Bu işlemleri bünyesinde yapan ufak bir kütüphane SecureIm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code.google.com/p/secureim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25880" indent="-21384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&lt;?ph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25880" indent="-21384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include("SecureImage.ph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25880" indent="-21384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$image=new SecureImage('image.jpg'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25880" indent="-21384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if($image-&gt;CheckIt())</a:t>
            </a: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25880" indent="-213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echo "Yeaah Dude! You can trust it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25880" indent="-21384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25880" indent="-213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echo "Bad image file!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25880" indent="-213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?&gt;</a:t>
            </a:r>
            <a:br>
              <a:rPr sz="2200"/>
            </a:b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8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NSecureImage ve JSecureIm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81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ecureImage kütüphanesinin .NET ve Java portları yayınlandı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NSecureImage, Kerem Küsme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www.codeplex.com/owaspturkey/Release/ProjectReleases.aspx?ReleaseId=180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JSecureImage, Bedirhan Urg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code.google.com/p/jsecureimage/downloads/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fik Manipülasyonu Nedir 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çok yazılım, kullanıcılardan resim kabul etmektedi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Forum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Fotoğraf Galeri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Upload Sistem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ullanıcıdan (dışarıdan) alınan her türlü girdinin kontrolleri eksiksiz biçimde yapılmal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orularınız &amp; Teşekkürler &amp; S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339560"/>
            <a:ext cx="82281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www.webguvenligi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www.h-labs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Doğrulama Aşaması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öyle bir yazılım tasarlıyorsak, neleri kontrol etmemiz gerekir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Uzantı kontrol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En genel doğrulama tip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adece grafik dosyası uzantılarının kabül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eterli değ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oyut kontrol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0 B 'dan büyük mü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Tahoma"/>
              </a:rPr>
              <a:t>5 MB'dan düşük mü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İçerik Kontrol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Tahoma"/>
              </a:rPr>
              <a:t>Gerçekten resim mi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Doğrulama Olmazsa 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lınan dosyalar webden erişilebilir bir klasör altına koyuluyorsa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Uzantı Kontrol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iteler Arası Betik Çalıştırma (XSS)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erel Dosya Ekleme (LFI)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HP/ASP/x Sh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Flash Politikası Atak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İçerik Kontrol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zantı kontrolü yapılmamasından doğan tüm zafiyet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Doğrulama Olmazsa 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lınan dosyalar webden erişilebilir bir klasör altına koyulmuyorsa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oyut Kontrol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nd genişliğinden hizmet aksat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Web sunucu harddiskini doldurma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Çok pratik ataklar olmamalarına rağmen dağıtık gelen bir saldırı hedef sistem üzerinde çok etkili olab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iteler Arası Betik Çalıştırması (XSS)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ross-Site Scripting olarak bilin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ullanıcıların oturum bilgileri çalınabil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ort tarama yaptırılab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hishing saldırıları yapılab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İnternet tarayıcısına hakimiyet (bazı kısıtlamalar ile)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urban kullanıcı sonraki ataklar için vekil edileb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iteler Arası Betik Çalıştırması (XSS)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eni bir grafik dosyası oluşturul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osya notepad ya da başka bir metin editörü ile açılı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İlgili saldırının kabuk kodu gir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osya kayıt edilir, ve web uygulamasına yollan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11080" y="3200400"/>
            <a:ext cx="81043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iteler Arası Betik Çalıştırması (XSS)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1680" y="1195560"/>
            <a:ext cx="2628720" cy="1511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00400" y="1527120"/>
            <a:ext cx="689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Kötü niyetli hazırlanmış JavaScipt kodları, attack.jpg'e 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kaydedil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85800" y="3127320"/>
            <a:ext cx="5715000" cy="3189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H="1">
            <a:off x="6400800" y="3429000"/>
            <a:ext cx="2743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64920" y="2730600"/>
            <a:ext cx="287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Unicode MS"/>
              </a:rPr>
              <a:t>http://localhost/attack.j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Williams</dc:creator>
  <dc:description>http://www.owasp.org</dc:description>
  <cp:keywords>Application Security</cp:keywords>
  <dc:language>en-US</dc:language>
  <cp:lastModifiedBy>Turkcell İletişim Hizmetleri A.Ş.</cp:lastModifiedBy>
  <cp:revision>0</cp:revision>
  <dc:subject/>
  <dc:title>OWASP Plan - Strawman</dc:title>
</cp:coreProperties>
</file>