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596C-D274-4177-A4F1-4A06F4FC41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aldırı alışveriş siteleri yanında banka uygulamalarında ya da mail heseplarında gerçekleştirilebilir. Örneğin geçtiğimiz senelerde gmail’de bu açıklık vardı ve bir kişi bu durum ile ilgili site hazırlamış. </a:t>
            </a:r>
            <a:r>
              <a:rPr b="0" lang="en-US" sz="1200" spc="-1" strike="noStrike">
                <a:solidFill>
                  <a:srgbClr val="000000"/>
                </a:solidFill>
                <a:latin typeface="Arial"/>
              </a:rPr>
              <a:t>Kullan</a:t>
            </a:r>
            <a:r>
              <a:rPr b="0" lang="tr-TR" sz="1200" spc="-1" strike="noStrike">
                <a:solidFill>
                  <a:srgbClr val="000000"/>
                </a:solidFill>
                <a:latin typeface="Arial"/>
              </a:rPr>
              <a:t>ı</a:t>
            </a:r>
            <a:r>
              <a:rPr b="0" lang="en-US" sz="1200" spc="-1" strike="noStrike">
                <a:solidFill>
                  <a:srgbClr val="000000"/>
                </a:solidFill>
                <a:latin typeface="Arial"/>
              </a:rPr>
              <a:t>c</a:t>
            </a:r>
            <a:r>
              <a:rPr b="0" lang="tr-TR" sz="1200" spc="-1" strike="noStrike">
                <a:solidFill>
                  <a:srgbClr val="000000"/>
                </a:solidFill>
                <a:latin typeface="Arial"/>
              </a:rPr>
              <a:t>ı mail hesabına giriş yapıyor ve oturum açıkken saldırganın hazırlamış olduğu bir siteye giriyor. Bu sayfa açıldığında sayfanın içinde bulunan &lt;img src&gt; ile kullanıcının mail hesabının filtre ayarlarını değiştiren bir istek oluşturuyor. Kullanıcının, mail hesabındaki filtrenin değiştiğini farkında değildi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ma geliştiricilerin çoğu böyle bir saldırının varlığından haberdar değil ve bazıları her nekadar böyle bir saldırı türünü bilse de herhangi bir önlem alınmamaktadır. Bu biraz da web uyugulamalarında güvenliğe verilen önem ve güvenlik farkındalığı ile ilgili. Uygulama çalışıp beklenenleri yerine getirmesi yeterli olarak görülüyor. Bakıldığında birçok sitede bu saldırıya karşı bir önlem oluşturulmamış durumda. Bu nedenlerle yuyan dev olarak adlandırılıyor. Saldırının kolayca gerçekleştirilebilmesi ve sonuçlarının ağır olabilmesi potansiyeli ortaya koyu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eliştirici uygulama sunucusuna, gelen her isteği kullanıcının isteğiyle gönderdiğini varsayarak bir cevap ürettirmesi bu probleme neden oluyor. Sunucuya gelen her istek kullanıcının isteğiyle gelmemiş olabi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eliştiriciler webde olabilecek saldırı çeşitlerinden haberdar değiller. Uygulamanın bekleneni yerine getirerek çalışması yeterli olarak görülüyor. Bazıları tarafından da olabilecek sorunlar önemsenmi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ma geliştirildikten sonra uyugulamanın kullanıcı için önemli olan modüllerinde testler yapılabilir. Proxy programları kullanılarak istekler oluşturulur, bu gönderilen url’ler daha sonra tekrar istek yapmada kullanılır. Alınan sonuç bir önceki ile aynı ise açıklık vardır deni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r çok önlem mevcut uygun olanı seçilmeli. Bu arada referer başlığı kullanılarak önlem alınması gibi yanlış bir algılama var. Referer sunucunun firewall arkasında olması halinde veya çoğu durumda atılacağından uygulamayı kullanılamaz duruma da getirebi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ET istekleriyle verileri değiştirmek yerine okum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oken kullanma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A5952-1885-406C-AD6A-0117242342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87571957-FD1F-46F0-BB67-43E952C4DA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309924FA-8DBB-4ED9-877F-6998B1A7F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8344DEEE-D28B-4B02-8416-1E4173B4E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9684345-A9FC-453F-ACED-D99210BAB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045DAE1-8A81-48F7-956C-08C7B49F7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0047E8EF-0361-4DB9-9B4D-C63F5C5AF7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40734220-79E2-414C-B17B-5C9B55948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D49E0834-E8C9-42D5-BC3C-A48A87A67C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02772193-6472-4E64-B651-7ED80E0E80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6977640-5949-4CAC-B98C-1D1AA753C6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8A8B47D-06FA-4B75-82C4-62A410358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B01D-EF03-4C19-913F-EEB6B697DA3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pic>
        <p:nvPicPr>
          <p:cNvPr id="5" name="Picture 8" descr="owasptr.gif"/>
          <p:cNvPicPr/>
          <p:nvPr/>
        </p:nvPicPr>
        <p:blipFill>
          <a:blip r:embed="rId2"/>
          <a:stretch/>
        </p:blipFill>
        <p:spPr>
          <a:xfrm>
            <a:off x="7238880" y="6172200"/>
            <a:ext cx="129564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8"/>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9"/>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5" name="Picture 10" descr="owasp"/>
          <p:cNvPicPr/>
          <p:nvPr/>
        </p:nvPicPr>
        <p:blipFill>
          <a:blip r:embed="rId2"/>
          <a:stretch/>
        </p:blipFill>
        <p:spPr>
          <a:xfrm>
            <a:off x="1676520" y="1066680"/>
            <a:ext cx="1371600" cy="1258920"/>
          </a:xfrm>
          <a:prstGeom prst="rect">
            <a:avLst/>
          </a:prstGeom>
          <a:ln w="0">
            <a:noFill/>
          </a:ln>
        </p:spPr>
      </p:pic>
      <p:sp>
        <p:nvSpPr>
          <p:cNvPr id="46"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7"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6"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Freeform 29"/>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Freeform 30"/>
          <p:cNvSpPr/>
          <p:nvPr/>
        </p:nvSpPr>
        <p:spPr>
          <a:xfrm rot="10800000">
            <a:off x="7385040" y="266652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pic>
        <p:nvPicPr>
          <p:cNvPr id="60" name="Picture 26" descr="owasptr.gif"/>
          <p:cNvPicPr/>
          <p:nvPr/>
        </p:nvPicPr>
        <p:blipFill>
          <a:blip r:embed="rId3"/>
          <a:stretch/>
        </p:blipFill>
        <p:spPr>
          <a:xfrm>
            <a:off x="1523880" y="4038480"/>
            <a:ext cx="2214720" cy="838440"/>
          </a:xfrm>
          <a:prstGeom prst="rect">
            <a:avLst/>
          </a:prstGeom>
          <a:ln w="0">
            <a:noFill/>
          </a:ln>
        </p:spPr>
      </p:pic>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7777"/>
                </a:solidFill>
                <a:latin typeface="Tahoma"/>
              </a:rPr>
              <a:t>CSRF SALDIRILARI</a:t>
            </a:r>
            <a:endParaRPr b="1" lang="en-US" sz="2800" spc="-1" strike="noStrike">
              <a:solidFill>
                <a:srgbClr val="000000"/>
              </a:solidFill>
              <a:latin typeface="Tahoma"/>
            </a:endParaRPr>
          </a:p>
        </p:txBody>
      </p:sp>
      <p:sp>
        <p:nvSpPr>
          <p:cNvPr id="107" name="PlaceHolder 2"/>
          <p:cNvSpPr>
            <a:spLocks noGrp="1"/>
          </p:cNvSpPr>
          <p:nvPr>
            <p:ph type="subTitle"/>
          </p:nvPr>
        </p:nvSpPr>
        <p:spPr>
          <a:xfrm>
            <a:off x="4343400" y="3260520"/>
            <a:ext cx="3733920" cy="140004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lt;Yusuf </a:t>
            </a:r>
            <a:r>
              <a:rPr b="1" lang="tr-TR" sz="1600" spc="-1" strike="noStrike">
                <a:solidFill>
                  <a:srgbClr val="969696"/>
                </a:solidFill>
                <a:latin typeface="Tahoma"/>
              </a:rPr>
              <a:t>ÇERİ</a:t>
            </a:r>
            <a:r>
              <a:rPr b="1" lang="en-US" sz="1600" spc="-1" strike="noStrike">
                <a:solidFill>
                  <a:srgbClr val="969696"/>
                </a:solidFill>
                <a:latin typeface="Tahoma"/>
              </a:rPr>
              <a:t>&gt;</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lt;OWASP role&gt;</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lt;Organization&gt;</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lt;email&gt;</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lt;phone&gt;</a:t>
            </a:r>
            <a:endParaRPr b="0" lang="en-US" sz="1600" spc="-1" strike="noStrike">
              <a:solidFill>
                <a:srgbClr val="000000"/>
              </a:solidFill>
              <a:latin typeface="Tahoma"/>
            </a:endParaRPr>
          </a:p>
        </p:txBody>
      </p:sp>
      <p:sp>
        <p:nvSpPr>
          <p:cNvPr id="108" name="Rectangle 17"/>
          <p:cNvSpPr/>
          <p:nvPr/>
        </p:nvSpPr>
        <p:spPr>
          <a:xfrm>
            <a:off x="1559160" y="5029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23 ARALIK 2008</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A1F9-4604-4647-B84A-CA66715A39E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SRF</a:t>
            </a:r>
            <a:endParaRPr b="1" lang="en-US" sz="2800" spc="-1" strike="noStrike">
              <a:solidFill>
                <a:srgbClr val="000000"/>
              </a:solidFill>
              <a:latin typeface="Tahoma"/>
            </a:endParaRPr>
          </a:p>
        </p:txBody>
      </p:sp>
      <p:sp>
        <p:nvSpPr>
          <p:cNvPr id="11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SRF Nedi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üvensiz Kod Yazılması ve CSRF Saldırısı</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SRF saldırısı açıklığını farkına varmak</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SRF</a:t>
            </a:r>
            <a:r>
              <a:rPr b="0" lang="en-US" sz="2800" spc="-1" strike="noStrike">
                <a:solidFill>
                  <a:srgbClr val="000000"/>
                </a:solidFill>
                <a:latin typeface="Tahoma"/>
              </a:rPr>
              <a:t> sald</a:t>
            </a:r>
            <a:r>
              <a:rPr b="0" lang="tr-TR" sz="2800" spc="-1" strike="noStrike">
                <a:solidFill>
                  <a:srgbClr val="000000"/>
                </a:solidFill>
                <a:latin typeface="Tahoma"/>
              </a:rPr>
              <a:t>ırısını önleme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SRF NEDİR?</a:t>
            </a:r>
            <a:endParaRPr b="1" lang="en-US" sz="2800" spc="-1" strike="noStrike">
              <a:solidFill>
                <a:srgbClr val="000000"/>
              </a:solidFill>
              <a:latin typeface="Tahoma"/>
            </a:endParaRPr>
          </a:p>
        </p:txBody>
      </p:sp>
      <p:sp>
        <p:nvSpPr>
          <p:cNvPr id="11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ldırganın hazırlamış olduğu kötü niyetli web sitesinin, CSRF açıklığının bulunduğu bir web sitesine kullanıcının haberi olmadan işlemler yaptırabilmesi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ÜVENSİZ KOD YAZMA ve CSRF Saldırısı</a:t>
            </a:r>
            <a:endParaRPr b="1" lang="en-US" sz="2800" spc="-1" strike="noStrike">
              <a:solidFill>
                <a:srgbClr val="000000"/>
              </a:solidFill>
              <a:latin typeface="Tahoma"/>
            </a:endParaRPr>
          </a:p>
        </p:txBody>
      </p:sp>
      <p:pic>
        <p:nvPicPr>
          <p:cNvPr id="115" name="Content Placeholder 6" descr="New Bitmap Image.bmp"/>
          <p:cNvPicPr/>
          <p:nvPr/>
        </p:nvPicPr>
        <p:blipFill>
          <a:blip r:embed="rId1"/>
          <a:stretch/>
        </p:blipFill>
        <p:spPr>
          <a:xfrm>
            <a:off x="1495440" y="1957320"/>
            <a:ext cx="615312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ÜVENSİZ KOD YAZMA ve CSRF Saldırısı</a:t>
            </a:r>
            <a:endParaRPr b="1" lang="en-US" sz="2800" spc="-1" strike="noStrike">
              <a:solidFill>
                <a:srgbClr val="000000"/>
              </a:solidFill>
              <a:latin typeface="Tahoma"/>
            </a:endParaRPr>
          </a:p>
        </p:txBody>
      </p:sp>
      <p:sp>
        <p:nvSpPr>
          <p:cNvPr id="11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ternette çoğu sitede önlem yok. Uyuyan dev olarak adlandırılıyor (Sleeping-gian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SRF Saldırısı ile banka hesabından para transferi, e-mail hesabında ayarları değiştirme, e-mail gönderme gibi saldırılar gerçekleştirilebili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ÜVENSİZ KOD YAZMA ve CSRF Saldırısı</a:t>
            </a:r>
            <a:endParaRPr b="1" lang="en-US" sz="2800" spc="-1" strike="noStrike">
              <a:solidFill>
                <a:srgbClr val="000000"/>
              </a:solidFill>
              <a:latin typeface="Tahom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ullanıcıdan gelen istekler</a:t>
            </a:r>
            <a:r>
              <a:rPr b="0" lang="en-US" sz="2800" spc="-1" strike="noStrike">
                <a:solidFill>
                  <a:srgbClr val="000000"/>
                </a:solidFill>
                <a:latin typeface="Tahoma"/>
              </a:rPr>
              <a:t>: Gelen her istek kullan</a:t>
            </a:r>
            <a:r>
              <a:rPr b="0" lang="tr-TR" sz="2800" spc="-1" strike="noStrike">
                <a:solidFill>
                  <a:srgbClr val="000000"/>
                </a:solidFill>
                <a:latin typeface="Tahoma"/>
              </a:rPr>
              <a:t>ıcının bilerek gönderdiği istekler olmayabili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eliştiriciler saldırıyı bilmiyo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aldırının etkileri önemsenmiy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CSRF SALDIRISI AÇIKLIĞINI FARKINA VARMAK</a:t>
            </a:r>
            <a:endParaRPr b="1" lang="en-US" sz="2400" spc="-1" strike="noStrike">
              <a:solidFill>
                <a:srgbClr val="000000"/>
              </a:solidFill>
              <a:latin typeface="Tahoma"/>
            </a:endParaRPr>
          </a:p>
        </p:txBody>
      </p:sp>
      <p:sp>
        <p:nvSpPr>
          <p:cNvPr id="12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ullanıcıdan gelen her istek kullanıcının isteğiyle gelmeyebili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ebscarab, Paros gibi proxy programlarını kullanarak sayfalar üzerinde test yapma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SRF SALDIRISI ÖNLENMESİ</a:t>
            </a:r>
            <a:endParaRPr b="1" lang="en-US" sz="2800" spc="-1" strike="noStrike">
              <a:solidFill>
                <a:srgbClr val="000000"/>
              </a:solidFill>
              <a:latin typeface="Tahoma"/>
            </a:endParaRPr>
          </a:p>
        </p:txBody>
      </p:sp>
      <p:sp>
        <p:nvSpPr>
          <p:cNvPr id="12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ygulamanın kritikliğine, performansına, metodun uygulanabilirliğine göre metodlardan uygun olanlar seçilmeli.</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ET istekleriyle verileri değiştirmek yerine verilerin okumak.</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riptografik değer üreterek oturumda bu değeri saklamak. Kullanıcıdan gelen bu değerin oturumda tutulan değerle aynı olmasını bekleme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YNAKLAR</a:t>
            </a:r>
            <a:endParaRPr b="1" lang="en-US" sz="2800" spc="-1" strike="noStrike">
              <a:solidFill>
                <a:srgbClr val="000000"/>
              </a:solidFill>
              <a:latin typeface="Tahoma"/>
            </a:endParaRPr>
          </a:p>
        </p:txBody>
      </p:sp>
      <p:sp>
        <p:nvSpPr>
          <p:cNvPr id="125" name="PlaceHolder 2"/>
          <p:cNvSpPr>
            <a:spLocks noGrp="1"/>
          </p:cNvSpPr>
          <p:nvPr>
            <p:ph/>
          </p:nvPr>
        </p:nvSpPr>
        <p:spPr>
          <a:xfrm>
            <a:off x="457200" y="1294920"/>
            <a:ext cx="8229600" cy="4830840"/>
          </a:xfrm>
          <a:prstGeom prst="rect">
            <a:avLst/>
          </a:prstGeom>
          <a:noFill/>
          <a:ln w="0">
            <a:noFill/>
          </a:ln>
        </p:spPr>
        <p:txBody>
          <a:bodyPr anchor="t">
            <a:normAutofit fontScale="95000"/>
          </a:bodyPr>
          <a:p>
            <a:pPr marL="325800" indent="-3258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http://jeremiahgrossman.blogspot.com/2006/09/csrf-sleeping-giant.html</a:t>
            </a:r>
            <a:endParaRPr b="0" lang="en-US" sz="2800" spc="-1" strike="noStrike">
              <a:solidFill>
                <a:srgbClr val="000000"/>
              </a:solidFill>
              <a:latin typeface="Tahoma"/>
            </a:endParaRPr>
          </a:p>
          <a:p>
            <a:pPr marL="325800" indent="-3258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ross-Site Request Forgeries: Exploitation and Prevention, William Zeller and Edward W. Felten.</a:t>
            </a:r>
            <a:endParaRPr b="0" lang="en-US" sz="2800" spc="-1" strike="noStrike">
              <a:solidFill>
                <a:srgbClr val="000000"/>
              </a:solidFill>
              <a:latin typeface="Tahoma"/>
            </a:endParaRPr>
          </a:p>
          <a:p>
            <a:pPr marL="325800" indent="-3258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http://www.webguvenligi.org/wp-content/uploads/2008/01/anket/index.htm</a:t>
            </a:r>
            <a:endParaRPr b="0" lang="en-US" sz="2800" spc="-1" strike="noStrike">
              <a:solidFill>
                <a:srgbClr val="000000"/>
              </a:solidFill>
              <a:latin typeface="Tahoma"/>
            </a:endParaRPr>
          </a:p>
          <a:p>
            <a:pPr marL="325800" indent="-3258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http://www.cgisecurity.com/articles/csrf-faq.shtml</a:t>
            </a:r>
            <a:endParaRPr b="0" lang="en-US" sz="2800" spc="-1" strike="noStrike">
              <a:solidFill>
                <a:srgbClr val="000000"/>
              </a:solidFill>
              <a:latin typeface="Tahoma"/>
            </a:endParaRPr>
          </a:p>
          <a:p>
            <a:pPr marL="325800" indent="-3258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ross-Site Request Forgeries – An introduction to common web application weaknes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test</cp:lastModifiedBy>
  <dcterms:modified xsi:type="dcterms:W3CDTF">2008-12-23T06:32:09Z</dcterms:modified>
  <cp:revision>44</cp:revision>
  <dc:subject>Application Security</dc:subject>
  <dc:title>OWASP Plan - Strawman</dc:title>
</cp:coreProperties>
</file>