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93801-068F-4B2C-834C-DD56972A6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47DF-5D0D-47F4-9518-C516132ED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16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4200"/>
            <a:ext cx="82216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5AC6-C10D-4834-99B7-C6E9E6217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9492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420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920" y="381420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F860-8106-4086-A57B-3665A00AE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7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120" y="1294920"/>
            <a:ext cx="2647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6680" y="1294920"/>
            <a:ext cx="2647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4200"/>
            <a:ext cx="2647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120" y="3814200"/>
            <a:ext cx="2647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6680" y="3814200"/>
            <a:ext cx="2647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FE9E-8066-4294-B0F3-8536E0CF0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1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168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18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294920"/>
            <a:ext cx="40118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1680" cy="36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294920"/>
            <a:ext cx="40118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420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1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AD1C-47FA-4F49-A5C1-1D923312D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18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920" y="129492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9920" y="381420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9920" y="129492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14200"/>
            <a:ext cx="82216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16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814200"/>
            <a:ext cx="82216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29492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1420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9920" y="381420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7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7120" y="1294920"/>
            <a:ext cx="2647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6680" y="1294920"/>
            <a:ext cx="2647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814200"/>
            <a:ext cx="2647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7120" y="3814200"/>
            <a:ext cx="2647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6680" y="3814200"/>
            <a:ext cx="2647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168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4D93-4B47-417E-8731-C74F32D3D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18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294920"/>
            <a:ext cx="40118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9D6A-568E-4BA3-9530-2CABB495B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55CC-C418-4431-B4AE-F2934E1F8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1680" cy="36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AA84-F2F2-477B-A64E-A6BBC90F5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294920"/>
            <a:ext cx="40118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420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4889-52CE-440C-9360-7BC00A0AE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18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29492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920" y="381420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4554-28B8-40B9-93C5-63D44E51C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294920"/>
            <a:ext cx="401184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4200"/>
            <a:ext cx="82216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4C34-2E1C-4EBD-8D3F-3CC4529C7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168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398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15529-064A-4F46-AEFE-E6236422402A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172200"/>
            <a:ext cx="1295640" cy="4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7385040" y="267444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23880" y="4038480"/>
            <a:ext cx="2214720" cy="838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168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okhan.alkan@yahoo.com.tr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bguvenligi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bguvenligi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76720" y="762120"/>
            <a:ext cx="5867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Sun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260880"/>
            <a:ext cx="37339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Gökhan ALK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OWASP-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khan.alkan@yahoo.com.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Tubitak/UEKA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58800" y="502920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23 ARALIK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B6255-CF16-40F4-A44D-850462DEB4D2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çık Kaynak Kodlu Sistemler Üzerinde Güvenli Uygulama Çatısı Hazır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ncir En Zayıf Halkası Kadar Güçlüdü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root Nedi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mp Nedi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security Nedi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rvinen Nedi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98A74-6F11-4E62-AC41-6F97A67F5397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çık Kaynak Kodlu Sistemler Üzerinde Web Uygulama Çatı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İşletim Siste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Linux, BSD*, Solaris, Hp-UX, IBM-A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unucu Servisi ve Betik D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Apache, 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tabanı Sunucu Serv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13EE9-BC6D-4D3B-80C5-275E45117C0F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root Ned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Chroot kısaca yeni bir kök dizini tanımlar. İşletim sistemi altında yeni bir kök dizin tanımlayarak uygulamaların, bu yeni tanımlanan kök dizin altında çalışmasını sağlayan ortamı (çatı) sun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Chroot /chroot_ortam_patikasi uygu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C0095-6009-476E-891E-F50C7A56EE54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mmp Ned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59472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Cammp Apache, Mysql, Php ve Modsecutiy için güvenl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, CHROOT ortamı altında otomati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kurulumunu gerçekleştiren WGT (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1"/>
              </a:rPr>
              <a:t>http://www.webguvenligi.org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) projesid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594720"/>
                <a:tab algn="l" pos="10051920"/>
                <a:tab algn="l" pos="10509120"/>
                <a:tab algn="l" pos="1051236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594720"/>
                <a:tab algn="l" pos="10051920"/>
                <a:tab algn="l" pos="10509120"/>
                <a:tab algn="l" pos="1051236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594720"/>
                <a:tab algn="l" pos="10051920"/>
                <a:tab algn="l" pos="10509120"/>
                <a:tab algn="l" pos="1051236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594720"/>
                <a:tab algn="l" pos="10051920"/>
                <a:tab algn="l" pos="10509120"/>
                <a:tab algn="l" pos="1051236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BE3F5-38D3-43DA-96FC-D0DAC3523D6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Security Ned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ModSecurity Web Uygulama Güvenlik Duvarıdı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Kural tabanlı (Düzenli İfade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Apache Modül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Açık kaynak kod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Uygulanabil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vs v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158EB-7CDB-42C5-9901-59A67DA67688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arvinen Ned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Modsecurity loglarını Mysql veritabanına atarak offline (MSALPARSER) olarak izlenmesini sağlayan WGT (http://www.webguvenligi.org/) Projesidi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2 Bölümden oluşmaktadı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Modsecurity loglarını ayrıştırarak (parsing) bu log kayıt bilgilerin Mysql veritabanına atan betik (shell script 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DejaVu Sans"/>
              </a:rPr>
              <a:t>Log kayıt bilgilerini izlenmesini sağlayan  web arayüz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E04D5-D0F5-462E-AFA7-022B36A0972E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aynak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735120"/>
            <a:ext cx="822960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ea typeface="DejaVu Sans"/>
                <a:hlinkClick r:id="rId1"/>
              </a:rPr>
              <a:t>http://www.webguvenligi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ahoma"/>
                <a:ea typeface="DejaVu Sans"/>
              </a:rPr>
              <a:t>http://www.bilgiguvenligi.gov.tr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Williams</dc:creator>
  <dc:description>http://www.owasp.org</dc:description>
  <cp:keywords>Application Security</cp:keywords>
  <dc:language>en-US</dc:language>
  <cp:lastModifiedBy>Turkcell İletişim Hizmetleri A.Ş.</cp:lastModifiedBy>
  <cp:revision>0</cp:revision>
  <dc:subject/>
  <dc:title>OWASP Plan - Strawman</dc:title>
</cp:coreProperties>
</file>