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DC44-3110-49C4-8689-C5F41BE56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67CF-7216-4152-B23C-4CB2567EA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773F-4018-4E9E-9F07-B8422D2FF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F48A-8D9C-49AB-92FB-7C730A4F6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0DF3-1845-479D-A9EF-6C5AC0A57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B70F-DD9B-4AD7-91D1-DA8FD7529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DE92A-AA3E-4AC4-B116-2C2252984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ADB1-2768-4F9C-ADDF-48D1CE6F2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64BF-2574-4736-B552-4B7914C88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637E-3D60-491F-B25F-C93120EF6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5ADA-AE6F-4358-8FD9-9E2DD2396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2604-B76D-4E02-BDFA-3DCE74E4D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6003D-8F2F-4C76-9790-3E373A79263A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-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00200" y="396252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385040" y="266652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5181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-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144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MANLI GÜVENLİK ANLAYIŞINA UYGULAMALI BİR BAKI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429000"/>
            <a:ext cx="4114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hsin TÜRKÖ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rkoz@uekae.tubitak.gov.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unnel yapısı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57320" y="1779480"/>
            <a:ext cx="524844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ECA0-CE7F-4203-8B50-2ECD2583EE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ootkit / Trojan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310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root/.bash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etc/bash_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root/.bash_log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etc/bash_log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etc/tu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etc/bash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etc/bash_log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etc/tu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st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lanı: chm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A520-24A2-4D59-808B-9A65A2C095F5}" type="slidenum">
              <a:t>11</a:t>
            </a:fld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3104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/etc/bash_logou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310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yıt dosyalarının yedeğini al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stem yönetici yetkilerine sahip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njo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ullanıcısını oluştur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H anahtarlarını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o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ullanıcısının ev dizinine kopya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dırganın bilgisayarına doğru SSH tünelini aç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yıt dosyalarını geri kopya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653F-282E-4640-B26C-FAD1E5C7FF3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3104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/etc/bash_logi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310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yıt dosyalarının yedeğini alır. enjoy kullanıcının ve saldırgan bilgisayarı ile ilgili kayıtları sil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H tünelini ve varsa saldırgana ait aktif bağlantıları kopar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njo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ullanıcısını sil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o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ullanıcısının ev dizinindeki SSH anahtarlarını sil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yıt dosyalarını geri kopya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ECAC-A24C-4D92-A2B9-F2B7FB457B0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3104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öngü #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310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rşı Ön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tkisiz kullanıcı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nobody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le koşan apach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Çıkarılacak 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hak prensib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ışa doğru açık olan bağlantı haklarının kısıtlan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2538-882D-4D12-BE49-9D2EA50597D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öngü #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3104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dı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planı olarak  düşünüle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i aktife edilmiş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m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omutunun kullanıl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rşı Ön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i tümüyle yeniden kur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ot ile hapishane yapısına geçm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Çıkarılacak 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şarılı bir şekilde kırılmış bir sistem yeniden kuru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hak prensibi için tek katman yetersiz ka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C78C1-70AE-4FEF-AFA4-A13EDE6F0BEE}" type="slidenum">
              <a:t>15</a:t>
            </a:fld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Ro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92200" y="1893960"/>
            <a:ext cx="6181920" cy="30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4158-6DD0-4BAD-8363-0628FA599EC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öngü #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3104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dı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I açıklığı ile web tabanlı kabuk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hell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çara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ayfası tahrifatı (deface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rşı Ön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tif bütünlük kontrolcüsü kullanımı - Trip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Çıkarılacak 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üm yönüyle sunucu sıkılaştırması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harde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hak prensibi için iki katman yetersiz ka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D546-0EFB-48BB-A27F-13902D6CB9F3}" type="slidenum">
              <a:t>17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öngü #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3104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dı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I açıklığı ile web tabanlı kabuk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hell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çara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call kullanılarak Hizmet Dışı Bırakma saldırı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ynak kodu ifş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rşı Ön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P kodunu düzelt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Çıkarılacak 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çıklığın kaynağını bulup, önlem alın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tmanlı güvenlik anlayışının öne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ACCE-1517-40B7-B62A-BA47FBBF604E}" type="slidenum">
              <a:t>18</a:t>
            </a:fld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3104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nuç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310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rumsal bilgi sistemlerinde bütün açıklıkların farkında olmak ve zamanında gerekli önlemleri almak çok zordu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tmanlı güvenlik ile farklı güvenlik mekanizmaları uygulayarak saldırıların etkileri azaltılab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3191D-83E7-4F2E-87B9-9C4CD67DF0FA}" type="slidenum">
              <a:t>19</a:t>
            </a:fld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3104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İçer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85600"/>
            <a:ext cx="8231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18960">
              <a:spcBef>
                <a:spcPts val="2237"/>
              </a:spcBef>
              <a:buClr>
                <a:srgbClr val="000000"/>
              </a:buClr>
              <a:buFont typeface="Webdings" charset="2"/>
              <a:buChar char="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riş - Katmanlı güvenliğin tanım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18960">
              <a:spcBef>
                <a:spcPts val="2237"/>
              </a:spcBef>
              <a:buClr>
                <a:srgbClr val="000000"/>
              </a:buClr>
              <a:buFont typeface="Webdings" charset="2"/>
              <a:buChar char="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 ortamı tanıtım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18960">
              <a:spcBef>
                <a:spcPts val="2237"/>
              </a:spcBef>
              <a:buClr>
                <a:srgbClr val="000000"/>
              </a:buClr>
              <a:buFont typeface="Webdings" charset="2"/>
              <a:buChar char="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r PHP açıklığ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18960">
              <a:spcBef>
                <a:spcPts val="2237"/>
              </a:spcBef>
              <a:buClr>
                <a:srgbClr val="000000"/>
              </a:buClr>
              <a:buFont typeface="Webdings" charset="2"/>
              <a:buChar char="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dırılar ve önlem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8040" indent="-318960">
              <a:spcBef>
                <a:spcPts val="2237"/>
              </a:spcBef>
              <a:buClr>
                <a:srgbClr val="000000"/>
              </a:buClr>
              <a:buFont typeface="Webdings" charset="2"/>
              <a:buChar char="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nu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EF5C-3497-4BC4-BCA1-CAD0CBDF32FF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3104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ydalı Linkler &amp; Sorula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310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unixwiz.net/techtips/chroot-practices.htm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cgisecurity.com/webservers/apache/chrootapache2-howto.htm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che güvenliğ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securityfocus.com/infocus/1694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securityfocus.com/infocus/178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apachesecurity.net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modsecurity.org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P güvenliğ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hp-security.org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ww.owasp.or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D1DF-C6D7-4D94-8C25-28D88555365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3104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ydalı Linkl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310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x/rootkit/troj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vil.nai.com/vil/Content/v_100721.ht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rootkit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antirootkit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SH ile tü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securityfocus.com/infocus/181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rzg.mpg.de/networking/tunnelling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ccs.neu.edu/howto/howto-sshtunnel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x güvenliğ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cisecurity.or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rinceton.edu/~psg/unix/security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auscert.org.au/728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53E6-AE41-4807-AF0C-5A83EF3BD3C7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nı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735120" y="765000"/>
            <a:ext cx="8180280" cy="60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ejaVu Sans"/>
              </a:rPr>
              <a:t>Katmanlı güvenlik (Defence in depth, elastic defen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jaVu Sans"/>
              </a:rPr>
              <a:t>Amerikan savunma bakanlığı kaynakl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jaVu Sans"/>
              </a:rPr>
              <a:t>Peşpeşe güvenlik mekanizmalarının uygulanmas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jaVu Sans"/>
              </a:rPr>
              <a:t>Saldırıyı engeleme yerine etkilerini azaltma ya da zayıflatma strateji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jaVu Sans"/>
              </a:rPr>
              <a:t>Ana fikir: Bir savunma mekanizması devre dışı kaldığında sistemi savunmasız bırakm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jaVu Sans"/>
              </a:rPr>
              <a:t>Yöntem: Her katman ile saldırganın hareket alanını daha da kısıtl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jaVu Sans"/>
              </a:rPr>
              <a:t>Örnekler: Fiziksel güvenlik, güvenlik duvarı, saldırı tespit sistemi, şifrel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D8BD-32E1-4863-847C-FF7F069FD7F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00400" y="2262240"/>
            <a:ext cx="4176720" cy="1440"/>
          </a:xfrm>
          <a:custGeom>
            <a:avLst/>
            <a:gdLst/>
            <a:ahLst/>
            <a:rect l="l" t="t" r="r" b="b"/>
            <a:pathLst>
              <a:path w="11603" h="1">
                <a:moveTo>
                  <a:pt x="0" y="0"/>
                </a:moveTo>
                <a:lnTo>
                  <a:pt x="11602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st Ortamı Tanıtımı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866520" cy="11336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593960" y="1158840"/>
            <a:ext cx="1687320" cy="2252160"/>
            <a:chOff x="4593960" y="1158840"/>
            <a:chExt cx="1687320" cy="2252160"/>
          </a:xfrm>
        </p:grpSpPr>
        <p:sp>
          <p:nvSpPr>
            <p:cNvPr id="110" name=""/>
            <p:cNvSpPr/>
            <p:nvPr/>
          </p:nvSpPr>
          <p:spPr>
            <a:xfrm>
              <a:off x="4593960" y="2807280"/>
              <a:ext cx="1684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ux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ache + P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5233320" y="1615680"/>
              <a:ext cx="817920" cy="11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833720" y="1158840"/>
              <a:ext cx="14475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unu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96760" y="3389400"/>
            <a:ext cx="3567240" cy="308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429160" y="1865160"/>
            <a:ext cx="457200" cy="914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90840" y="1168560"/>
            <a:ext cx="1153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dı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72400" y="3429000"/>
            <a:ext cx="1440" cy="1830240"/>
          </a:xfrm>
          <a:custGeom>
            <a:avLst/>
            <a:gdLst/>
            <a:ahLst/>
            <a:rect l="l" t="t" r="r" b="b"/>
            <a:pathLst>
              <a:path w="1" h="5083">
                <a:moveTo>
                  <a:pt x="0" y="50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89640" y="4800600"/>
            <a:ext cx="992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öne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531120" y="2333520"/>
            <a:ext cx="84744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78680" y="1841400"/>
            <a:ext cx="1209600" cy="32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6705720" y="5181480"/>
          <a:ext cx="904680" cy="97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5181480"/>
                    <a:ext cx="90468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86AB-0179-46DA-95B8-AEEEB314CCC7}" type="slidenum">
              <a:t>4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P Açıklığı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3104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zaktan Kod Çalıştırma (RF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zaktan dosya indirmeye ve çalıştırmaya izin veren web uygulama çatı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rdi denetimi zayıf uygulama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kilenen platforml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P (4.0.4 sonrası ve 5.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ğer uygulama çatıları (Java, .NET gib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AE8A-E589-4748-BEBF-A0ACE208ED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zaktan Kod Çalıştırma (RFI) Örne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032360" y="1268280"/>
            <a:ext cx="1440" cy="5185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4920" y="6400800"/>
            <a:ext cx="2276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NUCU TARA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55920" y="6400800"/>
            <a:ext cx="1873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2971800"/>
            <a:ext cx="2735280" cy="1440"/>
          </a:xfrm>
          <a:custGeom>
            <a:avLst/>
            <a:gdLst/>
            <a:ahLst/>
            <a:rect l="l" t="t" r="r" b="b"/>
            <a:pathLst>
              <a:path w="7599" h="1">
                <a:moveTo>
                  <a:pt x="0" y="0"/>
                </a:moveTo>
                <a:lnTo>
                  <a:pt x="7598" y="0"/>
                </a:lnTo>
              </a:path>
            </a:pathLst>
          </a:custGeom>
          <a:noFill/>
          <a:ln w="36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84360" y="2620800"/>
            <a:ext cx="2530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/index.php?</a:t>
            </a:r>
            <a:r>
              <a:rPr b="0" lang="en-US" sz="1800" spc="-1" strike="noStrike">
                <a:solidFill>
                  <a:srgbClr val="db1a21"/>
                </a:solidFill>
                <a:latin typeface="DejaVu Sans"/>
              </a:rPr>
              <a:t>lang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=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70920" y="5535720"/>
            <a:ext cx="720720" cy="1079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99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4724280"/>
            <a:ext cx="2735280" cy="1800"/>
          </a:xfrm>
          <a:custGeom>
            <a:avLst/>
            <a:gdLst/>
            <a:ahLst/>
            <a:rect l="l" t="t" r="r" b="b"/>
            <a:pathLst>
              <a:path w="7599" h="1">
                <a:moveTo>
                  <a:pt x="0" y="0"/>
                </a:moveTo>
                <a:lnTo>
                  <a:pt x="7598" y="0"/>
                </a:lnTo>
              </a:path>
            </a:pathLst>
          </a:custGeom>
          <a:noFill/>
          <a:ln w="36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55640" y="4797360"/>
            <a:ext cx="107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u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360" y="2500200"/>
            <a:ext cx="1262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870280"/>
            <a:ext cx="3095640" cy="2952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99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language = $_REQUEST[‘</a:t>
            </a:r>
            <a:r>
              <a:rPr b="0" lang="en-US" sz="1400" spc="-1" strike="noStrike">
                <a:solidFill>
                  <a:srgbClr val="db1a21"/>
                </a:solidFill>
                <a:latin typeface="Arial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($language.”php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53440" y="5194440"/>
            <a:ext cx="829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75640" y="4165560"/>
            <a:ext cx="1152360" cy="1009800"/>
          </a:xfrm>
          <a:custGeom>
            <a:avLst/>
            <a:gdLst/>
            <a:ahLst/>
            <a:rect l="l" t="t" r="r" b="b"/>
            <a:pathLst>
              <a:path w="3203" h="2805">
                <a:moveTo>
                  <a:pt x="3202" y="2804"/>
                </a:moveTo>
                <a:lnTo>
                  <a:pt x="0" y="0"/>
                </a:lnTo>
              </a:path>
            </a:pathLst>
          </a:custGeom>
          <a:noFill/>
          <a:ln w="36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52480" y="914400"/>
            <a:ext cx="1928880" cy="1371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608960" y="914400"/>
            <a:ext cx="130644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85B9-5928-4E14-A3AF-497A85DD4A15}" type="slidenum">
              <a:t>6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zaktan Kod Çalıştırma (RFI) Örne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030560" y="1268280"/>
            <a:ext cx="1800" cy="5185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57200" y="3116160"/>
            <a:ext cx="3214800" cy="1800"/>
          </a:xfrm>
          <a:custGeom>
            <a:avLst/>
            <a:gdLst/>
            <a:ahLst/>
            <a:rect l="l" t="t" r="r" b="b"/>
            <a:pathLst>
              <a:path w="8930" h="1">
                <a:moveTo>
                  <a:pt x="0" y="0"/>
                </a:moveTo>
                <a:lnTo>
                  <a:pt x="8929" y="0"/>
                </a:lnTo>
              </a:path>
            </a:pathLst>
          </a:custGeom>
          <a:noFill/>
          <a:ln w="36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759040"/>
            <a:ext cx="4343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ejaVu Sans"/>
              </a:rPr>
              <a:t>/index.php?</a:t>
            </a:r>
            <a:r>
              <a:rPr b="0" lang="en-US" sz="1500" spc="-1" strike="noStrike">
                <a:solidFill>
                  <a:srgbClr val="db1a21"/>
                </a:solidFill>
                <a:latin typeface="DejaVu Sans"/>
              </a:rPr>
              <a:t>lang</a:t>
            </a:r>
            <a:r>
              <a:rPr b="0" lang="en-US" sz="1500" spc="-1" strike="noStrike">
                <a:solidFill>
                  <a:srgbClr val="000000"/>
                </a:solidFill>
                <a:latin typeface="DejaVu Sans"/>
              </a:rPr>
              <a:t>=http://abc.com/tr.php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537000"/>
            <a:ext cx="720720" cy="1079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99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4343400"/>
            <a:ext cx="251460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ttp://abc.com/tr.ph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5713560"/>
            <a:ext cx="107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u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15360" y="2386080"/>
            <a:ext cx="1262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5715000"/>
            <a:ext cx="3200400" cy="1440"/>
          </a:xfrm>
          <a:custGeom>
            <a:avLst/>
            <a:gdLst/>
            <a:ahLst/>
            <a:rect l="l" t="t" r="r" b="b"/>
            <a:pathLst>
              <a:path w="8891" h="1">
                <a:moveTo>
                  <a:pt x="0" y="0"/>
                </a:moveTo>
                <a:lnTo>
                  <a:pt x="8890" y="0"/>
                </a:lnTo>
              </a:path>
            </a:pathLst>
          </a:custGeom>
          <a:noFill/>
          <a:ln w="36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4800600"/>
            <a:ext cx="3214800" cy="1440"/>
          </a:xfrm>
          <a:custGeom>
            <a:avLst/>
            <a:gdLst/>
            <a:ahLst/>
            <a:rect l="l" t="t" r="r" b="b"/>
            <a:pathLst>
              <a:path w="8930" h="1">
                <a:moveTo>
                  <a:pt x="0" y="0"/>
                </a:moveTo>
                <a:lnTo>
                  <a:pt x="8929" y="0"/>
                </a:lnTo>
              </a:path>
            </a:pathLst>
          </a:custGeom>
          <a:noFill/>
          <a:ln w="36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2852640"/>
            <a:ext cx="3095640" cy="2952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99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language = $_REQUEST[‘</a:t>
            </a:r>
            <a:r>
              <a:rPr b="0" lang="en-US" sz="1400" spc="-1" strike="noStrike">
                <a:solidFill>
                  <a:srgbClr val="db1a21"/>
                </a:solidFill>
                <a:latin typeface="Arial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($language.”php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4788000"/>
            <a:ext cx="3214800" cy="1440"/>
          </a:xfrm>
          <a:custGeom>
            <a:avLst/>
            <a:gdLst/>
            <a:ahLst/>
            <a:rect l="l" t="t" r="r" b="b"/>
            <a:pathLst>
              <a:path w="8930" h="1">
                <a:moveTo>
                  <a:pt x="0" y="0"/>
                </a:moveTo>
                <a:lnTo>
                  <a:pt x="8929" y="0"/>
                </a:lnTo>
              </a:path>
            </a:pathLst>
          </a:custGeom>
          <a:noFill/>
          <a:ln w="36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6400800"/>
            <a:ext cx="2276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NUCU TARA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55920" y="6400800"/>
            <a:ext cx="21016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52480" y="914400"/>
            <a:ext cx="1928880" cy="1371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608960" y="914400"/>
            <a:ext cx="130644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B187-267D-4761-BD77-71BD3368CAFA}" type="slidenum">
              <a:t>7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ldırı – Önlem Döngü Yapısı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554120" y="3886200"/>
            <a:ext cx="10083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jaVu Sans"/>
              </a:rPr>
              <a:t>Saldı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13240" y="554040"/>
            <a:ext cx="2743200" cy="173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862600" y="3935520"/>
            <a:ext cx="2941560" cy="2809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76440" y="3905280"/>
            <a:ext cx="2838240" cy="2733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782640" y="2057400"/>
            <a:ext cx="2514600" cy="168912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6215040" y="2093760"/>
            <a:ext cx="2470320" cy="2139840"/>
            <a:chOff x="6215040" y="2093760"/>
            <a:chExt cx="2470320" cy="2139840"/>
          </a:xfrm>
        </p:grpSpPr>
        <p:sp>
          <p:nvSpPr>
            <p:cNvPr id="162" name=""/>
            <p:cNvSpPr/>
            <p:nvPr/>
          </p:nvSpPr>
          <p:spPr>
            <a:xfrm>
              <a:off x="6857280" y="3884760"/>
              <a:ext cx="15264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rşı Önl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6215040" y="2093760"/>
              <a:ext cx="2470320" cy="164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3428640" y="4608360"/>
            <a:ext cx="2512800" cy="2091960"/>
            <a:chOff x="3428640" y="4608360"/>
            <a:chExt cx="2512800" cy="2091960"/>
          </a:xfrm>
        </p:grpSpPr>
        <p:sp>
          <p:nvSpPr>
            <p:cNvPr id="165" name=""/>
            <p:cNvSpPr/>
            <p:nvPr/>
          </p:nvSpPr>
          <p:spPr>
            <a:xfrm>
              <a:off x="3593880" y="6351480"/>
              <a:ext cx="22334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Çıkarılacak Ders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3428640" y="4608360"/>
              <a:ext cx="2512800" cy="167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7889-7921-4A4A-B97B-9EEDCE919FC8}" type="slidenum">
              <a:t>8</a:t>
            </a:fld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öngü #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5120" y="765000"/>
            <a:ext cx="8229600" cy="60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dırganın bakış açı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PShell yeterli m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dırganın ihtiyaç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mpleks işlemlerin yürütülebileceği bir bağlantı arabiri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ucunun arkasındaki sistemlere eriş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tki seviyesi yüksek bir kullanıcı hesab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yıt dosyalarının temizlenm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ğlantıları ele verebilecek komutların değiştiril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Çözüm: Rootkit / Trojan enjeksiyo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8166-F0B4-49F9-A58E-1AA302EEE7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rkano</dc:creator>
  <dc:description/>
  <dc:language>en-US</dc:language>
  <cp:lastModifiedBy>oktem</cp:lastModifiedBy>
  <dcterms:modified xsi:type="dcterms:W3CDTF">2007-12-05T14:57:18Z</dcterms:modified>
  <cp:revision>8</cp:revision>
  <dc:subject/>
  <dc:title>Slide 1</dc:title>
</cp:coreProperties>
</file>