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2.png" ContentType="image/pn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20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wmf" ContentType="image/x-wmf"/>
  <Override PartName="/ppt/media/image1.png" ContentType="image/png"/>
  <Override PartName="/ppt/media/image24.jpeg" ContentType="image/jpeg"/>
  <Override PartName="/ppt/media/image3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5" y="0"/>
                </a:moveTo>
                <a:arcTo wR="5" hR="5" stAng="16200000" swAng="-5400000"/>
                <a:lnTo>
                  <a:pt x="0" y="31134"/>
                </a:lnTo>
                <a:arcTo wR="5" hR="5" stAng="10800000" swAng="-5400000"/>
                <a:lnTo>
                  <a:pt x="21595" y="3113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73320" cy="511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8960" bIns="4896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955800"/>
                <a:tab algn="l" pos="1909800"/>
                <a:tab algn="l" pos="2865600"/>
                <a:tab algn="l" pos="3819600"/>
                <a:tab algn="l" pos="4775040"/>
                <a:tab algn="l" pos="5729400"/>
                <a:tab algn="l" pos="6684840"/>
                <a:tab algn="l" pos="7640640"/>
                <a:tab algn="l" pos="8594640"/>
                <a:tab algn="l" pos="9550440"/>
                <a:tab algn="l" pos="10504440"/>
                <a:tab algn="l" pos="1051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4"/>
          </p:nvPr>
        </p:nvSpPr>
        <p:spPr>
          <a:xfrm>
            <a:off x="4022280" y="0"/>
            <a:ext cx="3073320" cy="511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8960" bIns="48960" anchor="t">
            <a:noAutofit/>
          </a:bodyPr>
          <a:lstStyle>
            <a:lvl1pPr indent="0" algn="r">
              <a:lnSpc>
                <a:spcPct val="104000"/>
              </a:lnSpc>
              <a:buNone/>
              <a:tabLst>
                <a:tab algn="l" pos="0"/>
                <a:tab algn="l" pos="955800"/>
                <a:tab algn="l" pos="1909800"/>
                <a:tab algn="l" pos="2865600"/>
                <a:tab algn="l" pos="3819600"/>
                <a:tab algn="l" pos="4775040"/>
                <a:tab algn="l" pos="5729400"/>
                <a:tab algn="l" pos="6684840"/>
                <a:tab algn="l" pos="7640640"/>
                <a:tab algn="l" pos="8594640"/>
                <a:tab algn="l" pos="9550440"/>
                <a:tab algn="l" pos="10504440"/>
                <a:tab algn="l" pos="10512360"/>
              </a:tabLst>
              <a:defRPr b="0" lang="en-GB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4000"/>
              </a:lnSpc>
              <a:buNone/>
              <a:tabLst>
                <a:tab algn="l" pos="0"/>
                <a:tab algn="l" pos="955800"/>
                <a:tab algn="l" pos="1909800"/>
                <a:tab algn="l" pos="2865600"/>
                <a:tab algn="l" pos="3819600"/>
                <a:tab algn="l" pos="4775040"/>
                <a:tab algn="l" pos="5729400"/>
                <a:tab algn="l" pos="6684840"/>
                <a:tab algn="l" pos="7640640"/>
                <a:tab algn="l" pos="8594640"/>
                <a:tab algn="l" pos="9550440"/>
                <a:tab algn="l" pos="10504440"/>
                <a:tab algn="l" pos="1051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Img"/>
          </p:nvPr>
        </p:nvSpPr>
        <p:spPr>
          <a:xfrm>
            <a:off x="990720" y="767880"/>
            <a:ext cx="5116320" cy="38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945720" y="4862520"/>
            <a:ext cx="52038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5"/>
          </p:nvPr>
        </p:nvSpPr>
        <p:spPr>
          <a:xfrm>
            <a:off x="-360" y="9723240"/>
            <a:ext cx="3073320" cy="510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8960" bIns="48960" anchor="b">
            <a:noAutofit/>
          </a:bodyPr>
          <a:lstStyle>
            <a:lvl1pPr indent="0">
              <a:lnSpc>
                <a:spcPct val="104000"/>
              </a:lnSpc>
              <a:buNone/>
              <a:tabLst>
                <a:tab algn="l" pos="0"/>
                <a:tab algn="l" pos="955800"/>
                <a:tab algn="l" pos="1909800"/>
                <a:tab algn="l" pos="2865600"/>
                <a:tab algn="l" pos="3819600"/>
                <a:tab algn="l" pos="4775040"/>
                <a:tab algn="l" pos="5729400"/>
                <a:tab algn="l" pos="6684840"/>
                <a:tab algn="l" pos="7640640"/>
                <a:tab algn="l" pos="8594640"/>
                <a:tab algn="l" pos="9550440"/>
                <a:tab algn="l" pos="10504440"/>
                <a:tab algn="l" pos="10512360"/>
              </a:tabLst>
              <a:defRPr b="0" lang="en-GB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4000"/>
              </a:lnSpc>
              <a:buNone/>
              <a:tabLst>
                <a:tab algn="l" pos="0"/>
                <a:tab algn="l" pos="955800"/>
                <a:tab algn="l" pos="1909800"/>
                <a:tab algn="l" pos="2865600"/>
                <a:tab algn="l" pos="3819600"/>
                <a:tab algn="l" pos="4775040"/>
                <a:tab algn="l" pos="5729400"/>
                <a:tab algn="l" pos="6684840"/>
                <a:tab algn="l" pos="7640640"/>
                <a:tab algn="l" pos="8594640"/>
                <a:tab algn="l" pos="9550440"/>
                <a:tab algn="l" pos="10504440"/>
                <a:tab algn="l" pos="1051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6"/>
          </p:nvPr>
        </p:nvSpPr>
        <p:spPr>
          <a:xfrm>
            <a:off x="4022280" y="9723240"/>
            <a:ext cx="3073320" cy="510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8960" bIns="48960" anchor="b">
            <a:noAutofit/>
          </a:bodyPr>
          <a:lstStyle>
            <a:lvl1pPr indent="0" algn="r">
              <a:lnSpc>
                <a:spcPct val="104000"/>
              </a:lnSpc>
              <a:buNone/>
              <a:tabLst>
                <a:tab algn="l" pos="0"/>
                <a:tab algn="l" pos="955800"/>
                <a:tab algn="l" pos="1909800"/>
                <a:tab algn="l" pos="2865600"/>
                <a:tab algn="l" pos="3819600"/>
                <a:tab algn="l" pos="4775040"/>
                <a:tab algn="l" pos="5729400"/>
                <a:tab algn="l" pos="6684840"/>
                <a:tab algn="l" pos="7640640"/>
                <a:tab algn="l" pos="8594640"/>
                <a:tab algn="l" pos="9550440"/>
                <a:tab algn="l" pos="10504440"/>
                <a:tab algn="l" pos="10512360"/>
              </a:tabLst>
              <a:defRPr b="0" lang="en-GB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4000"/>
              </a:lnSpc>
              <a:buNone/>
              <a:tabLst>
                <a:tab algn="l" pos="0"/>
                <a:tab algn="l" pos="955800"/>
                <a:tab algn="l" pos="1909800"/>
                <a:tab algn="l" pos="2865600"/>
                <a:tab algn="l" pos="3819600"/>
                <a:tab algn="l" pos="4775040"/>
                <a:tab algn="l" pos="5729400"/>
                <a:tab algn="l" pos="6684840"/>
                <a:tab algn="l" pos="7640640"/>
                <a:tab algn="l" pos="8594640"/>
                <a:tab algn="l" pos="9550440"/>
                <a:tab algn="l" pos="10504440"/>
                <a:tab algn="l" pos="10512360"/>
              </a:tabLst>
            </a:pPr>
            <a:fld id="{F43A9B46-D22E-4FB8-AE29-AB4BE7B0A178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907920" y="768240"/>
            <a:ext cx="5281920" cy="383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56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8160" cy="22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39400"/>
            <a:ext cx="8228160" cy="22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080" cy="22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3520" y="1341000"/>
            <a:ext cx="4015080" cy="22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39400"/>
            <a:ext cx="4015080" cy="22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3520" y="3839400"/>
            <a:ext cx="4015080" cy="22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240" cy="22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280" y="1341000"/>
            <a:ext cx="2649240" cy="22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1360" y="1341000"/>
            <a:ext cx="2649240" cy="22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39400"/>
            <a:ext cx="2649240" cy="22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280" y="3839400"/>
            <a:ext cx="2649240" cy="22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1360" y="3839400"/>
            <a:ext cx="2649240" cy="22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10B4-8F4A-4F7F-8396-E2AD55108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8160" cy="47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13BA-81D0-4FD1-A7EB-06146A14A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8160" cy="47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C0C5-7B1C-4731-B134-83F522DAF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080" cy="47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3520" y="1341000"/>
            <a:ext cx="4015080" cy="47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6D7F-6593-436D-B39B-A924E1C23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96EC-936C-4376-8EC6-54175C33E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8160" cy="426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3A6C-E7FE-4F65-A742-7F9D76783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080" cy="22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520" y="1341000"/>
            <a:ext cx="4015080" cy="47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839400"/>
            <a:ext cx="4015080" cy="22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D357-4507-4F3B-BD84-465F08AF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8160" cy="47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080" cy="47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3520" y="1341000"/>
            <a:ext cx="4015080" cy="22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3520" y="3839400"/>
            <a:ext cx="4015080" cy="22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8A57-F08E-4B70-85AB-A62949E0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080" cy="22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3520" y="1341000"/>
            <a:ext cx="4015080" cy="22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839400"/>
            <a:ext cx="8228160" cy="22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6C91-FDCF-498F-871C-E1E529FB3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8160" cy="22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839400"/>
            <a:ext cx="8228160" cy="22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42AE-7DAF-4750-B86A-A981B0863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080" cy="22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520" y="1341000"/>
            <a:ext cx="4015080" cy="22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839400"/>
            <a:ext cx="4015080" cy="22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3520" y="3839400"/>
            <a:ext cx="4015080" cy="22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D8E2-E813-4BFD-9DF8-13F719644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240" cy="22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280" y="1341000"/>
            <a:ext cx="2649240" cy="22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1360" y="1341000"/>
            <a:ext cx="2649240" cy="22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839400"/>
            <a:ext cx="2649240" cy="22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280" y="3839400"/>
            <a:ext cx="2649240" cy="22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1360" y="3839400"/>
            <a:ext cx="2649240" cy="22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44D7-3258-4483-9733-2BBA26CC1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8160" cy="47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080" cy="47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3520" y="1341000"/>
            <a:ext cx="4015080" cy="47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8160" cy="426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080" cy="22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3520" y="1341000"/>
            <a:ext cx="4015080" cy="47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39400"/>
            <a:ext cx="4015080" cy="22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080" cy="47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3520" y="1341000"/>
            <a:ext cx="4015080" cy="22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3520" y="3839400"/>
            <a:ext cx="4015080" cy="22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080" cy="22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3520" y="1341000"/>
            <a:ext cx="4015080" cy="22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39400"/>
            <a:ext cx="8228160" cy="22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39320" cy="2589480"/>
            <a:chOff x="3240" y="4267080"/>
            <a:chExt cx="9139320" cy="258948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39320" cy="258948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599800" y="5896440"/>
              <a:ext cx="1254960" cy="824400"/>
              <a:chOff x="5599800" y="5896440"/>
              <a:chExt cx="1254960" cy="824400"/>
            </a:xfrm>
          </p:grpSpPr>
          <p:sp>
            <p:nvSpPr>
              <p:cNvPr id="4" name=""/>
              <p:cNvSpPr/>
              <p:nvPr/>
            </p:nvSpPr>
            <p:spPr>
              <a:xfrm>
                <a:off x="5851440" y="6046560"/>
                <a:ext cx="843120" cy="517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4800" y="6094080"/>
                <a:ext cx="716400" cy="4352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3720" y="6144480"/>
                <a:ext cx="545040" cy="3276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7080" y="6182640"/>
                <a:ext cx="415440" cy="2512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0720" y="6224040"/>
                <a:ext cx="304200" cy="169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5400" y="5896440"/>
                <a:ext cx="606960" cy="25452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5480" y="6616440"/>
                <a:ext cx="703800" cy="10440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599800" y="6198480"/>
                <a:ext cx="140760" cy="34200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6040" y="5943600"/>
                <a:ext cx="1188720" cy="72936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07640" y="5905800"/>
                <a:ext cx="152280" cy="4716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6400" y="6265080"/>
                <a:ext cx="133200" cy="8352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8800" y="5763240"/>
              <a:ext cx="2578320" cy="1081440"/>
              <a:chOff x="2818800" y="5763240"/>
              <a:chExt cx="2578320" cy="1081440"/>
            </a:xfrm>
          </p:grpSpPr>
          <p:sp>
            <p:nvSpPr>
              <p:cNvPr id="16" name=""/>
              <p:cNvSpPr/>
              <p:nvPr/>
            </p:nvSpPr>
            <p:spPr>
              <a:xfrm>
                <a:off x="3598560" y="6242760"/>
                <a:ext cx="1011960" cy="5968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1640" y="6280920"/>
                <a:ext cx="861120" cy="52560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4480" y="6314040"/>
                <a:ext cx="794160" cy="4734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7320" y="6342840"/>
                <a:ext cx="704160" cy="4082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4320" y="6355440"/>
                <a:ext cx="654840" cy="379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6760" y="6388560"/>
                <a:ext cx="485280" cy="3038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28320" y="6436080"/>
                <a:ext cx="360000" cy="2134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3440" y="6501240"/>
                <a:ext cx="142200" cy="94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1480" y="6065640"/>
                <a:ext cx="712080" cy="29448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399120" y="6112800"/>
                <a:ext cx="1414440" cy="7318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3720" y="6074640"/>
                <a:ext cx="645480" cy="7700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39040" y="6417000"/>
                <a:ext cx="171000" cy="39888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1400" y="5848560"/>
                <a:ext cx="1324080" cy="23724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2800" y="6114600"/>
                <a:ext cx="271080" cy="7300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1800" y="5952960"/>
                <a:ext cx="570960" cy="89172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8120" y="5763240"/>
                <a:ext cx="1709280" cy="6728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1960" y="6474240"/>
                <a:ext cx="155160" cy="37044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8800" y="5829480"/>
                <a:ext cx="762480" cy="101520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2000" y="5333400"/>
              <a:ext cx="2142360" cy="1300320"/>
              <a:chOff x="6552000" y="5333400"/>
              <a:chExt cx="2142360" cy="1300320"/>
            </a:xfrm>
          </p:grpSpPr>
          <p:sp>
            <p:nvSpPr>
              <p:cNvPr id="35" name=""/>
              <p:cNvSpPr/>
              <p:nvPr/>
            </p:nvSpPr>
            <p:spPr>
              <a:xfrm>
                <a:off x="6666120" y="5399640"/>
                <a:ext cx="1904400" cy="115776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2000" y="5342400"/>
                <a:ext cx="862560" cy="116748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5000" y="5333400"/>
                <a:ext cx="965880" cy="39888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5000" y="6358320"/>
                <a:ext cx="114120" cy="8532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49960" y="6462720"/>
                <a:ext cx="1117800" cy="17100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67560" y="5798880"/>
                <a:ext cx="226800" cy="54036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1600" y="5751360"/>
                <a:ext cx="131400" cy="14256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4560" y="5637240"/>
                <a:ext cx="1136880" cy="68292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2640" y="5570640"/>
                <a:ext cx="1441080" cy="8445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3560" y="5542200"/>
                <a:ext cx="578880" cy="10440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3360" y="5646960"/>
                <a:ext cx="104400" cy="7560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5120" y="5725800"/>
                <a:ext cx="821160" cy="5054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5880" y="5760720"/>
                <a:ext cx="707040" cy="42912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6280" y="5792400"/>
                <a:ext cx="612000" cy="3693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6120" y="5837040"/>
                <a:ext cx="472320" cy="2800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3360" y="5868720"/>
                <a:ext cx="352080" cy="2199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19320" y="5915880"/>
                <a:ext cx="199800" cy="12852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0440" y="4800240"/>
              <a:ext cx="672480" cy="407160"/>
              <a:chOff x="8380440" y="4800240"/>
              <a:chExt cx="672480" cy="407160"/>
            </a:xfrm>
          </p:grpSpPr>
          <p:sp>
            <p:nvSpPr>
              <p:cNvPr id="53" name=""/>
              <p:cNvSpPr/>
              <p:nvPr/>
            </p:nvSpPr>
            <p:spPr>
              <a:xfrm>
                <a:off x="8380440" y="5055840"/>
                <a:ext cx="606240" cy="15156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5880" y="4800240"/>
                <a:ext cx="407880" cy="8496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58240" y="4866480"/>
                <a:ext cx="94680" cy="24624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0560" y="5150520"/>
                <a:ext cx="303840" cy="2808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18240" y="4828320"/>
                <a:ext cx="254880" cy="2937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1280" y="4828320"/>
                <a:ext cx="294120" cy="3315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3400" y="4853880"/>
                <a:ext cx="473040" cy="2934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0280" y="4896360"/>
                <a:ext cx="357480" cy="206640"/>
                <a:chOff x="8540280" y="4896360"/>
                <a:chExt cx="357480" cy="20664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0280" y="4896360"/>
                  <a:ext cx="357480" cy="206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4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4840" y="4918320"/>
                  <a:ext cx="286200" cy="15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4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18760" y="4933800"/>
                  <a:ext cx="196560" cy="128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lnSpc>
                      <a:spcPct val="104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1240" y="4958640"/>
                  <a:ext cx="114840" cy="7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pPr>
                    <a:lnSpc>
                      <a:spcPct val="104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8160" cy="47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4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4000"/>
              </a:lnSpc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4000"/>
              </a:lnSpc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4000"/>
              </a:lnSpc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04000"/>
              </a:lnSpc>
              <a:spcBef>
                <a:spcPts val="799"/>
              </a:spcBef>
              <a:buClr>
                <a:srgbClr val="afe1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0" y="6162840"/>
          <a:ext cx="9144000" cy="69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162840"/>
                    <a:ext cx="914400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3240" y="4267080"/>
            <a:ext cx="9139320" cy="2589480"/>
            <a:chOff x="3240" y="4267080"/>
            <a:chExt cx="9139320" cy="2589480"/>
          </a:xfrm>
        </p:grpSpPr>
        <p:sp>
          <p:nvSpPr>
            <p:cNvPr id="106" name=""/>
            <p:cNvSpPr/>
            <p:nvPr/>
          </p:nvSpPr>
          <p:spPr>
            <a:xfrm>
              <a:off x="3240" y="4267080"/>
              <a:ext cx="9139320" cy="258948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5599800" y="5896440"/>
              <a:ext cx="1254960" cy="824400"/>
              <a:chOff x="5599800" y="5896440"/>
              <a:chExt cx="1254960" cy="824400"/>
            </a:xfrm>
          </p:grpSpPr>
          <p:sp>
            <p:nvSpPr>
              <p:cNvPr id="108" name=""/>
              <p:cNvSpPr/>
              <p:nvPr/>
            </p:nvSpPr>
            <p:spPr>
              <a:xfrm>
                <a:off x="5851440" y="6046560"/>
                <a:ext cx="843120" cy="517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914800" y="6094080"/>
                <a:ext cx="716400" cy="4352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03720" y="6144480"/>
                <a:ext cx="545040" cy="3276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67080" y="6182640"/>
                <a:ext cx="415440" cy="2512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120720" y="6224040"/>
                <a:ext cx="304200" cy="169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675400" y="5896440"/>
                <a:ext cx="606960" cy="25452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865480" y="6616440"/>
                <a:ext cx="703800" cy="10440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599800" y="6198480"/>
                <a:ext cx="140760" cy="34200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66040" y="5943600"/>
                <a:ext cx="1188720" cy="72936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407640" y="5905800"/>
                <a:ext cx="152280" cy="4716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206400" y="6265080"/>
                <a:ext cx="133200" cy="8352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2818800" y="5763240"/>
              <a:ext cx="2578320" cy="1081440"/>
              <a:chOff x="2818800" y="5763240"/>
              <a:chExt cx="2578320" cy="1081440"/>
            </a:xfrm>
          </p:grpSpPr>
          <p:sp>
            <p:nvSpPr>
              <p:cNvPr id="120" name=""/>
              <p:cNvSpPr/>
              <p:nvPr/>
            </p:nvSpPr>
            <p:spPr>
              <a:xfrm>
                <a:off x="3598560" y="6242760"/>
                <a:ext cx="1011960" cy="5968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671640" y="6280920"/>
                <a:ext cx="861120" cy="52560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714480" y="6314040"/>
                <a:ext cx="794160" cy="4734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57320" y="6342840"/>
                <a:ext cx="704160" cy="4082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84320" y="6355440"/>
                <a:ext cx="654840" cy="379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866760" y="6388560"/>
                <a:ext cx="485280" cy="3038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928320" y="6436080"/>
                <a:ext cx="360000" cy="2134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033440" y="6501240"/>
                <a:ext cx="142200" cy="94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101480" y="6065640"/>
                <a:ext cx="712080" cy="29448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399120" y="6112800"/>
                <a:ext cx="1414440" cy="7318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303720" y="6074640"/>
                <a:ext cx="645480" cy="7700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739040" y="6417000"/>
                <a:ext cx="171000" cy="39888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281400" y="5848560"/>
                <a:ext cx="1324080" cy="23724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962800" y="6114600"/>
                <a:ext cx="271080" cy="7300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681800" y="5952960"/>
                <a:ext cx="570960" cy="89172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678120" y="5763240"/>
                <a:ext cx="1709280" cy="6728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241960" y="6474240"/>
                <a:ext cx="155160" cy="37044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818800" y="5829480"/>
                <a:ext cx="762480" cy="101520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6552000" y="5333400"/>
              <a:ext cx="2142360" cy="1300320"/>
              <a:chOff x="6552000" y="5333400"/>
              <a:chExt cx="2142360" cy="1300320"/>
            </a:xfrm>
          </p:grpSpPr>
          <p:sp>
            <p:nvSpPr>
              <p:cNvPr id="139" name=""/>
              <p:cNvSpPr/>
              <p:nvPr/>
            </p:nvSpPr>
            <p:spPr>
              <a:xfrm>
                <a:off x="6666120" y="5399640"/>
                <a:ext cx="1904400" cy="115776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552000" y="5342400"/>
                <a:ext cx="862560" cy="116748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605000" y="5333400"/>
                <a:ext cx="965880" cy="39888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325000" y="6358320"/>
                <a:ext cx="114120" cy="8532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149960" y="6462720"/>
                <a:ext cx="1117800" cy="17100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8467560" y="5798880"/>
                <a:ext cx="226800" cy="54036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031600" y="5751360"/>
                <a:ext cx="131400" cy="14256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054560" y="5637240"/>
                <a:ext cx="1136880" cy="68292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902640" y="5570640"/>
                <a:ext cx="1441080" cy="8445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243560" y="5542200"/>
                <a:ext cx="578880" cy="10440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083360" y="5646960"/>
                <a:ext cx="104400" cy="7560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215120" y="5725800"/>
                <a:ext cx="821160" cy="5054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65880" y="5760720"/>
                <a:ext cx="707040" cy="42912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316280" y="5792400"/>
                <a:ext cx="612000" cy="3693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86120" y="5837040"/>
                <a:ext cx="472320" cy="2800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443360" y="5868720"/>
                <a:ext cx="352080" cy="2199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519320" y="5915880"/>
                <a:ext cx="199800" cy="12852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8380440" y="4800240"/>
              <a:ext cx="672480" cy="407160"/>
              <a:chOff x="8380440" y="4800240"/>
              <a:chExt cx="672480" cy="407160"/>
            </a:xfrm>
          </p:grpSpPr>
          <p:sp>
            <p:nvSpPr>
              <p:cNvPr id="157" name=""/>
              <p:cNvSpPr/>
              <p:nvPr/>
            </p:nvSpPr>
            <p:spPr>
              <a:xfrm>
                <a:off x="8380440" y="5055840"/>
                <a:ext cx="606240" cy="15156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435880" y="4800240"/>
                <a:ext cx="407880" cy="8496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958240" y="4866480"/>
                <a:ext cx="94680" cy="24624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530560" y="5150520"/>
                <a:ext cx="303840" cy="2808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418240" y="4828320"/>
                <a:ext cx="254880" cy="2937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711280" y="4828320"/>
                <a:ext cx="294120" cy="3315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483400" y="4853880"/>
                <a:ext cx="473040" cy="2934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4" name=""/>
              <p:cNvGrpSpPr/>
              <p:nvPr/>
            </p:nvGrpSpPr>
            <p:grpSpPr>
              <a:xfrm>
                <a:off x="8540280" y="4896360"/>
                <a:ext cx="357480" cy="206640"/>
                <a:chOff x="8540280" y="4896360"/>
                <a:chExt cx="357480" cy="20664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8540280" y="4896360"/>
                  <a:ext cx="357480" cy="206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4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8574840" y="4918320"/>
                  <a:ext cx="286200" cy="15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4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618760" y="4933800"/>
                  <a:ext cx="196560" cy="128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lnSpc>
                      <a:spcPct val="104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61240" y="4958640"/>
                  <a:ext cx="114840" cy="7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pPr>
                    <a:lnSpc>
                      <a:spcPct val="104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1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6/04/0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4A1077-34B4-4FC2-ACDA-8302F0EAB4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owasp.org/" TargetMode="External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8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hyperlink" Target="http://www.karaarslan.net/guvenlik.html" TargetMode="External"/><Relationship Id="rId2" Type="http://schemas.openxmlformats.org/officeDocument/2006/relationships/hyperlink" Target="http://www.webguvenligi.org/" TargetMode="External"/><Relationship Id="rId3" Type="http://schemas.openxmlformats.org/officeDocument/2006/relationships/hyperlink" Target="http://websecurity.ege.edu.tr/" TargetMode="External"/><Relationship Id="rId4" Type="http://schemas.openxmlformats.org/officeDocument/2006/relationships/hyperlink" Target="http://csirt.ulakbim.gov.tr/belgeler" TargetMode="External"/><Relationship Id="rId5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hyperlink" Target="mailto:csirt@ulakbim.gov.tr" TargetMode="External"/><Relationship Id="rId2" Type="http://schemas.openxmlformats.org/officeDocument/2006/relationships/hyperlink" Target="mailto:info@karaarslan.net" TargetMode="External"/><Relationship Id="rId3" Type="http://schemas.openxmlformats.org/officeDocument/2006/relationships/hyperlink" Target="http://csirt.ulakbim.gov.tr/eng" TargetMode="External"/><Relationship Id="rId4" Type="http://schemas.openxmlformats.org/officeDocument/2006/relationships/hyperlink" Target="http://csirt.ulakbim.gov.tr/eng" TargetMode="External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lnSpc>
                <a:spcPct val="81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ctr">
              <a:lnSpc>
                <a:spcPct val="83000"/>
              </a:lnSpc>
              <a:spcBef>
                <a:spcPts val="1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tr-TR" sz="5400" spc="-1" strike="noStrike">
                <a:solidFill>
                  <a:srgbClr val="ffffff"/>
                </a:solidFill>
                <a:latin typeface="Arial"/>
              </a:rPr>
              <a:t>Kurumsal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ctr">
              <a:lnSpc>
                <a:spcPct val="83000"/>
              </a:lnSpc>
              <a:spcBef>
                <a:spcPts val="1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tr-TR" sz="5400" spc="-1" strike="noStrike">
                <a:solidFill>
                  <a:srgbClr val="ffffff"/>
                </a:solidFill>
                <a:latin typeface="Arial"/>
              </a:rPr>
              <a:t>Web Güvenliği Altyapısı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ctr">
              <a:lnSpc>
                <a:spcPct val="83000"/>
              </a:lnSpc>
              <a:spcBef>
                <a:spcPts val="1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ctr">
              <a:lnSpc>
                <a:spcPct val="83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ctr">
              <a:lnSpc>
                <a:spcPct val="83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tr-TR" sz="2400" spc="-1" strike="noStrike">
                <a:solidFill>
                  <a:srgbClr val="ffffff"/>
                </a:solidFill>
                <a:latin typeface="Arial"/>
              </a:rPr>
              <a:t>Ar. Gör.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is Karaars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ctr">
              <a:lnSpc>
                <a:spcPct val="83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ge</a:t>
            </a:r>
            <a:r>
              <a:rPr b="1" i="1" lang="tr-TR" sz="2400" spc="-1" strike="noStrike">
                <a:solidFill>
                  <a:srgbClr val="ffffff"/>
                </a:solidFill>
                <a:latin typeface="Arial"/>
              </a:rPr>
              <a:t> Üniv. Kampüs Ağ Yöneticisi, ULAK-CSIRT üye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ctr">
              <a:lnSpc>
                <a:spcPct val="83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ctr">
              <a:lnSpc>
                <a:spcPct val="83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ctr">
              <a:lnSpc>
                <a:spcPct val="83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ctr">
              <a:lnSpc>
                <a:spcPct val="83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ULAK-CSI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ctr">
              <a:lnSpc>
                <a:spcPct val="81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Times New Roman"/>
              </a:rPr>
              <a:t>http://csirt.ulakbim.gov.tr</a:t>
            </a:r>
            <a:r>
              <a:rPr b="0" i="1" lang="tr-TR" sz="2400" spc="-1" strike="noStrike">
                <a:solidFill>
                  <a:srgbClr val="ffff00"/>
                </a:solidFill>
                <a:latin typeface="Times New Roman"/>
              </a:rPr>
              <a:t>/ </a:t>
            </a:r>
            <a:r>
              <a:rPr b="0" i="1" lang="en-GB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3657600" y="4160880"/>
            <a:ext cx="1619280" cy="92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600" spc="-1" strike="noStrike">
                <a:solidFill>
                  <a:srgbClr val="ccecff"/>
                </a:solidFill>
                <a:latin typeface="Arial"/>
              </a:rPr>
              <a:t>Güvenlik esasları ...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8160" cy="47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4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Bir zincir, ancak en zayıf halkası kadar güçlüdü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4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O zaman tek bir zincire güvenmemek gerekir 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4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Mümkün olduğunca farklı önlemler alınmalıdı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600" spc="-1" strike="noStrike">
                <a:solidFill>
                  <a:srgbClr val="ccecff"/>
                </a:solidFill>
                <a:latin typeface="Arial"/>
              </a:rPr>
              <a:t>Çok Katmanlı Güvenlik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7690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2082960" y="0"/>
            <a:ext cx="4794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61560"/>
            <a:ext cx="822816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200" spc="-1" strike="noStrike">
                <a:solidFill>
                  <a:srgbClr val="ccecff"/>
                </a:solidFill>
                <a:latin typeface="Arial"/>
              </a:rPr>
              <a:t>Çok Katmanlı Güvenlik Örneği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258920" y="1011240"/>
            <a:ext cx="6985080" cy="46497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1521720" y="5646600"/>
            <a:ext cx="58194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Her alt katman da birçok katmandan oluşabili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600" spc="-1" strike="noStrike">
                <a:solidFill>
                  <a:srgbClr val="ccecff"/>
                </a:solidFill>
                <a:latin typeface="Arial"/>
              </a:rPr>
              <a:t>Güvenlik ve kullanışlılık?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36360" y="1471680"/>
            <a:ext cx="9072720" cy="303372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735120" y="4735440"/>
            <a:ext cx="786924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55640" y="4724280"/>
            <a:ext cx="7632720" cy="14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Tabii ki karikatürdeki gibi olmamalıdı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Güvenlik önlemleri, sistemin kullanılmasını zor duruma getirmemelidi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8160" cy="47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 algn="ctr">
              <a:lnSpc>
                <a:spcPct val="10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ctr">
              <a:lnSpc>
                <a:spcPct val="10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ctr">
              <a:lnSpc>
                <a:spcPct val="10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r-TR" sz="4000" spc="-1" strike="noStrike">
                <a:solidFill>
                  <a:srgbClr val="ffffff"/>
                </a:solidFill>
                <a:latin typeface="Arial"/>
              </a:rPr>
              <a:t>2. Neden Web Güvenliği 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tr-TR" sz="3600" spc="-1" strike="noStrike">
                <a:solidFill>
                  <a:srgbClr val="ccecff"/>
                </a:solidFill>
                <a:latin typeface="Arial"/>
              </a:rPr>
              <a:t>Web Tabanlı Sistemler 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4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Web (sunucu) kullanımı artıy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4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bilgi sistemleri, ağ cihazları ... V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4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Web uygulamalarının ve bu ortamdaki bilginin artmas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4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Kurumun dünyaya açılan penceres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4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Hızlıca ve güvenlik düşünülmeden yapılan kuruluml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200" spc="-1" strike="noStrike">
                <a:solidFill>
                  <a:srgbClr val="ccecff"/>
                </a:solidFill>
                <a:latin typeface="Arial"/>
              </a:rPr>
              <a:t>Katmansal Web Güvenlik Yapısı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684360" y="747720"/>
            <a:ext cx="8084880" cy="53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600" spc="-1" strike="noStrike">
                <a:solidFill>
                  <a:srgbClr val="ccecff"/>
                </a:solidFill>
                <a:latin typeface="Arial"/>
              </a:rPr>
              <a:t>Web Uygulaması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2050920" y="1197000"/>
            <a:ext cx="5113440" cy="48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200" spc="-1" strike="noStrike">
                <a:solidFill>
                  <a:srgbClr val="ccecff"/>
                </a:solidFill>
                <a:latin typeface="Arial"/>
              </a:rPr>
              <a:t>En Yaygın Web Uygulama Zayıflık Sınıfları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39640" y="1117440"/>
            <a:ext cx="771840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600" spc="-1" strike="noStrike">
                <a:solidFill>
                  <a:srgbClr val="ccecff"/>
                </a:solidFill>
                <a:latin typeface="Arial"/>
              </a:rPr>
              <a:t>İÇERİK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8160" cy="47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8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Güvenlik Hakkında Temel Bilgi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eden Web Güvenliği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Kurumsal Web Güvenliği Mode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700"/>
              </a:spcBef>
              <a:buClr>
                <a:srgbClr val="040000"/>
              </a:buClr>
              <a:buSzPct val="5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tandar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arı Oluşturma/Uygula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700"/>
              </a:spcBef>
              <a:buClr>
                <a:srgbClr val="040000"/>
              </a:buClr>
              <a:buSzPct val="5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Güvenli Kodla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700"/>
              </a:spcBef>
              <a:buClr>
                <a:srgbClr val="040000"/>
              </a:buClr>
              <a:buSzPct val="5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ğitim / Sına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700"/>
              </a:spcBef>
              <a:buClr>
                <a:srgbClr val="040000"/>
              </a:buClr>
              <a:buSzPct val="5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Ağ / web sistem farkındalığ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700"/>
              </a:spcBef>
              <a:buClr>
                <a:srgbClr val="040000"/>
              </a:buClr>
              <a:buSzPct val="5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aldırı Sapta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700"/>
              </a:spcBef>
              <a:buClr>
                <a:srgbClr val="040000"/>
              </a:buClr>
              <a:buSzPct val="5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Saldırı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ngelle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700"/>
              </a:spcBef>
              <a:buClr>
                <a:srgbClr val="040000"/>
              </a:buClr>
              <a:buSzPct val="5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Kurtar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700"/>
              </a:spcBef>
              <a:buClr>
                <a:srgbClr val="040000"/>
              </a:buClr>
              <a:buSzPct val="5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Koordinasyon Merkez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600" spc="-1" strike="noStrike">
                <a:solidFill>
                  <a:srgbClr val="ccecff"/>
                </a:solidFill>
                <a:latin typeface="Arial"/>
              </a:rPr>
              <a:t>Neden Web Güvenliği ?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8160" cy="47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4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Web tabanlı saldırılar artmak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4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Zone-H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– 400,000 (%36) artış (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004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4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CSI-FBI – </a:t>
            </a:r>
            <a:r>
              <a:rPr b="1" lang="tr-TR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puter Crime and Security Survey</a:t>
            </a:r>
            <a:r>
              <a:rPr b="1" lang="tr-TR" sz="2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 – Ankete katılanların %95’i, 2005 senesind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 adetten fazla web sitesi saldırısı vakası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yaşamı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600" spc="-1" strike="noStrike">
                <a:solidFill>
                  <a:srgbClr val="ccecff"/>
                </a:solidFill>
                <a:latin typeface="Arial"/>
              </a:rPr>
              <a:t>Neden Web Güvenliği? (devam)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8160" cy="47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4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Web güvenliği sağlanamadığında kayıpla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4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Maddi kayıp (Özellikle e-ticaret ile para aktarımı, banka uygulamalarında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4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Güven kaybı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4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Şirket verilerinin kaybı ile yaşanabilecek ticari risk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4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Kişisel bilgilerin gizli kalma hakkının ihlali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4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Ağda oluşabilecek zayıf noktadan kaynaklanabilecek diğer saldırıl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600" spc="-1" strike="noStrike">
                <a:solidFill>
                  <a:srgbClr val="ccecff"/>
                </a:solidFill>
                <a:latin typeface="Arial"/>
              </a:rPr>
              <a:t>Web Saldırı Örnekleri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34920" y="1197000"/>
            <a:ext cx="4576680" cy="489600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4840200" y="2430360"/>
            <a:ext cx="390852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716360" y="1557360"/>
            <a:ext cx="4149720" cy="36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Sayfalar değiştiril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Sayfalar değiştirilmez,  siteden bilgiler çalınır ve yöneticilerin haberi olmaz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Site kullanılarak kullanıcı bilgileri çalınmaya devam ed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600" spc="-1" strike="noStrike">
                <a:solidFill>
                  <a:srgbClr val="ccecff"/>
                </a:solidFill>
                <a:latin typeface="Arial"/>
              </a:rPr>
              <a:t>Güvenlik İhlalinden Sorumlu Kim?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81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9480" indent="-609480">
              <a:lnSpc>
                <a:spcPct val="104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Ağ / ağ güvenliği yöneticisi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4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Sunucu - veritabanı Yöneticisi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4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Programc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4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Hiçbir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4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Heps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5076720" y="3046320"/>
            <a:ext cx="4067280" cy="30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tr-TR" sz="3600" spc="-1" strike="noStrike">
                <a:solidFill>
                  <a:srgbClr val="ccecff"/>
                </a:solidFill>
                <a:latin typeface="Arial"/>
              </a:rPr>
              <a:t>Web Güvenliğinde Temel Problemler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5580000" y="1484280"/>
            <a:ext cx="3114720" cy="446724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395280" y="1566720"/>
            <a:ext cx="5040360" cy="36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Web güvenliğine yeterli önem ve dikkatin verilmemes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Geleneksel yöntemlerin yetersizliğ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Yetersiz web sunucu güvenliğ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Güvenli kodlama “secure coding” yapılmamas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8160" cy="47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Eğer bu kadar </a:t>
            </a:r>
            <a:r>
              <a:rPr b="1" lang="tr-T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r-TR" sz="3200" spc="-1" strike="noStrike">
                <a:solidFill>
                  <a:srgbClr val="ffffff"/>
                </a:solidFill>
                <a:latin typeface="Arial"/>
              </a:rPr>
              <a:t>kötü yazılım güvenliğine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sahip olmasaydık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bu kadar </a:t>
            </a:r>
            <a:r>
              <a:rPr b="1" lang="tr-TR" sz="3200" spc="-1" strike="noStrike">
                <a:solidFill>
                  <a:srgbClr val="ffffff"/>
                </a:solidFill>
                <a:latin typeface="Arial"/>
              </a:rPr>
              <a:t>çok ağ güvenliğine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ihtiyacımız olmayacakt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tr-TR" sz="3200" spc="-1" strike="noStrike">
                <a:solidFill>
                  <a:srgbClr val="ffffff"/>
                </a:solidFill>
                <a:latin typeface="Arial"/>
              </a:rPr>
              <a:t>Bruce Schneier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76720" y="-360"/>
            <a:ext cx="4067280" cy="55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r-TR" sz="3200" spc="-1" strike="noStrike">
                <a:solidFill>
                  <a:srgbClr val="ccecff"/>
                </a:solidFill>
                <a:latin typeface="Arial"/>
              </a:rPr>
              <a:t>Bir savaşı yenmek için, bireyin yöntemi bilmesi gerekir</a:t>
            </a:r>
            <a:br>
              <a:rPr sz="3200"/>
            </a:br>
            <a:br>
              <a:rPr sz="3200"/>
            </a:br>
            <a:r>
              <a:rPr b="0" i="1" lang="tr-TR" sz="2800" spc="-1" strike="noStrike">
                <a:solidFill>
                  <a:srgbClr val="ccecff"/>
                </a:solidFill>
                <a:latin typeface="Arial"/>
              </a:rPr>
              <a:t>Sun Tzu</a:t>
            </a:r>
            <a:br>
              <a:rPr sz="2800"/>
            </a:br>
            <a:br>
              <a:rPr sz="2800"/>
            </a:br>
            <a:r>
              <a:rPr b="0" lang="tr-TR" sz="2800" spc="-1" strike="noStrike">
                <a:solidFill>
                  <a:srgbClr val="ccecff"/>
                </a:solidFill>
                <a:latin typeface="Arial"/>
              </a:rPr>
              <a:t>Savaş Sanatı</a:t>
            </a:r>
            <a:br>
              <a:rPr sz="2800"/>
            </a:br>
            <a:r>
              <a:rPr b="0" lang="tr-TR" sz="2800" spc="-1" strike="noStrike">
                <a:solidFill>
                  <a:srgbClr val="ccecff"/>
                </a:solidFill>
                <a:latin typeface="Arial"/>
              </a:rPr>
              <a:t>“</a:t>
            </a:r>
            <a:r>
              <a:rPr b="0" i="1" lang="tr-TR" sz="2800" spc="-1" strike="noStrike">
                <a:solidFill>
                  <a:srgbClr val="ccecff"/>
                </a:solidFill>
                <a:latin typeface="Arial"/>
              </a:rPr>
              <a:t>The Art of War”</a:t>
            </a: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505296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8160" cy="47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 algn="ctr">
              <a:lnSpc>
                <a:spcPct val="10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ctr">
              <a:lnSpc>
                <a:spcPct val="10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ctr">
              <a:lnSpc>
                <a:spcPct val="10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3. Kurumsal Web Güvenliği Model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600" spc="-1" strike="noStrike">
                <a:solidFill>
                  <a:srgbClr val="ccecff"/>
                </a:solidFill>
                <a:latin typeface="Arial"/>
              </a:rPr>
              <a:t>Kurumsal Ağlarda Web Sistemleri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8160" cy="47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4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Üniversite ağları gibi büyük kurumsal ağlarda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4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farklı ve çok sayıda web sistemleri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4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farklı ekipler bulunmaktadı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4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Güvenliğini sağlamak içi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4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Daha kapsamlı sistemler kullanılmal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4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Birbirleriyle etkileşimli çalışmal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1392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tr-TR" sz="3600" spc="-1" strike="noStrike">
                <a:solidFill>
                  <a:srgbClr val="ccecff"/>
                </a:solidFill>
                <a:latin typeface="Arial"/>
              </a:rPr>
              <a:t>Kurumsal Web Güvenliği Modeli</a:t>
            </a:r>
            <a:r>
              <a:rPr b="0" lang="en-GB" sz="36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6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Standartlaştır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Güvenli Kodla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Sistem Farkındalığ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Eğitim / Sınam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Saldırı Saptam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Saldırı Engelle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Kurtar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Eşgüdüm Merkez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600" spc="-1" strike="noStrike">
                <a:solidFill>
                  <a:srgbClr val="ccecff"/>
                </a:solidFill>
                <a:latin typeface="Arial"/>
              </a:rPr>
              <a:t>İÇERİK (devam)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816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Ağ ve Web Sistem Farkındalığı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LAK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C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SIRT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Web Güvenliği Grub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. Sonu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0" y="63360"/>
            <a:ext cx="9180360" cy="59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1392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tr-TR" sz="3600" spc="-1" strike="noStrike">
                <a:solidFill>
                  <a:srgbClr val="ccecff"/>
                </a:solidFill>
                <a:latin typeface="Arial"/>
              </a:rPr>
              <a:t>3.1. </a:t>
            </a:r>
            <a:r>
              <a:rPr b="0" lang="en-GB" sz="3600" spc="-1" strike="noStrike">
                <a:solidFill>
                  <a:srgbClr val="ccecff"/>
                </a:solidFill>
                <a:latin typeface="Arial"/>
              </a:rPr>
              <a:t>Standar</a:t>
            </a:r>
            <a:r>
              <a:rPr b="0" lang="tr-TR" sz="3600" spc="-1" strike="noStrike">
                <a:solidFill>
                  <a:srgbClr val="ccecff"/>
                </a:solidFill>
                <a:latin typeface="Arial"/>
              </a:rPr>
              <a:t>tlaştırma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6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4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Politika tabanlı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Kullanım ve güvenlik politikalar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Neye izin verilir, neye izin verilmez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4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Önerilen sistemin tanımlanmas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Şablonlar, iyi uygulama örnekleri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4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Güvenli Kodla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4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Belgele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04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tr-TR" sz="3600" spc="-1" strike="noStrike">
                <a:solidFill>
                  <a:srgbClr val="ccecff"/>
                </a:solidFill>
                <a:latin typeface="Arial"/>
              </a:rPr>
              <a:t>3.2. Güvenli Kodlama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8160" cy="47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4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Yazılım geliştirme yaşam döngüsü (SDLC) içerisinde güvenli kodlama yapılmalı ve zayıflık (vulnerability) testleri gerçekleştirilmel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4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Güvence (Assurance) Modelleri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0">
              <a:lnSpc>
                <a:spcPct val="10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Ex. OWASP Clasp, Microsoft SD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4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OWASP Güvenli Kodlama Belgeleri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owasp.org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7308720" y="4789440"/>
            <a:ext cx="1835280" cy="13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600" spc="-1" strike="noStrike">
                <a:solidFill>
                  <a:srgbClr val="ccecff"/>
                </a:solidFill>
                <a:latin typeface="Arial"/>
              </a:rPr>
              <a:t>Yazılım Geliştirirken Temel Esaslar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8160" cy="47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4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Kullanıcı Görev/Yetki tanımla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4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Farklı güvenlik düzeyler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4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En az yetk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4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Güvenli varsayılan ayarl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4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Kademeli savun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4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Önlemleri yalın tutma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4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Saldırı alanını azaltma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4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Güvenli düşm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600" spc="-1" strike="noStrike">
                <a:solidFill>
                  <a:srgbClr val="ccecff"/>
                </a:solidFill>
                <a:latin typeface="Arial"/>
              </a:rPr>
              <a:t>Güvenli Kodlama (devam)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8160" cy="47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4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Girdi /çıktı denetiminin öne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4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Yazılım kütüphaneleri ve sınıfları güvenli kodlama esaslarına göre geliştirilmeli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4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Güvenli kodlamayı destekleyen geliştirme ortamları (Ör: Strutu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04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tr-TR" sz="3600" spc="-1" strike="noStrike">
                <a:solidFill>
                  <a:srgbClr val="ccecff"/>
                </a:solidFill>
                <a:latin typeface="Arial"/>
              </a:rPr>
              <a:t>Güvenli Kodlama (devam)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8160" cy="47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Yeterince uygulanamamasının nedenler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4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Projeyi bitiş zamanına yetiştirm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4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Programcıların güvenli kodlama süreçleri hakkında yeterince bilgi sahip olmaması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4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Müşterinin, bu konudaki beklentisini / yaptırımını vurgulamaması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Mümkün olduğunca çok önem verilmelidi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31392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tr-TR" sz="3600" spc="-1" strike="noStrike">
                <a:solidFill>
                  <a:srgbClr val="ccecff"/>
                </a:solidFill>
                <a:latin typeface="Arial"/>
              </a:rPr>
              <a:t>3.3. Eğitim</a:t>
            </a:r>
            <a:r>
              <a:rPr b="0" lang="en-GB" sz="3600" spc="-1" strike="noStrike">
                <a:solidFill>
                  <a:srgbClr val="ccecff"/>
                </a:solidFill>
                <a:latin typeface="Arial"/>
              </a:rPr>
              <a:t> / </a:t>
            </a:r>
            <a:r>
              <a:rPr b="0" lang="tr-TR" sz="3600" spc="-1" strike="noStrike">
                <a:solidFill>
                  <a:srgbClr val="ccecff"/>
                </a:solidFill>
                <a:latin typeface="Arial"/>
              </a:rPr>
              <a:t>Test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6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4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Çalıştay ve Çalışma Gruplar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Güvenli kodlama örnekleri ve saldırı senaryolar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4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Eğitim Portal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4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Kurumun projeleri ile ilgili iyi uygulama örnekler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4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Kılavuzlar, standart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200" spc="-1" strike="noStrike">
                <a:solidFill>
                  <a:srgbClr val="ccecff"/>
                </a:solidFill>
                <a:latin typeface="Arial"/>
              </a:rPr>
              <a:t>Eğitim</a:t>
            </a:r>
            <a:r>
              <a:rPr b="0" lang="en-GB" sz="3200" spc="-1" strike="noStrike">
                <a:solidFill>
                  <a:srgbClr val="ccecff"/>
                </a:solidFill>
                <a:latin typeface="Arial"/>
              </a:rPr>
              <a:t> / </a:t>
            </a:r>
            <a:r>
              <a:rPr b="0" lang="tr-TR" sz="3200" spc="-1" strike="noStrike">
                <a:solidFill>
                  <a:srgbClr val="ccecff"/>
                </a:solidFill>
                <a:latin typeface="Arial"/>
              </a:rPr>
              <a:t>Test (devam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8160" cy="47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4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Test Sunucus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4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Kaynak kod analiz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4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Kara kutu analizleri (kaynak koda ulaşmada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600" spc="-1" strike="noStrike">
                <a:solidFill>
                  <a:srgbClr val="ccecff"/>
                </a:solidFill>
                <a:latin typeface="Arial"/>
              </a:rPr>
              <a:t>3.4. Ağ / Web Sistem Farkındalığı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8160" cy="47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4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Sistemleri koruyabilmek için öncelikle korunması gereken sistemleri tanımak/tanımlamak gereki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4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Ayrı bir bölüm olarak birazdan ayrıntıları verilecek 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1392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tr-TR" sz="3600" spc="-1" strike="noStrike">
                <a:solidFill>
                  <a:srgbClr val="ccecff"/>
                </a:solidFill>
                <a:latin typeface="Arial"/>
              </a:rPr>
              <a:t>3.5. Saldırı Engelleme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6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4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Ağ Tabanlı Erişim Deneti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0">
              <a:lnSpc>
                <a:spcPct val="104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Örn.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Ağ güvenliği duvarı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yönlendirici erişim listes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4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Sunucu Yerel Güvenliğ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0">
              <a:lnSpc>
                <a:spcPct val="104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Örn.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Mod Secu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4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eb Uygulama Güvenlik Duvarı / Ters Vek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Örn.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od Security – Mod Rewr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8160" cy="47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 algn="ctr">
              <a:lnSpc>
                <a:spcPct val="10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ctr">
              <a:lnSpc>
                <a:spcPct val="10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ctr">
              <a:lnSpc>
                <a:spcPct val="10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r-TR" sz="4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Güvenlik Hakkında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ctr">
              <a:lnSpc>
                <a:spcPct val="10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Bazı Temel Bilgil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200" spc="-1" strike="noStrike">
                <a:solidFill>
                  <a:srgbClr val="ccecff"/>
                </a:solidFill>
                <a:latin typeface="Arial"/>
              </a:rPr>
              <a:t>Ters Vekil Sunucu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395280" y="1494000"/>
            <a:ext cx="8137440" cy="43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31392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tr-TR" sz="3600" spc="-1" strike="noStrike">
                <a:solidFill>
                  <a:srgbClr val="ccecff"/>
                </a:solidFill>
                <a:latin typeface="Arial"/>
              </a:rPr>
              <a:t>3.6. Saldırı Saptama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6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4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Saldırı Saptama Sistemler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0">
              <a:lnSpc>
                <a:spcPct val="104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Örn.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Snort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, Mod Secu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4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Günlük (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og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Dosyası Deneti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4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Saldırgan Tuzağı Ağları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(Honeynet,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oneypot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600" spc="-1" strike="noStrike">
                <a:solidFill>
                  <a:srgbClr val="ccecff"/>
                </a:solidFill>
                <a:latin typeface="Arial"/>
              </a:rPr>
              <a:t>3.7. Kurtarma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8160" cy="47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4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Sistem saldırıya uğradığın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4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Acil Durum Planı var mı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4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Yedek sunucu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4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Yedeklenen veriler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4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Adli inceleme ihtiyacı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200" spc="-1" strike="noStrike">
                <a:solidFill>
                  <a:srgbClr val="ccecff"/>
                </a:solidFill>
                <a:latin typeface="Arial"/>
              </a:rPr>
              <a:t>Kurtarma Aşamaları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8160" cy="47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4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Sunucuya erişimin engellenmes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4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Ayrıntılı incele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4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Saldırıların etkilerini temizle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4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Sistemi yeniden çalıştır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4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Kullanıcıların durumdan haberdar edilmes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4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Saldırganın saptanmas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600" spc="-1" strike="noStrike">
                <a:solidFill>
                  <a:srgbClr val="ccecff"/>
                </a:solidFill>
                <a:latin typeface="Arial"/>
              </a:rPr>
              <a:t>3.8. Koordinasyon Merkezi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816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4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Çok katmanlı güvenlik yapısında güvenlik önlemlerinin aşağıdaki şekilde çalışmasını sağlayacak bir sunucudur (sistemdir)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4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Birbirleriyle etkileşiml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4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Etk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539640" y="1440"/>
            <a:ext cx="8282160" cy="61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8160" cy="47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ctr">
              <a:lnSpc>
                <a:spcPct val="10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4. Ağ / Web Sistem Farkındalığ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600" spc="-1" strike="noStrike">
                <a:solidFill>
                  <a:srgbClr val="ccecff"/>
                </a:solidFill>
                <a:latin typeface="Arial"/>
              </a:rPr>
              <a:t>4. Ağ / Web Sistem Farkındalığı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8160" cy="47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4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Saldırganı tanımak (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4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Kendini tanımak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Değerleri, neyin korunması gerektiğinin  tanımlanmas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4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Sistemleri saldırgandan daha iyi tanımak ..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600" spc="-1" strike="noStrike">
                <a:solidFill>
                  <a:srgbClr val="ccecff"/>
                </a:solidFill>
                <a:latin typeface="Arial"/>
              </a:rPr>
              <a:t>Ağ / Web Sistem Farkındalığı(devam)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8160" cy="47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4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Ağ Farkındalığı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ağ üzerinde o an olmakta olanları bilme yeteneğ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4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b 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Sistem Farkındalığ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4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Web Altyapı Farkındalığ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4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Zayıflık Testler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4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Sistem Takib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1392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tr-TR" sz="3600" spc="-1" strike="noStrike">
                <a:solidFill>
                  <a:srgbClr val="ccecff"/>
                </a:solidFill>
                <a:latin typeface="Arial"/>
              </a:rPr>
              <a:t>Web Sistem Farkındalığı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6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4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eb 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Altyapı Farkındalığ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0">
              <a:lnSpc>
                <a:spcPct val="104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Sistemin güncel/anlık durumu hakkında bilgi toplam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4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Zayıflık Testler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Görünür/bilinir zayıflıkları öğrenm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4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Sistemi takip etm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Sistemin şu anki durumunu izlem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"/>
          <p:cNvGrpSpPr/>
          <p:nvPr/>
        </p:nvGrpSpPr>
        <p:grpSpPr>
          <a:xfrm>
            <a:off x="1525680" y="1341360"/>
            <a:ext cx="1837800" cy="4781160"/>
            <a:chOff x="1525680" y="1341360"/>
            <a:chExt cx="1837800" cy="4781160"/>
          </a:xfrm>
        </p:grpSpPr>
        <p:pic>
          <p:nvPicPr>
            <p:cNvPr id="226" name="" descr=""/>
            <p:cNvPicPr/>
            <p:nvPr/>
          </p:nvPicPr>
          <p:blipFill>
            <a:blip r:embed="rId1"/>
            <a:stretch/>
          </p:blipFill>
          <p:spPr>
            <a:xfrm>
              <a:off x="1525680" y="1341360"/>
              <a:ext cx="1837800" cy="427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1525680" y="5743440"/>
              <a:ext cx="1746000" cy="37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Arial"/>
                </a:rPr>
                <a:t>BİLGİ SİSTEMİ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2780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600" spc="-1" strike="noStrike">
                <a:solidFill>
                  <a:srgbClr val="ccecff"/>
                </a:solidFill>
                <a:latin typeface="Arial"/>
              </a:rPr>
              <a:t>Bilgi Sistemi ve Güvenlik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6516720" y="1557360"/>
            <a:ext cx="2344320" cy="2046240"/>
            <a:chOff x="6516720" y="1557360"/>
            <a:chExt cx="2344320" cy="2046240"/>
          </a:xfrm>
        </p:grpSpPr>
        <p:pic>
          <p:nvPicPr>
            <p:cNvPr id="230" name="" descr=""/>
            <p:cNvPicPr/>
            <p:nvPr/>
          </p:nvPicPr>
          <p:blipFill>
            <a:blip r:embed="rId2"/>
            <a:stretch/>
          </p:blipFill>
          <p:spPr>
            <a:xfrm>
              <a:off x="6516720" y="1557360"/>
              <a:ext cx="2344320" cy="154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6783840" y="3224520"/>
              <a:ext cx="1500480" cy="37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Arial"/>
                </a:rPr>
                <a:t>SALDIRGA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251640" y="2781360"/>
            <a:ext cx="1172880" cy="1963440"/>
            <a:chOff x="251640" y="2781360"/>
            <a:chExt cx="1172880" cy="1963440"/>
          </a:xfrm>
        </p:grpSpPr>
        <p:pic>
          <p:nvPicPr>
            <p:cNvPr id="233" name="" descr=""/>
            <p:cNvPicPr/>
            <p:nvPr/>
          </p:nvPicPr>
          <p:blipFill>
            <a:blip r:embed="rId3"/>
            <a:stretch/>
          </p:blipFill>
          <p:spPr>
            <a:xfrm>
              <a:off x="395280" y="2781360"/>
              <a:ext cx="982800" cy="14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251640" y="4365720"/>
              <a:ext cx="1172880" cy="37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Arial"/>
                </a:rPr>
                <a:t>ZAYIFLI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4211640" y="1989000"/>
            <a:ext cx="2089080" cy="936720"/>
            <a:chOff x="4211640" y="1989000"/>
            <a:chExt cx="2089080" cy="936720"/>
          </a:xfrm>
        </p:grpSpPr>
        <p:sp>
          <p:nvSpPr>
            <p:cNvPr id="236" name=""/>
            <p:cNvSpPr/>
            <p:nvPr/>
          </p:nvSpPr>
          <p:spPr>
            <a:xfrm>
              <a:off x="4211640" y="1989000"/>
              <a:ext cx="2089080" cy="936720"/>
            </a:xfrm>
            <a:prstGeom prst="leftArrow">
              <a:avLst>
                <a:gd name="adj1" fmla="val 50000"/>
                <a:gd name="adj2" fmla="val 5575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005800" y="2278080"/>
              <a:ext cx="1069200" cy="37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Arial"/>
                </a:rPr>
                <a:t>SALDIR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3564000" y="3789360"/>
            <a:ext cx="4902480" cy="2250720"/>
            <a:chOff x="3564000" y="3789360"/>
            <a:chExt cx="4902480" cy="2250720"/>
          </a:xfrm>
        </p:grpSpPr>
        <p:grpSp>
          <p:nvGrpSpPr>
            <p:cNvPr id="239" name=""/>
            <p:cNvGrpSpPr/>
            <p:nvPr/>
          </p:nvGrpSpPr>
          <p:grpSpPr>
            <a:xfrm>
              <a:off x="6516720" y="3789360"/>
              <a:ext cx="1949760" cy="2250720"/>
              <a:chOff x="6516720" y="3789360"/>
              <a:chExt cx="1949760" cy="2250720"/>
            </a:xfrm>
          </p:grpSpPr>
          <p:pic>
            <p:nvPicPr>
              <p:cNvPr id="24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16720" y="3789360"/>
                <a:ext cx="1888920" cy="177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1" name=""/>
              <p:cNvSpPr/>
              <p:nvPr/>
            </p:nvSpPr>
            <p:spPr>
              <a:xfrm>
                <a:off x="6662520" y="5661000"/>
                <a:ext cx="1803960" cy="37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tr-TR" sz="1800" spc="-1" strike="noStrike">
                    <a:solidFill>
                      <a:srgbClr val="ffffff"/>
                    </a:solidFill>
                    <a:latin typeface="Arial"/>
                  </a:rPr>
                  <a:t>KULLANICILAR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>
              <a:off x="3564000" y="4581360"/>
              <a:ext cx="2881080" cy="432000"/>
            </a:xfrm>
            <a:prstGeom prst="leftRightArrow">
              <a:avLst>
                <a:gd name="adj1" fmla="val 50000"/>
                <a:gd name="adj2" fmla="val 132766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3574080" y="1700280"/>
            <a:ext cx="1500480" cy="2042280"/>
            <a:chOff x="3574080" y="1700280"/>
            <a:chExt cx="1500480" cy="2042280"/>
          </a:xfrm>
        </p:grpSpPr>
        <p:pic>
          <p:nvPicPr>
            <p:cNvPr id="244" name="" descr=""/>
            <p:cNvPicPr/>
            <p:nvPr/>
          </p:nvPicPr>
          <p:blipFill>
            <a:blip r:embed="rId5"/>
            <a:stretch/>
          </p:blipFill>
          <p:spPr>
            <a:xfrm>
              <a:off x="3590640" y="1700280"/>
              <a:ext cx="1056960" cy="14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3574080" y="3078360"/>
              <a:ext cx="1500480" cy="66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Arial"/>
                </a:rPr>
                <a:t>GÜVENLİ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Arial"/>
                </a:rPr>
                <a:t>ÖNLEMLERİ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1392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tr-TR" sz="3600" spc="-1" strike="noStrike">
                <a:solidFill>
                  <a:srgbClr val="ccecff"/>
                </a:solidFill>
                <a:latin typeface="Arial"/>
              </a:rPr>
              <a:t>Toplanması Hedeflenen Bilgiler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6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4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Web sunucusu üçüncü katman adresleri (IP adresleri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4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Sunucu üzerindeki alan adları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(Ör: internet.ege.edu.tr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4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Web servisi verilen ağ kapıları (80, 8080 …vb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4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Sunucu üzerinde çalışan işletim sistemi (Linux, Windows …vb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4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Web sunucu yazılım türleri ve sürümleri (Apache 2.0, IIS 6.0…vb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200" spc="-1" strike="noStrike">
                <a:solidFill>
                  <a:srgbClr val="ccecff"/>
                </a:solidFill>
                <a:latin typeface="Arial"/>
              </a:rPr>
              <a:t>Toplanması Hedeflenen Bilgiler (devam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8160" cy="47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4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Web uygulamalarının geliştirildiği programlama dilleri türleri (cgi, php, asp,.net, jsp …vb)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4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Uygulama dosya adı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4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Uygulama çalışma yolu (dizin yapısı)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4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Kullanılan değiştirgeler ve tipleri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4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Sistemlere ait saldırıya açıklık raporlarıdı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600" spc="-1" strike="noStrike">
                <a:solidFill>
                  <a:srgbClr val="ccecff"/>
                </a:solidFill>
                <a:latin typeface="Arial"/>
              </a:rPr>
              <a:t>Bilgi Toplama Sistemleri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816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4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Ağ kapısı ve uygulama tarayıcılar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4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HTTP parmak izi alma sistemler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4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Ağ trafiği çözümleme sistemler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4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Saldırı saptama sistemler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4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Zayıflık (saldırıya açıklık) çözümleme sistemler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4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Arama motorlar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200" spc="-1" strike="noStrike">
                <a:solidFill>
                  <a:srgbClr val="ccecff"/>
                </a:solidFill>
                <a:latin typeface="Arial"/>
              </a:rPr>
              <a:t>5. Ulak-CSIRT Web Güvenlik Grubu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341000"/>
            <a:ext cx="5770440" cy="47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4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Eğitim ve bilinçlendirme çalışmaları: çeşitli seminerler ve toplantı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4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Belgeleme Çalışmalar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4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OWASP İlk 10 Web Güvenlik Açığı 2007 (tercüm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4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PHP Güvenlik Kitapçığı (hazırlanmakt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6432480" y="1824120"/>
            <a:ext cx="267660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200" spc="-1" strike="noStrike">
                <a:solidFill>
                  <a:srgbClr val="ccecff"/>
                </a:solidFill>
                <a:latin typeface="Arial"/>
              </a:rPr>
              <a:t>Ulak-CSIRT Web Güvenlik Grubu (devam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5122800" cy="47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4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Web Sistem farkındalığı ve eğitim konularına ağırlık verilmektedi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4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Merkezi Zayıflık tarama sistemi denemeler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4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Açık kaynak kodlu yazılımlar denenmektedi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6443640" y="1824120"/>
            <a:ext cx="267660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2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tr-TR" sz="3600" spc="-1" strike="noStrike">
                <a:solidFill>
                  <a:srgbClr val="ccecff"/>
                </a:solidFill>
                <a:latin typeface="Arial"/>
              </a:rPr>
              <a:t>6. SONUÇ</a:t>
            </a:r>
            <a:r>
              <a:rPr b="0" lang="en-GB" sz="36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Kurumsal web güvenliği için, Web Güvenliği Modelindeki yöntemler uygulanmalıdı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4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Kuruma uyan yöntemler seçilmel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4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Mümkün olduğunca fazla yöntem devreye alınmal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4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Her yöntem sistemi daha karmaşık hale mi getiri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4000"/>
              </a:lnSpc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Temel hedefler aşağıdaki gibi olmalı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4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Web sistem farkındalığ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4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Web sunucu yöneticilerini ve programcılarını eğitmek/bilgilendirm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1392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tr-TR" sz="3600" spc="-1" strike="noStrike">
                <a:solidFill>
                  <a:srgbClr val="ccecff"/>
                </a:solidFill>
                <a:latin typeface="Arial"/>
              </a:rPr>
              <a:t>Sonuç</a:t>
            </a:r>
            <a:r>
              <a:rPr b="0" lang="en-GB" sz="3600" spc="-1" strike="noStrike">
                <a:solidFill>
                  <a:srgbClr val="ccecff"/>
                </a:solidFill>
                <a:latin typeface="Arial"/>
              </a:rPr>
              <a:t> (</a:t>
            </a:r>
            <a:r>
              <a:rPr b="0" lang="tr-TR" sz="3600" spc="-1" strike="noStrike">
                <a:solidFill>
                  <a:srgbClr val="ccecff"/>
                </a:solidFill>
                <a:latin typeface="Arial"/>
              </a:rPr>
              <a:t>devam</a:t>
            </a:r>
            <a:r>
              <a:rPr b="0" lang="en-GB" sz="3600" spc="-1" strike="noStrike">
                <a:solidFill>
                  <a:srgbClr val="ccecff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6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Sistemler saldırı tespit sistemleri ile takip edilmelid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4000"/>
              </a:lnSpc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Web sunucuları önüne web güvenlik duvarı konuşlanmalıdı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4000"/>
              </a:lnSpc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ULAK-CSIRT Web Güvenliği Çalışma Grubu bünyesinde bilinçlendirme çalışmaları ve OWASP-TR ile işbirliği devam etmesi hedeflenmekted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600" spc="-1" strike="noStrike">
                <a:solidFill>
                  <a:srgbClr val="ccecff"/>
                </a:solidFill>
                <a:latin typeface="Arial"/>
              </a:rPr>
              <a:t>Sonuç</a:t>
            </a:r>
            <a:r>
              <a:rPr b="0" lang="en-GB" sz="3600" spc="-1" strike="noStrike">
                <a:solidFill>
                  <a:srgbClr val="ccecff"/>
                </a:solidFill>
                <a:latin typeface="Arial"/>
              </a:rPr>
              <a:t> (</a:t>
            </a:r>
            <a:r>
              <a:rPr b="0" lang="tr-TR" sz="3600" spc="-1" strike="noStrike">
                <a:solidFill>
                  <a:srgbClr val="ccecff"/>
                </a:solidFill>
                <a:latin typeface="Arial"/>
              </a:rPr>
              <a:t>devam</a:t>
            </a:r>
            <a:r>
              <a:rPr b="0" lang="en-GB" sz="3600" spc="-1" strike="noStrike">
                <a:solidFill>
                  <a:srgbClr val="ccecff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8160" cy="47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4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Bu sunum ve “Kurumsal Web Güvenliği Altyapısı” belgesi (yakında) </a:t>
            </a:r>
            <a:r>
              <a:rPr b="0" lang="tr-TR" sz="2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karaarslan.net/guvenlik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4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Web Güvenliği Belgeleri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4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tr-TR" sz="2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webguvenligi.o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4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tr-TR" sz="2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websecurity.ege.edu.t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4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tr-TR" sz="2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ttp://csirt.ulakbim.gov.tr/belgeler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200" spc="-1" strike="noStrike">
                <a:solidFill>
                  <a:srgbClr val="ccecff"/>
                </a:solidFill>
                <a:latin typeface="Arial"/>
              </a:rPr>
              <a:t>Değişim zordur, açık fikirli olmalı ..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4762440" cy="33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7160" indent="0" algn="ctr">
              <a:lnSpc>
                <a:spcPct val="10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Önyargıları yok etmek, atom çekirdeğini parçalamaktan daha zordu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7160"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7160"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Einste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5680080" y="1663560"/>
            <a:ext cx="342900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4155840" y="620640"/>
            <a:ext cx="4987800" cy="52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lnSpc>
                <a:spcPct val="104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İlginiz için teşekkürler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0" algn="ctr">
              <a:lnSpc>
                <a:spcPct val="104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Sorularınızı bekliyorum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0" algn="ctr">
              <a:lnSpc>
                <a:spcPct val="104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0" algn="ctr">
              <a:lnSpc>
                <a:spcPct val="104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0" algn="ctr">
              <a:lnSpc>
                <a:spcPct val="104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İletişim: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0" algn="ctr">
              <a:lnSpc>
                <a:spcPct val="104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2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csirt@ulakbim.gov.t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0" algn="ctr">
              <a:lnSpc>
                <a:spcPct val="104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2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info@karaarslan.net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0" algn="ctr">
              <a:lnSpc>
                <a:spcPct val="104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0" algn="ctr">
              <a:lnSpc>
                <a:spcPct val="104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LAK-CSI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0" algn="ctr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csirt.ulakbim.gov.tr</a:t>
            </a:r>
            <a:r>
              <a:rPr b="0" lang="tr-TR" sz="24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/eng</a:t>
            </a:r>
            <a:r>
              <a:rPr b="0" lang="tr-TR" sz="2400" spc="-1" strike="noStrike">
                <a:solidFill>
                  <a:srgbClr val="99ff99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5"/>
          <a:stretch/>
        </p:blipFill>
        <p:spPr>
          <a:xfrm>
            <a:off x="0" y="1125360"/>
            <a:ext cx="4286160" cy="348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600" spc="-1" strike="noStrike">
                <a:solidFill>
                  <a:srgbClr val="ccecff"/>
                </a:solidFill>
                <a:latin typeface="Arial"/>
              </a:rPr>
              <a:t>Zayıflıkları çözmek ...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8160" cy="47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4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r-TR" sz="3200" spc="-1" strike="noStrike">
                <a:solidFill>
                  <a:srgbClr val="ffffff"/>
                </a:solidFill>
                <a:latin typeface="Arial"/>
              </a:rPr>
              <a:t>Zayıflık: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 Her sistemde bilinen veya henüz bilinmeyen güvenlik açıkları vardı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4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Zayıflığın öğrenilmesinden sonra, o zayıflığı kaldıracak önlemlerin (yama, ayar) uygulanması arasında geçen zaman önemlidi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23640" y="1268280"/>
            <a:ext cx="8227800" cy="9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200" spc="-1" strike="noStrike">
                <a:solidFill>
                  <a:srgbClr val="ccecff"/>
                </a:solidFill>
                <a:latin typeface="Arial"/>
              </a:rPr>
              <a:t>Bir zayıflık ve yaşananların kronolojik sıradaki listesi ..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0" y="2608200"/>
            <a:ext cx="914400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8160" cy="47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Güvenlik bir ürün değil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bir süreçti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Security is a process, not a produ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r-T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tr-T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tr-T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tr-T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tr-T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tr-T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tr-T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tr-T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tr-T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tr-T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tr-T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tr-T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tr-TR" sz="3200" spc="-1" strike="noStrike">
                <a:solidFill>
                  <a:srgbClr val="ffffff"/>
                </a:solidFill>
                <a:latin typeface="Arial"/>
              </a:rPr>
              <a:t>Bruce Schnei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r-TR" sz="3200" spc="-1" strike="noStrike">
                <a:solidFill>
                  <a:srgbClr val="ccecff"/>
                </a:solidFill>
                <a:latin typeface="Arial"/>
              </a:rPr>
              <a:t>Temel Güvenlik Önlemleri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8160" cy="47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4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Bilgi sistemlerinin güvenlik düşünülerek tasarlanması ve uygulanması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(secure by desig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4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Zayıflıkların/saldırıların tespit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4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Mümkün olduğunca saldırıların engellenmesi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4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Riskin azaltılmas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4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Saldırganın işinin zorlaştırılmas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nis Karaaslan</dc:creator>
  <dc:description/>
  <dc:language>en-US</dc:language>
  <cp:lastModifiedBy>Enis Karaarslan</cp:lastModifiedBy>
  <dcterms:modified xsi:type="dcterms:W3CDTF">2007-11-25T15:39:07Z</dcterms:modified>
  <cp:revision>60</cp:revision>
  <dc:subject/>
  <dc:title>Slide 1</dc:title>
</cp:coreProperties>
</file>