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C798-A6D3-4264-AF92-714361CC38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0B11B-AC8D-488B-BDAA-0FA5276EB3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0CA4F-B8F7-416B-BEB7-794663DA6B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F65F2-E7A7-48F0-9AA4-4C56E30A41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B9981-A55E-4C35-BD9D-AC6D91B10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08D8F-8971-4A44-A8A7-1942A8B1F8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0BBD-177B-4C4D-97E2-06F82C2523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F47C6-45F4-4B86-9015-3727AB680C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B267D-D882-46FB-BABA-8671CF6E39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017A-BF21-4639-B0E6-18FEBEA4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AA4E-2564-435E-A99E-C53B34C50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1F21-A48C-4A8C-8B05-B502058F5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8591-7AC0-45B4-A513-68889F7DB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6102-F0D9-4D7C-9791-56A5E1BCF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377B-2589-416B-9DB7-BD6F2EC2DE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FDF1-4B6E-4A68-9DE2-2EB567FAD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AF61-DE6A-4048-A7E4-25A02DEFD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E467-2D4D-4E3E-813E-EEC45EB72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7946-3FCF-4F35-9ECF-F405B702D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33FF-B565-4036-88B5-FF8B3B0CE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5080-08DC-4D6F-86D9-D9869D561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969696"/>
                </a:solidFill>
                <a:latin typeface="Tahoma"/>
                <a:ea typeface="DejaVuSans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F59CD-8BC3-4D3A-99D8-10B1209940F2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6" descr="owasptr.gif"/>
          <p:cNvPicPr/>
          <p:nvPr/>
        </p:nvPicPr>
        <p:blipFill>
          <a:blip r:embed="rId2"/>
          <a:stretch/>
        </p:blipFill>
        <p:spPr>
          <a:xfrm>
            <a:off x="7162920" y="6172200"/>
            <a:ext cx="129528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584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038480" y="5165640"/>
            <a:ext cx="41911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38480" y="5937120"/>
            <a:ext cx="4800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 rot="10800000">
            <a:off x="7385040" y="266868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523880" y="4229280"/>
            <a:ext cx="2667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038480" y="6326280"/>
            <a:ext cx="4800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GB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038480" y="5165640"/>
            <a:ext cx="41911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5937120"/>
            <a:ext cx="4800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 rot="10800000">
            <a:off x="7385040" y="266868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523880" y="4229280"/>
            <a:ext cx="2667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038480" y="6326280"/>
            <a:ext cx="4800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GB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6" descr="owasptr.gif"/>
          <p:cNvPicPr/>
          <p:nvPr/>
        </p:nvPicPr>
        <p:blipFill>
          <a:blip r:embed="rId3"/>
          <a:stretch/>
        </p:blipFill>
        <p:spPr>
          <a:xfrm>
            <a:off x="1523880" y="4038480"/>
            <a:ext cx="2214720" cy="838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584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Web Uygulamaları Güvenliğ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038480" y="312372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Onur YILMA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owasp.org/index.php/Turk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www.webguvenligi.org</a:t>
            </a:r>
            <a:br>
              <a:rPr sz="1600"/>
            </a:b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onuryilmaz.inf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contact@onuryilmaz.inf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34320" y="4876920"/>
            <a:ext cx="18921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13 Mayıs 2009</a:t>
            </a:r>
            <a:br>
              <a:rPr sz="1800"/>
            </a:b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Gazi Üniversi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C468B-6D96-460D-B171-55D3EEE7F754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8744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Uygulamaları Güvenliği Kavram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b Uygulamalarına Yönelik Saldırı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XSS (Cross-Site Scrip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letiş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ru-Cev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8ECFB-CE03-4D7A-9D7F-C4CFCD3ED94F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XSS (Cross-Site Scripting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Saldırganın HTML kodlarının arasına istemci tabanlı kod gömmesiyle yapılan saldırı türüdü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4000" indent="0">
              <a:lnSpc>
                <a:spcPct val="112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En çok kullanıldığı iki şekl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ayfa Yönlendir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edef kullanıcıların çerez bilgilerinin çalın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nleml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QueryString ve Form`lardan alınan değerlerin filtrelenme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0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593C3-359D-4BF4-8C3F-4451BCDEBF0D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SQL Nedir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112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SQL Injection, web uygulamalarında kullanıcıdan alınan veriler ile oluşturulan dinamik SQL sorgularının manipüle edilmesi şeklinde yapılan saldırılar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Hedef veritabanı yönetim sisteminin ve kullandığı sorgulama dilinin standartlarına göre SQL Injection atakları ile yapabilecekleriniz değişmektedi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Genel manada veritabanındaki verilere ulaşmak amacıyla kullanıl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A966D-E642-4D4D-A857-6CEDC6D52CA7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QL Injection - 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Kullanıcıdan alınan verilerin filtrelenmemesi ve ham olarak SQL sorgusuna dinamik olarak eklenmesi, SQL Injection zafiyetini doğ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12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nleml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m meta-karakterlerden kaçınılmalıd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arameterised Query kullanımına dikkat edilmeli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0F4FD-303A-4351-8D12-9A7E54F03CFA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– Nedi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en Web Application Security Proj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 (OWASP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üm OWASP ürünleri ücretsiz ve açı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siz yazılımların sebep oldukları açıkları bulup, bunlarla mücadele eden bir topluluk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r amacı gütm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pluluga ait rak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+ (Chapter)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0+ Spon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0+ Pro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+ E-posta list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ylık bir milyon üzerinde ziya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BD5DD-A93F-4834-A93E-C5033B1073AA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 Turkey – Web Güvenlik Topluluğ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9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ne ülkemizde gerekli duyarlılığın gösterilmes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sı güvenliği konusunda çalışan ve ilgi duyan arkadaşları bir platformda top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lik konulu makaleler, dökümanlar ve projelere yer ve destek sağlam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uygulamalarının ortaya çıkardığı zararları en aza indirme yolunda çalışmalar yap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ünyada yapılan web uygulaması güvenliği konulu çalışmaların takibini sağla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Vakfının Türkiye çalışmalarını sürdürm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E46AB-E41E-4B5C-97C1-634F568FBCA1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27432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www.webguvenligi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ww.owasp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-posta l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te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ine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kayıt olmak iç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000" spc="-1" strike="noStrike">
                <a:solidFill>
                  <a:srgbClr val="ff3300"/>
                </a:solidFill>
                <a:latin typeface="Tahoma"/>
              </a:rPr>
              <a:t>google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turkey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1185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owasptr.gif"/>
          <p:cNvPicPr/>
          <p:nvPr/>
        </p:nvPicPr>
        <p:blipFill>
          <a:blip r:embed="rId2"/>
          <a:stretch/>
        </p:blipFill>
        <p:spPr>
          <a:xfrm>
            <a:off x="5715000" y="1600200"/>
            <a:ext cx="2666880" cy="10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Onur</cp:lastModifiedBy>
  <dcterms:modified xsi:type="dcterms:W3CDTF">2009-05-16T23:01:54Z</dcterms:modified>
  <cp:revision>217</cp:revision>
  <dc:subject/>
  <dc:title>OWASP Plan - Strawman</dc:title>
</cp:coreProperties>
</file>