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BA5E-5326-4E1D-B6B5-C649D3A97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1699-85D8-42D9-A7A2-1D399020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16B7-CAB7-4A32-B4DE-A3D4A7966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0CB6-0E3A-4E57-AE2A-1487E2A49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D978-A2B5-4D15-AF72-9016634A7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E565-C2E6-4A79-8640-9AEB03A38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9935-3EE2-4B08-8ED4-E73B7181E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45FD-328B-4826-948A-F6BB06E3F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1791-EBA6-412C-B450-ACB703552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4E0D-C03B-4ABE-9EEC-58AF45510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26A8-AC46-4E46-9CB6-25F39118B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1A3D-3F80-4D53-B3C6-F6779C513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95DD-882E-47C9-B8EC-57F29E1A8259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bguvenligi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Web Güvenli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k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 Topluluğu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86200" y="297144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OWASP-Turkey Chapter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eb Security Days – Ankara</a:t>
            </a: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 &amp; </a:t>
            </a: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İzmir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webguvenligi.org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553400" y="46483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Nov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 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24</a:t>
            </a:r>
            <a:r>
              <a:rPr b="0" lang="en-US" sz="1600" spc="-1" strike="noStrike" baseline="30000">
                <a:solidFill>
                  <a:srgbClr val="777777"/>
                </a:solidFill>
                <a:latin typeface="Tahoma"/>
                <a:ea typeface="新細明體"/>
              </a:rPr>
              <a:t>th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, 200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Niye Buradayız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macımı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3B13-3B9C-487E-AB24-2C85BCB21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z kimiz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Topluluğ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önet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dirhan Urgun – Web Güvenliği Uzman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erruh Mavituna – Web Güvenliği Uzman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ünyamin Demir – Yazılım Mühendi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ye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jeye katı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onferanslara katı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l listesine üye olan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 konusunda sohbeti seven her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BA1-5EC6-42FD-A114-0140C1B98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Niye Burdayız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önem dönem web güvenliği konulu etkinlikler yapmak iste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üvenlik konulu sohbetleri sev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güvenlik modellerini canlı olarak duymak istediğimiz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9CF9-F541-4C8C-902C-51B5E02180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macımı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güvenliğine ülkemizde gerekli duyarlılığın verilmes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güvenliği konusunda çalışan ve ilgi duyan arkadaşları bir platformda toplamayı iste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 konulu makaleler, haberler, dökümanlar ve projelere yer ve destek sağlam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uygulamalarının ortaya çıkardığı zararları en aza indirme yolunda çalışmalar yap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ünyada yapılan web güvenliği konulu çalışmaların takib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WASP Vakfının Türkiye çalışmalarını sürdü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919D-60FD-4244-8711-52771F7DE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Sözlüğ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wasp-Webek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Saldırıları Olayları Veritaba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eviri Proj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1762-3358-4168-A02E-3D4C058EA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Hedef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projeleri geliştirm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alanında yardımcı dökümanlar temin etm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 ve kamu kuruluşları arası güvenlik konulu çalışmalar yapm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luslararası konferanslar düzenle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E661-BEE1-4186-9B18-984064E42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www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wasp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webguvenlig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Listeye kayıt olmak iç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3300"/>
                </a:solidFill>
                <a:latin typeface="Tahoma"/>
              </a:rPr>
              <a:t>google: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wasp turke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403848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1D15-6A29-4EA4-8233-1AD064DD35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Administrator</cp:lastModifiedBy>
  <dcterms:modified xsi:type="dcterms:W3CDTF">2007-11-29T10:43:40Z</dcterms:modified>
  <cp:revision>21</cp:revision>
  <dc:subject>Application Security</dc:subject>
  <dc:title>OWASP Plan - Strawman</dc:title>
</cp:coreProperties>
</file>