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95D-7334-4618-914D-8A4B579BC02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t is one of the principal precepts all medical students are taught in medical school. It reminds a physician that he or s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must consider the possible harm that any intervention might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l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B664-3E12-4277-ABFE-3110686FD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6461-EAE3-4236-8C61-160A6E10C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D54E-E945-47BB-8683-BBC9C1733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8DA5-A8F5-490E-A486-2763028F3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D806-A2BE-4D44-AFEB-35FEE209D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E7C9-1915-4BC8-8538-E57050110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4F6D-7E69-47BE-A5D3-73A946C51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B3E1-5952-4AB5-B1BF-91C51FA02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A57D-B8ED-4099-84C3-F1FFF776C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A220-6FF4-45A7-BD92-8C84CA901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6FEC-51CE-4DA9-9729-9F2176A3A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402A-2C50-4B5C-AF6E-D919C57F7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F572-C520-4429-9FF3-76884106012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9140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G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üvenliği Günler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nk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24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33560" y="2666520"/>
            <a:ext cx="4647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lişim Teknolojileri Topluluğu</a:t>
            </a:r>
            <a:endParaRPr b="0" lang="en-US" sz="2400" spc="-1" strike="noStrike">
              <a:solidFill>
                <a:srgbClr val="969696"/>
              </a:solidFill>
              <a:latin typeface="Tahoma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Güvenlik Topluluğu</a:t>
            </a:r>
            <a:endParaRPr b="0" lang="en-US" sz="24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38640" y="26658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Primum non noc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9000" y="3580200"/>
            <a:ext cx="48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Önce, zarar ve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600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7:01:24Z</dcterms:created>
  <dc:creator>test</dc:creator>
  <dc:description/>
  <dc:language>en-US</dc:language>
  <cp:lastModifiedBy>Administrator</cp:lastModifiedBy>
  <dcterms:modified xsi:type="dcterms:W3CDTF">2007-11-24T09:53:22Z</dcterms:modified>
  <cp:revision>39</cp:revision>
  <dc:subject/>
  <dc:title>Web Güvenlik Günleri  Ankara</dc:title>
</cp:coreProperties>
</file>