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8E7B-A0F2-49DD-B34B-92728CF3C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4DF4-6907-4302-B512-7A004D766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76B6-24FA-40E2-BCEC-C73CEA4A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1024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8200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03848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61024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8200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9D4A-AB7C-42F7-9904-6E4A0EB75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276720" y="761760"/>
            <a:ext cx="58672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0E01-F277-40CD-B1C3-C2CD82A91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61024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8200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3848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61024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8200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8F79-1C4E-4891-8F69-ED9688C5A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D909-6031-4A13-86AC-E393E3BE2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AFEC-8351-43EB-AA5C-EEA2825F1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76720" y="761760"/>
            <a:ext cx="58672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7BAE-270D-499D-BF78-3A125277C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FD2E-0A98-468F-B2C0-9036B84C1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9B57-5E20-445C-ABC7-FC1DBCA9B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822A-6A0A-4CA5-B921-D420E4014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EDB-558E-4762-94EA-4AF4D1F98A3B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-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5157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-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125000"/>
            <a:ext cx="784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777777"/>
                </a:solidFill>
                <a:latin typeface="Tahoma"/>
              </a:rPr>
              <a:t>Yazılım Geliştirme Sürecinde </a:t>
            </a:r>
            <a:br>
              <a:rPr sz="3600"/>
            </a:br>
            <a:r>
              <a:rPr b="0" lang="tr-TR" sz="3600" spc="-1" strike="noStrike">
                <a:solidFill>
                  <a:srgbClr val="777777"/>
                </a:solidFill>
                <a:latin typeface="Tahoma"/>
              </a:rPr>
              <a:t>Güvenlik Testleri</a:t>
            </a:r>
            <a:endParaRPr b="1" lang="en-US" sz="36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656880" y="3141720"/>
            <a:ext cx="37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777777"/>
                </a:solidFill>
                <a:latin typeface="Tahoma"/>
              </a:rPr>
              <a:t>Burak Dayıoğl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777777"/>
                </a:solidFill>
                <a:latin typeface="Tahoma"/>
              </a:rPr>
              <a:t>burak.dayioglu@pro-g.com.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enel Yaklaşı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ste konu yazılımı iyice an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def için olumsuz neler yapabileceğini kurgula ve plan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rgu ve planlar ışığında testlerini gerçekleşt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evrede ne olup bittiğini izle, gelişmelerden haberdar 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Güvenliğe Özel Test Teknikler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çık kod 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od ve tasarım gözden geçirme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tatik kod analizi araçlarının kullan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palı kod 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Mühendislik ile açık koda dönüştü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ma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st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uzz test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3300"/>
                </a:solidFill>
                <a:latin typeface="Tahoma"/>
              </a:rPr>
              <a:t>Tüm testler </a:t>
            </a:r>
            <a:r>
              <a:rPr b="0" i="1" lang="tr-TR" sz="2800" spc="-1" strike="noStrike">
                <a:solidFill>
                  <a:srgbClr val="ff3300"/>
                </a:solidFill>
                <a:latin typeface="Tahoma"/>
              </a:rPr>
              <a:t>fonksiyonel olmayan</a:t>
            </a:r>
            <a:r>
              <a:rPr b="0" lang="tr-TR" sz="2800" spc="-1" strike="noStrike">
                <a:solidFill>
                  <a:srgbClr val="ff3300"/>
                </a:solidFill>
                <a:latin typeface="Tahoma"/>
              </a:rPr>
              <a:t> testler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Kod/Tasarım Gözden Geçirmes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8160" y="1294920"/>
            <a:ext cx="4778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azılım kaynak kodunun ve tasarım belgelemesinin “okunması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vantajı: Çok etk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zavantajı: Ölçeklenemiy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190200">
            <a:off x="255240" y="1599840"/>
            <a:ext cx="395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tatik Kod Analizi Araçlar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kodu analiz eden araçların kullanımı ile bilindik güvenlik programlama hatalarının tesp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vantajı: Problemlerin çok hızlı tesp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zavantajı: Yazılımın “bağlamından” habersiz ol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ersine Mühendisl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500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etilen platformlar yaygınlaşıy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Java JRE, .Net CLR, Macromedia Fl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nary’lere sahipseniz (genellikle) kaynak koda dönebilirsin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flection yolu 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od karıştırıcılar kullanılmadı 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21337200">
            <a:off x="258840" y="2060280"/>
            <a:ext cx="4103640" cy="298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0480" y="1844640"/>
            <a:ext cx="36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 rot="220200">
            <a:off x="250920" y="2141640"/>
            <a:ext cx="4464000" cy="29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Penetrasyon Testler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421000"/>
            <a:ext cx="2952720" cy="1944720"/>
          </a:xfrm>
          <a:prstGeom prst="ellipse">
            <a:avLst/>
          </a:prstGeom>
          <a:solidFill>
            <a:srgbClr val="a6d6da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6680" y="2879640"/>
            <a:ext cx="3600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Teste Konu</a:t>
            </a:r>
            <a:br>
              <a:rPr sz="1800"/>
            </a:br>
            <a:r>
              <a:rPr b="0" lang="tr-TR" sz="4400" spc="-1" strike="noStrike">
                <a:solidFill>
                  <a:srgbClr val="000000"/>
                </a:solidFill>
                <a:latin typeface="Trebuchet MS"/>
              </a:rPr>
              <a:t>Yazılı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501336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5175360"/>
            <a:ext cx="604836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rebuchet MS"/>
              </a:rPr>
              <a:t>İşletim Sistemi Platformu ve Ağ Altyap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544840"/>
            <a:ext cx="2376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Kullanıcı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112920"/>
            <a:ext cx="2376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Ağ İletişim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645000"/>
            <a:ext cx="2376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Web Servisi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214880"/>
            <a:ext cx="2448000" cy="64260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Dosya Sistemi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2565360"/>
            <a:ext cx="2808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Veritabanı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3133800"/>
            <a:ext cx="2808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Ağ İletişim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710160"/>
            <a:ext cx="2808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Web Servisi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235400"/>
            <a:ext cx="2808360" cy="368280"/>
          </a:xfrm>
          <a:prstGeom prst="rect">
            <a:avLst/>
          </a:prstGeom>
          <a:solidFill>
            <a:srgbClr val="99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rebuchet MS"/>
              </a:rPr>
              <a:t>Dosya Sistemi Arayüz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Fuzz Testler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zılımın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rayüzleri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ümüyle rastge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ısmen rastge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ri girişi yapılır, yazılımın davranışı incelen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farkl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ı tür uygulama ve protokol için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fuzz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ulmak güç ola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ek çok modern web tarayıcısının içerisinde web fuzzer’lar bulunmakta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Özet Olara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zılımları güvenlikleri açısından test etmek zorundayı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ynak kod ve tasarım belgelemesi incele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tatik kod analiz ar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sine mühendisl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enetrasyon test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uzz test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knikler geliştirme sürecinin tamamında kullanıla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aha Fazla Bilgi İçin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500280" cy="46371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041800" y="1628640"/>
            <a:ext cx="3778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0560" y="1413000"/>
            <a:ext cx="6294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777777"/>
                </a:solidFill>
                <a:latin typeface="Tahoma"/>
              </a:rPr>
              <a:t>Güvenliğiniz Geleceğinizdir</a:t>
            </a:r>
            <a:endParaRPr b="1" lang="en-US" sz="2500" spc="-1" strike="noStrike">
              <a:solidFill>
                <a:srgbClr val="777777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Yazılımları Nede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Test Ediyoruz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est Ediyoruz Çünkü 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559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sız yazılım geliştiremiyoru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z hatal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atanın etkisinin az olduğ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zılımları hedefleyebiliyoru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sız geliştirecek teknolojimiz olana değin teste devam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3224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Farklı Test Kategoriler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3240000" cy="2319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19280" y="1557360"/>
            <a:ext cx="55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levsell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erform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rişilebilirlik (accessi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luslararasılaştırma (i18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3300"/>
                </a:solidFill>
                <a:latin typeface="Tahoma"/>
              </a:rPr>
              <a:t>Her test kategorisi hata bulmayı hedeflemez; bazıları beklentileri karşılama düzeyini belirlemek içi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0974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78704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300" spc="-1" strike="noStrike">
                <a:solidFill>
                  <a:srgbClr val="000000"/>
                </a:solidFill>
                <a:latin typeface="Tahoma"/>
              </a:rPr>
              <a:t>%80</a:t>
            </a:r>
            <a:endParaRPr b="0" lang="en-US" sz="1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90440" y="1916280"/>
            <a:ext cx="8686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lişim güvenliği ihlaller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Tahoma"/>
              </a:rPr>
              <a:t>YAZILIM GÜVENLİĞ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blemlerinden kaynaklananlarının oran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(Kaynak: G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417920"/>
            <a:ext cx="2880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48148E-006 L -4.72222E-006 0.27871 E">
                                      <p:cBhvr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08720" y="2168640"/>
            <a:ext cx="3311280" cy="2844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sizliğin Bedel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927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azılımların güvenlik problemlerinin bedelleri çok ağır olabi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üm ve yaralan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lusal güvenlik zafiyet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inansal kayıp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İtibar kayb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ymetli bilgilerin çalın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şimizi Yazılım Taşıy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üm kritik iş süreçleri bilgisayar yazılımları ile destekleniy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azılımların güvenliğinin sağlanması artık çok daha önem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0811000">
            <a:off x="468000" y="1709640"/>
            <a:ext cx="3511440" cy="278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475800">
            <a:off x="394920" y="2204640"/>
            <a:ext cx="4052880" cy="2641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0440" y="2924280"/>
            <a:ext cx="3679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lik Testini Kim Yapa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liştiric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st uzman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eraklı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üvenlik denetim firma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ç işleyecekler / suç örgü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Neyi Test Ediyoruz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20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irdi deneti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ğrulama/yetkilendi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yıt tut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Zaman/durum yöneti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1608120"/>
            <a:ext cx="36720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ffer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nteger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ommand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DAP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ross-site scrip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ormat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TTP response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84880" y="1617840"/>
            <a:ext cx="367164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uthentication by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poo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redent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east privilege vi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sswor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rivacy vi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1612800"/>
            <a:ext cx="36720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og fo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og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ime 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53200" y="1617840"/>
            <a:ext cx="367164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ad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ac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TTP session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mproper thread mg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ouble checked 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4:05:18Z</dcterms:created>
  <dc:creator>Burak DAYIOGLU</dc:creator>
  <dc:description/>
  <dc:language>en-US</dc:language>
  <cp:lastModifiedBy>oktem</cp:lastModifiedBy>
  <dcterms:modified xsi:type="dcterms:W3CDTF">2007-12-05T14:57:10Z</dcterms:modified>
  <cp:revision>146</cp:revision>
  <dc:subject/>
  <dc:title>Ares-DistributedWall</dc:title>
</cp:coreProperties>
</file>