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1471-A396-4B0D-A294-CC8E7D327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5EDB-12A5-48D1-9CE1-3269E8429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0729-04D6-47CA-A8E9-B911DEF25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2174-9FBD-4C83-8527-4EC294586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1647-41B2-4E4B-AFBE-AF3957C33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D2E5-39CC-4D0F-8080-6BC8559E6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DF43-1993-4F44-8980-7B2A5C66D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52BD-5DD6-4ECD-BDFC-0F5E8CE0B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C90B-F207-43E7-89FF-FD0F14E5A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410C-8CD6-47D4-AF25-8A3ACFFE2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9E61-8EF1-4ACA-82AA-A1BA049B4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D84A-D1B7-4022-A83D-E3203B828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DDC2-E93C-470C-A959-D621F9EF73FC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86200" y="627048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r>
              <a:rPr b="1" lang="tr-TR" sz="1400" spc="-1" strike="noStrike">
                <a:solidFill>
                  <a:srgbClr val="969696"/>
                </a:solidFill>
                <a:latin typeface="Tahoma"/>
              </a:rPr>
              <a:t> Türki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bunyamin@webguvenligi.org" TargetMode="External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Perl de Güvenlik Modülü: Security.pm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343400" y="3260520"/>
            <a:ext cx="373392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969696"/>
                </a:solidFill>
                <a:latin typeface="Tahoma"/>
              </a:rPr>
              <a:t>Bunyamin Demir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OWASP-Turkey Chapter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Web Security Day - Ankara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bunyamin@webguvenligi.org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553400" y="464832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777777"/>
                </a:solidFill>
                <a:latin typeface="Tahoma"/>
              </a:rPr>
              <a:t>Nov</a:t>
            </a:r>
            <a:r>
              <a:rPr b="0" lang="en-US" sz="1600" spc="-1" strike="noStrike">
                <a:solidFill>
                  <a:srgbClr val="777777"/>
                </a:solidFill>
                <a:latin typeface="Tahoma"/>
                <a:ea typeface="新細明體"/>
              </a:rPr>
              <a:t> </a:t>
            </a:r>
            <a:r>
              <a:rPr b="0" lang="tr-TR" sz="1600" spc="-1" strike="noStrike">
                <a:solidFill>
                  <a:srgbClr val="777777"/>
                </a:solidFill>
                <a:latin typeface="Tahoma"/>
              </a:rPr>
              <a:t>24</a:t>
            </a:r>
            <a:r>
              <a:rPr b="0" lang="en-US" sz="1600" spc="-1" strike="noStrike" baseline="30000">
                <a:solidFill>
                  <a:srgbClr val="777777"/>
                </a:solidFill>
                <a:latin typeface="Tahoma"/>
                <a:ea typeface="新細明體"/>
              </a:rPr>
              <a:t>th</a:t>
            </a:r>
            <a:r>
              <a:rPr b="0" lang="en-US" sz="1600" spc="-1" strike="noStrike">
                <a:solidFill>
                  <a:srgbClr val="777777"/>
                </a:solidFill>
                <a:latin typeface="Tahoma"/>
                <a:ea typeface="新細明體"/>
              </a:rPr>
              <a:t>, 200</a:t>
            </a:r>
            <a:r>
              <a:rPr b="0" lang="tr-TR" sz="1600" spc="-1" strike="noStrike">
                <a:solidFill>
                  <a:srgbClr val="777777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9880" y="2666880"/>
            <a:ext cx="331488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77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C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49160" y="533520"/>
            <a:ext cx="7670880" cy="4764600"/>
            <a:chOff x="749160" y="533520"/>
            <a:chExt cx="7670880" cy="4764600"/>
          </a:xfrm>
        </p:grpSpPr>
        <p:sp>
          <p:nvSpPr>
            <p:cNvPr id="121" name=""/>
            <p:cNvSpPr/>
            <p:nvPr/>
          </p:nvSpPr>
          <p:spPr>
            <a:xfrm>
              <a:off x="1600200" y="533520"/>
              <a:ext cx="3314880" cy="34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73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r-TR" sz="27700" spc="-1" strike="noStrike">
                  <a:solidFill>
                    <a:srgbClr val="b2b2b2"/>
                  </a:solidFill>
                  <a:latin typeface="Times New Roman"/>
                  <a:ea typeface="Times New Roman"/>
                </a:rPr>
                <a:t>S</a:t>
              </a:r>
              <a:endParaRPr b="0" lang="en-US" sz="27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14560" y="1828800"/>
              <a:ext cx="3314880" cy="34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73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7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&amp;</a:t>
              </a:r>
              <a:endParaRPr b="0" lang="en-US" sz="27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4720" y="2803680"/>
              <a:ext cx="76453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0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S O R U L A 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9160" y="3429000"/>
              <a:ext cx="76456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0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C E V A P L A 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Tahoma"/>
              </a:rPr>
              <a:t>S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&amp;</a:t>
            </a:r>
            <a:r>
              <a:rPr b="1" lang="tr-TR" sz="2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9E07-BDA4-492B-90EF-4A71BCD3D3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şekkürler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ünyamin Dem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bunyamin@webguvenligi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1148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3300"/>
                </a:solidFill>
                <a:latin typeface="Tahoma"/>
              </a:rPr>
              <a:t>www.webguvenlig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746B-75A4-4AE6-A35F-42F1E34679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İçer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Güvenlik Modülü Tasarım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Neler Eklenebil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C149-4E1D-4523-B8A8-255D2D6D94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Güvenlik Modülü Tasarımı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angi konularda tedbir almalıyı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irdi denetimi ve doğrulan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ql Inj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X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ession 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ata Deneti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14D1-0B25-4DEE-BC85-13D17FF257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Güvenlik Modülü Tasarımı – Girdi Denetimi ve Doğrulanması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irdilere modülü kullanmadan erişimin engellenmes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irdilerin tipine karar verilmesi (email,ip,string v.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iplerin alt ve üst sınır uzunluklarının belirlenmesi (lengh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zel girdi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ser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.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05DB-A392-4F09-842F-93B938A360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Güvelik Modülü Tasarımı – Sql Inje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lacehol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laceholder kullanılmamış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my $sth_user = $dbh-&gt;prep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(qq(SELECT * FROM 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WHERE Userid=</a:t>
            </a:r>
            <a:r>
              <a:rPr b="0" lang="tr-TR" sz="1800" spc="-1" strike="noStrike">
                <a:solidFill>
                  <a:srgbClr val="ff3300"/>
                </a:solidFill>
                <a:latin typeface="Tahoma"/>
              </a:rPr>
              <a:t>$u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$sth_user-&gt;execute || die 'SQL_ERROR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99cc00"/>
                </a:solidFill>
                <a:latin typeface="Tahoma"/>
              </a:rPr>
              <a:t># $uid or 1=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laceholder kullanılmış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my $sth_user = $dbh-&gt;prep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(qq(SELECT * FROM 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WHERE Userid=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$sth_user-&gt;execute(</a:t>
            </a: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$uid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) || die 'SQL_ERROR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CCA6-025D-42A1-A557-F31E651FCB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Güvenlik Modülü Tasarımı - XS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irdi ve çıktı deneti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ir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/home?cmd=&lt;script&gt;alert('deneme')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-Birlikte tamamlayacağız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kkat edilmesi gereken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hitelist; a-z,A-Z,0-9 kabul 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lacklist; &lt;, &gt;, &amp;, =, %, :, “, ‘  redd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TML Encode; “&lt;”  &amp;lt; “&gt;”  &amp;gt; “&amp;”  &amp;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RL Encode; “&lt;”  %3c    “&gt;”  %3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4151-15C7-451F-8B33-2CE21BC0F9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Güvenlik Modülü Tasarımı – Session ID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Oturum id si URL den değil Cookie`den gönderilmeli ve alınmal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astgele  ve aynı anda biriyle çakışmayacak id ler üretilmel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ata set &gt;= 128 bits den fazla olmalı (tavsiy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İlave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eritabanında tutulabil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P kontrolü yapılabil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.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DBA0-DA95-4648-AB8E-8358F709DC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Güvenlik Modülü Tasarımı – Hata Denetim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ullanıcı adı hatalı, kullanıcı adı en az 5 karakter olmalı, şifre hatalı v.s gibi saldırgana bilgiler verilmemel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d tarafında oluşan hatalar direk hatanın kaynağı değilde kodu yazan kişiye yardımcı olacak şekilde düzenlenmeli (sadece satır numarası gösterilebili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k olar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eritbanına yazdırı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atalar özel bir dosyaya yazdırı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C1D9-4C9D-4089-8C1E-089FAAAD4D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Neler Eklenebili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3671-F641-42D8-A4A5-845363D602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51:41Z</dcterms:created>
  <dc:creator>Jeff Williams</dc:creator>
  <dc:description>http://www.owasp.org</dc:description>
  <cp:keywords>Application Security</cp:keywords>
  <dc:language>en-US</dc:language>
  <cp:lastModifiedBy>bd</cp:lastModifiedBy>
  <dcterms:modified xsi:type="dcterms:W3CDTF">2007-12-05T08:33:23Z</dcterms:modified>
  <cp:revision>36</cp:revision>
  <dc:subject>Application Security</dc:subject>
  <dc:title>OWASP Plan - Strawman</dc:title>
</cp:coreProperties>
</file>