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4BB2-E95F-4DE1-B8CC-9CB42388522B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8B55-CF91-490A-A833-EEE159B57C0C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303-A80D-447D-9BBC-38793962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448-1D38-446B-84B3-0B38B798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C67-1BA8-4D69-9A81-0AAA22F9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440-242B-47BA-B4A7-DFE8B30A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604B-4F2A-46EC-96A9-835F03B8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9EC9-0717-4846-B05A-94A5851D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1825-F8AC-4055-BB48-D09D1BC9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4D30-5B7D-4C31-A933-FD3E3037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E4DF-73E5-4864-B6DD-4FC0F63D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8998-EFA1-4CEF-BBA3-4288AD70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A688-90AF-438E-8B26-02B58AF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FFF-3DC4-4C10-8D32-9384AD02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9E57-79F2-479E-A2E6-2BE96170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57A3-FC44-458D-8F07-1F2C2F82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C711-EC6A-4195-84AB-86B979E7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4B90-BF49-4CAB-9BB7-45628B09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8A8C-D96D-462A-BD94-B52B6DC7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BD3E-0D25-481A-BCA5-33D1AA3D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196B0-0A6C-45BF-8C3D-A23A1538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161D-A423-4CF3-BB45-BA2E76FE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12AE7-79E4-4CB2-9914-912758C1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05F42-1A9E-4807-ACBE-93F5D755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A20-E2CF-46C8-86C3-476DC676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358EE-F824-4767-846A-FA2DB450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38A77-4520-4D29-9C58-3E3C4992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97F8-E5B8-4086-B350-67925570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F16AB-D581-4BCC-99CD-68405AAA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21D5-4C25-46F9-847A-5FDE9716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386F-495F-4513-B694-16F2E3C8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FD2C-1F56-4D69-BB95-99558A3E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D8BE0-CAC8-476E-A838-1BFE9DF5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84E71-3938-4692-A644-DF587B1E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615D6-0C8A-4CE8-A772-79E69CA2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4B8-5BDA-43AD-AC57-2D00D6AB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66F51-8888-43E8-92EB-58F83CF8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406A5-03B9-4EFF-BE4E-B39BDEEF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31E2-514E-4718-8640-C77FAB53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BE727-C687-4D7B-89DB-4512993C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CFE0-6210-4259-B23D-2A0235EB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6A1DF-146D-41BE-94A1-B4798C72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B8B13-DE41-4098-912B-0B634421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79F2-DCC9-4A35-9028-AD3E40D4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C2C3-C446-41DB-BFC6-2C6BF352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F239C-EAB8-4A26-B18E-74155A2A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361-7B04-4B27-A8AC-05C4F367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9814-C0DA-408B-9344-8BE1F66B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CD58D-48FE-416B-B15D-610B7EAE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5AFFB-5300-437F-BC1C-519F41FA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06F84-1023-40FF-9EEF-2CC3968E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3A5FC-061A-4A94-8D3C-32556AD8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E9237-E7BE-4404-AD83-2FEDDC89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D36BC-2C31-450F-AAA1-A4FD066F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855CC-F395-4F35-AFC3-8F93810C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087D5-5AB3-446A-BE26-B6F30ED7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55D5F-8A64-44C5-9209-6806B871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F2B-7E61-4B31-9CE1-C0DE20DB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247D5-B71D-4E88-B9E7-FAB38742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EC194-2D1F-4926-B175-0CB2DC58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AF38-4D33-4770-BEE1-DA7CD085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83CB6-522A-4ABD-9290-94C9A01E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B176C-90D8-4877-89F9-E0CF401B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2EE82-5AB3-4D7D-A60C-D668563E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39346-920D-4082-90AE-FCC83AAC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E618F-5491-4E47-BFA9-DBA7DB5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1021A-4402-4271-A3B9-A36998AF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ED8F7-F1D0-4D64-8124-D7C662FD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DE9-D15D-43B6-BE7F-A3795D69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2D7B7-14D8-4A62-B220-30796BE7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5BE4-B796-4B3E-8715-371F5063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16D0C-F066-4E32-B93D-E6C69B5B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313DA-A727-4245-84BD-6777BC6B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5DDA1-B299-4443-AF31-E018B465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B79FC-D5AC-4657-9F8A-61E2B052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D3283-5314-4E1E-BC76-CD51063C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6CD05-F994-409F-A49D-DA80B272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C0544-8117-4DD0-B22D-017ECCD6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C80F6-73EE-4246-B2FB-A82B4B6A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5B3-FC33-49D2-AAF2-AF3EB81D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85CFA-F799-492F-BCAB-7F587643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1CDAC-BA29-4281-ABEC-3166DCC6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D8764-3BCF-4F8A-ACE3-A5E88057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B22F0-2438-4131-8D67-3E9D1944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DF3F1-5701-403C-A826-2D119222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87CA8-E4E1-41FD-99A8-C3E41150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6C8DB-69B8-4CCF-8A69-80108C73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D6A8F-84A2-411C-89DA-86B16AD1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8256F-F4A8-4703-BC0F-4977A091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0C33E-2144-41AF-97E4-4600F787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24A-66F8-4F15-9520-7743A22D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35D4C-13AE-434C-8D0D-EA240D27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13266-F2A2-45BE-A080-53B97E4B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3F3CC-C7DC-472D-A248-6040CB04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B6E49-3055-41CA-B3EA-26A770EA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99B63-1392-405B-B81F-BC1A7674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4299E-4988-42F6-B718-009BF4E0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1C731-7448-4E4E-9692-6183A055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A1BD-F79D-45F9-9AFD-245D31295DE8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F90D-EE31-437B-B704-2B5A6474D00D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5F63-8170-4CC9-A8CA-20D10F708A1E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3E4F-2CA4-47FC-9D13-2A02262CA94F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E7F2-F39D-4013-94D6-CFF62C2556CC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B34E-DBA8-4F69-A745-D0EF15305F28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0471-18E9-4511-88F8-29DDE396EF14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5623-E83C-4B47-AF6D-6B906060D675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33240" y="3743280"/>
            <a:ext cx="8261640" cy="12556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26 Ey</a:t>
            </a:r>
            <a:r>
              <a:rPr b="0" lang="tr-TR" sz="2700" spc="-1" strike="noStrike">
                <a:solidFill>
                  <a:srgbClr val="464646"/>
                </a:solidFill>
                <a:latin typeface="Lucida Sans Unicode"/>
              </a:rPr>
              <a:t>lül 200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9</a:t>
            </a:r>
            <a:r>
              <a:rPr b="0" lang="tr-TR" sz="2700" spc="-1" strike="noStrike">
                <a:solidFill>
                  <a:srgbClr val="464646"/>
                </a:solidFill>
                <a:latin typeface="Lucida Sans Unicode"/>
              </a:rPr>
              <a:t> Buluşması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3" descr="owasptr.gif"/>
          <p:cNvPicPr/>
          <p:nvPr/>
        </p:nvPicPr>
        <p:blipFill>
          <a:blip r:embed="rId2"/>
          <a:stretch/>
        </p:blipFill>
        <p:spPr>
          <a:xfrm>
            <a:off x="214200" y="285840"/>
            <a:ext cx="20005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ffffff"/>
                </a:solidFill>
                <a:latin typeface="Lucida Sans Unicode"/>
              </a:rPr>
              <a:t>Dünya’da OWASP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OWASP Appsec Brasil 2009 (Ekim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Lucida Sans Unicode"/>
              </a:rPr>
              <a:t>/index.php/AppSec_CPLP_2009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OWASP Appsec US 2009 (Kasım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Lucida Sans Unicode"/>
              </a:rPr>
              <a:t>/index.php/OWASP_AppSec_US_2009_-_Washington_D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85840" y="1599840"/>
            <a:ext cx="88581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OpenSAM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Lucida Sans Unicode"/>
              </a:rPr>
              <a:t>/index.php/Category:Software_Assurance_Maturity_Mod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Code Review Gui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Lucida Sans Unicode"/>
              </a:rPr>
              <a:t>/index.php/Category:OWASP_Code_Review_Projec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ModSecurity Core RuleSet v2.0.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Lucida Sans Unicode"/>
              </a:rPr>
              <a:t>/index.php/Category:OWASP_ModSecurity_Core_Rule_Set_Projec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5221440" cy="14540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ffffff"/>
                </a:solidFill>
                <a:latin typeface="Lucida Sans Unicode"/>
              </a:rPr>
              <a:t>İbrahim Saruha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ffffff"/>
                </a:solidFill>
                <a:latin typeface="Lucida Sans Unicode"/>
              </a:rPr>
              <a:t>Facebook/Twitter Güvenliği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464646"/>
                </a:solidFill>
                <a:latin typeface="Lucida Sans Unicode"/>
              </a:rPr>
              <a:t>26 Eylül 2009 Buluşması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Durum Analiz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Lucida Sans Unicode"/>
              </a:rPr>
              <a:t>Projeler, Belgel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Lucida Sans Unicode"/>
              </a:rPr>
              <a:t>Katılım, E-posta Listesi, Web Sitesi, E-Derg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Lucida Sans Unicode"/>
              </a:rPr>
              <a:t>Buluşmal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Genel OWASP ajandası ve durum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Teknik Bölü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Genel Soru/Cevap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ffffff"/>
                </a:solidFill>
                <a:latin typeface="Lucida Sans Unicode"/>
              </a:rPr>
              <a:t>OWAS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/</a:t>
            </a:r>
            <a:r>
              <a:rPr b="0" lang="tr-TR" sz="2300" spc="-1" strike="noStrike">
                <a:solidFill>
                  <a:srgbClr val="ffffff"/>
                </a:solidFill>
                <a:latin typeface="Lucida Sans Unicode"/>
              </a:rPr>
              <a:t>Türkiy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ffffff"/>
                </a:solidFill>
                <a:latin typeface="Lucida Sans Unicode"/>
              </a:rPr>
              <a:t>Web Güvenlik Toplulu</a:t>
            </a:r>
            <a:r>
              <a:rPr b="0" lang="tr-TR" sz="2400" spc="-1" strike="noStrike">
                <a:solidFill>
                  <a:srgbClr val="ffffff"/>
                </a:solidFill>
                <a:latin typeface="Lucida Sans Unicode"/>
              </a:rPr>
              <a:t>ğ</a:t>
            </a:r>
            <a:r>
              <a:rPr b="0" lang="tr-TR" sz="2300" spc="-1" strike="noStrike">
                <a:solidFill>
                  <a:srgbClr val="ffffff"/>
                </a:solidFill>
                <a:latin typeface="Lucida Sans Unicode"/>
              </a:rPr>
              <a:t>u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 (WGT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12720" y="1643040"/>
            <a:ext cx="3673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Lucida Sans Unicode"/>
              </a:rPr>
              <a:t>E-Derg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Lucida Sans Unicode"/>
              </a:rPr>
              <a:t>WeBekci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Lucida Sans Unicode"/>
              </a:rPr>
              <a:t>WCS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Lucida Sans Unicode"/>
              </a:rPr>
              <a:t>XSS TestB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Lucida Sans Unicode"/>
              </a:rPr>
              <a:t>FM-FS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Lucida Sans Unicode"/>
              </a:rPr>
              <a:t>MSALServ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Lucida Sans Unicode"/>
              </a:rPr>
              <a:t>MSALMobi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Lucida Sans Unicode"/>
              </a:rPr>
              <a:t>MSALPars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Lucida Sans Unicode"/>
              </a:rPr>
              <a:t>WIVE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Content Placeholder 2"/>
          <p:cNvSpPr/>
          <p:nvPr/>
        </p:nvSpPr>
        <p:spPr>
          <a:xfrm>
            <a:off x="4500720" y="1643040"/>
            <a:ext cx="367344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tiCSur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ureTomc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Lucida Sans Unicode"/>
              </a:rPr>
              <a:t>CAMM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Lucida Sans Unicode"/>
              </a:rPr>
              <a:t>SecureIma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Lucida Sans Unicode"/>
              </a:rPr>
              <a:t>Jarvin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pacheLiv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Lucida Sans Unicode"/>
              </a:rPr>
              <a:t>Çeviri Projes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Lucida Sans Unicode"/>
              </a:rPr>
              <a:t>Sözlü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Lucida Sans Unicode"/>
              </a:rPr>
              <a:t>SqliBen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pture The Fla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x The Sour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Güvenli Web Geliştirme Yazı Dizisi (6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Neden AntiX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Active-X Güvenliğ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Cookie Tabanlı X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ESAPI-Java Araştır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CAPTCHA Araştır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Açık </a:t>
            </a:r>
            <a:r>
              <a:rPr b="0" lang="tr-TR" sz="2700" spc="-1" strike="noStrike">
                <a:solidFill>
                  <a:srgbClr val="39639d"/>
                </a:solidFill>
                <a:latin typeface="Lucida Sans Unicode"/>
              </a:rPr>
              <a:t>Kaynak Kod Analizi Araçları</a:t>
            </a: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 Araştırması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Lucida Sans Unicode"/>
              </a:rPr>
              <a:t>Çevi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p 25 Most Dangerous Programming Error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Lucida Sans Unicode"/>
              </a:rPr>
              <a:t>WASC Threat Classification v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Lucida Sans Unicode"/>
              </a:rPr>
              <a:t>OpenSAM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7"/>
          <p:cNvSpPr/>
          <p:nvPr/>
        </p:nvSpPr>
        <p:spPr>
          <a:xfrm>
            <a:off x="4357800" y="651996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600" spc="-1" strike="noStrike">
                <a:solidFill>
                  <a:srgbClr val="000000"/>
                </a:solidFill>
                <a:latin typeface="Lucida Sans Unicode"/>
              </a:rPr>
              <a:t>http://www.owasp.org/apps/maps/index.jsp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8" descr="maillisteleri.gif"/>
          <p:cNvPicPr/>
          <p:nvPr/>
        </p:nvPicPr>
        <p:blipFill>
          <a:blip r:embed="rId2"/>
          <a:stretch/>
        </p:blipFill>
        <p:spPr>
          <a:xfrm>
            <a:off x="2571840" y="1285920"/>
            <a:ext cx="3467160" cy="4916520"/>
          </a:xfrm>
          <a:prstGeom prst="rect">
            <a:avLst/>
          </a:prstGeom>
          <a:ln w="0">
            <a:noFill/>
          </a:ln>
        </p:spPr>
      </p:pic>
      <p:sp>
        <p:nvSpPr>
          <p:cNvPr id="396" name="5-Point Star 9"/>
          <p:cNvSpPr/>
          <p:nvPr/>
        </p:nvSpPr>
        <p:spPr>
          <a:xfrm>
            <a:off x="3714840" y="3929040"/>
            <a:ext cx="214200" cy="214200"/>
          </a:xfrm>
          <a:prstGeom prst="pie">
            <a:avLst/>
          </a:prstGeom>
          <a:solidFill>
            <a:srgbClr val="ff0000"/>
          </a:solidFill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6450840" y="250020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Lucida Sans Unicode"/>
              </a:rPr>
              <a:t>106 Chap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6153480" y="39434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55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ontent Placeholder 3" descr="edergi_istatistik.gif"/>
          <p:cNvPicPr/>
          <p:nvPr/>
        </p:nvPicPr>
        <p:blipFill>
          <a:blip r:embed="rId1"/>
          <a:stretch/>
        </p:blipFill>
        <p:spPr>
          <a:xfrm>
            <a:off x="2714760" y="1357200"/>
            <a:ext cx="3700440" cy="5140440"/>
          </a:xfrm>
          <a:prstGeom prst="rect">
            <a:avLst/>
          </a:prstGeom>
          <a:ln w="0">
            <a:noFill/>
          </a:ln>
        </p:spPr>
      </p:pic>
      <p:pic>
        <p:nvPicPr>
          <p:cNvPr id="400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dirhan Urgun</cp:lastModifiedBy>
  <dcterms:modified xsi:type="dcterms:W3CDTF">2009-09-26T18:48:18Z</dcterms:modified>
  <cp:revision>243</cp:revision>
  <dc:subject/>
  <dc:title>OWASP-TR &amp; wgt AJANDA</dc:title>
</cp:coreProperties>
</file>